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3.xml.rels" ContentType="application/vnd.openxmlformats-package.relationships+xml"/>
  <Override PartName="/ppt/slideMasters/slideMaster123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88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103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124.xml" ContentType="application/vnd.openxmlformats-officedocument.theme+xml"/>
  <Override PartName="/ppt/theme/theme79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123.xml" ContentType="application/vnd.openxmlformats-officedocument.theme+xml"/>
  <Override PartName="/ppt/theme/theme78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122.xml" ContentType="application/vnd.openxmlformats-officedocument.theme+xml"/>
  <Override PartName="/ppt/theme/theme77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</p:sldMasterIdLst>
  <p:notesMasterIdLst>
    <p:notesMasterId r:id="rId125"/>
  </p:notesMasterIdLst>
  <p:sldIdLst>
    <p:sldId id="256" r:id="rId126"/>
    <p:sldId id="257" r:id="rId127"/>
    <p:sldId id="258" r:id="rId128"/>
    <p:sldId id="259" r:id="rId129"/>
    <p:sldId id="260" r:id="rId130"/>
    <p:sldId id="261" r:id="rId131"/>
    <p:sldId id="262" r:id="rId132"/>
    <p:sldId id="263" r:id="rId133"/>
    <p:sldId id="264" r:id="rId134"/>
    <p:sldId id="265" r:id="rId135"/>
    <p:sldId id="266" r:id="rId136"/>
    <p:sldId id="267" r:id="rId137"/>
    <p:sldId id="268" r:id="rId138"/>
    <p:sldId id="269" r:id="rId139"/>
    <p:sldId id="270" r:id="rId140"/>
    <p:sldId id="271" r:id="rId141"/>
    <p:sldId id="272" r:id="rId142"/>
    <p:sldId id="273" r:id="rId143"/>
    <p:sldId id="274" r:id="rId144"/>
    <p:sldId id="275" r:id="rId145"/>
    <p:sldId id="276" r:id="rId146"/>
    <p:sldId id="277" r:id="rId147"/>
    <p:sldId id="278" r:id="rId148"/>
    <p:sldId id="279" r:id="rId149"/>
    <p:sldId id="280" r:id="rId150"/>
    <p:sldId id="281" r:id="rId151"/>
    <p:sldId id="282" r:id="rId152"/>
    <p:sldId id="283" r:id="rId153"/>
    <p:sldId id="284" r:id="rId1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notesMaster" Target="notesMasters/notesMaster1.xml"/><Relationship Id="rId126" Type="http://schemas.openxmlformats.org/officeDocument/2006/relationships/slide" Target="slides/slide1.xml"/><Relationship Id="rId127" Type="http://schemas.openxmlformats.org/officeDocument/2006/relationships/slide" Target="slides/slide2.xml"/><Relationship Id="rId128" Type="http://schemas.openxmlformats.org/officeDocument/2006/relationships/slide" Target="slides/slide3.xml"/><Relationship Id="rId129" Type="http://schemas.openxmlformats.org/officeDocument/2006/relationships/slide" Target="slides/slide4.xml"/><Relationship Id="rId130" Type="http://schemas.openxmlformats.org/officeDocument/2006/relationships/slide" Target="slides/slide5.xml"/><Relationship Id="rId131" Type="http://schemas.openxmlformats.org/officeDocument/2006/relationships/slide" Target="slides/slide6.xml"/><Relationship Id="rId132" Type="http://schemas.openxmlformats.org/officeDocument/2006/relationships/slide" Target="slides/slide7.xml"/><Relationship Id="rId133" Type="http://schemas.openxmlformats.org/officeDocument/2006/relationships/slide" Target="slides/slide8.xml"/><Relationship Id="rId134" Type="http://schemas.openxmlformats.org/officeDocument/2006/relationships/slide" Target="slides/slide9.xml"/><Relationship Id="rId135" Type="http://schemas.openxmlformats.org/officeDocument/2006/relationships/slide" Target="slides/slide10.xml"/><Relationship Id="rId136" Type="http://schemas.openxmlformats.org/officeDocument/2006/relationships/slide" Target="slides/slide11.xml"/><Relationship Id="rId137" Type="http://schemas.openxmlformats.org/officeDocument/2006/relationships/slide" Target="slides/slide12.xml"/><Relationship Id="rId138" Type="http://schemas.openxmlformats.org/officeDocument/2006/relationships/slide" Target="slides/slide13.xml"/><Relationship Id="rId139" Type="http://schemas.openxmlformats.org/officeDocument/2006/relationships/slide" Target="slides/slide14.xml"/><Relationship Id="rId140" Type="http://schemas.openxmlformats.org/officeDocument/2006/relationships/slide" Target="slides/slide15.xml"/><Relationship Id="rId141" Type="http://schemas.openxmlformats.org/officeDocument/2006/relationships/slide" Target="slides/slide16.xml"/><Relationship Id="rId142" Type="http://schemas.openxmlformats.org/officeDocument/2006/relationships/slide" Target="slides/slide17.xml"/><Relationship Id="rId143" Type="http://schemas.openxmlformats.org/officeDocument/2006/relationships/slide" Target="slides/slide18.xml"/><Relationship Id="rId144" Type="http://schemas.openxmlformats.org/officeDocument/2006/relationships/slide" Target="slides/slide19.xml"/><Relationship Id="rId145" Type="http://schemas.openxmlformats.org/officeDocument/2006/relationships/slide" Target="slides/slide20.xml"/><Relationship Id="rId146" Type="http://schemas.openxmlformats.org/officeDocument/2006/relationships/slide" Target="slides/slide21.xml"/><Relationship Id="rId147" Type="http://schemas.openxmlformats.org/officeDocument/2006/relationships/slide" Target="slides/slide22.xml"/><Relationship Id="rId148" Type="http://schemas.openxmlformats.org/officeDocument/2006/relationships/slide" Target="slides/slide23.xml"/><Relationship Id="rId149" Type="http://schemas.openxmlformats.org/officeDocument/2006/relationships/slide" Target="slides/slide24.xml"/><Relationship Id="rId150" Type="http://schemas.openxmlformats.org/officeDocument/2006/relationships/slide" Target="slides/slide25.xml"/><Relationship Id="rId151" Type="http://schemas.openxmlformats.org/officeDocument/2006/relationships/slide" Target="slides/slide26.xml"/><Relationship Id="rId152" Type="http://schemas.openxmlformats.org/officeDocument/2006/relationships/slide" Target="slides/slide27.xml"/><Relationship Id="rId153" Type="http://schemas.openxmlformats.org/officeDocument/2006/relationships/slide" Target="slides/slide28.xml"/><Relationship Id="rId154" Type="http://schemas.openxmlformats.org/officeDocument/2006/relationships/slide" Target="slides/slide29.xml"/><Relationship Id="rId1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 type="dt" idx="37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5"/>
          <p:cNvSpPr>
            <a:spLocks noGrp="1"/>
          </p:cNvSpPr>
          <p:nvPr>
            <p:ph type="ftr" idx="37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PlaceHolder 6"/>
          <p:cNvSpPr>
            <a:spLocks noGrp="1"/>
          </p:cNvSpPr>
          <p:nvPr>
            <p:ph type="sldNum" idx="37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0C5-2C69-42DA-A9AC-8003F802E0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2DD-AA43-421E-9822-D481C6F5E08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3302-E584-46DC-B312-004C0CD074B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8FB-774E-49EC-A68B-625CC010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FC8-13EC-494B-A38F-C0AFDC9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625AD-3DA4-4C4A-8B81-5873400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25E2503-94AF-4CBF-8825-D9F4EDD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20027E5-B7F2-4F05-951D-5439CF2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4AB57B9-7317-455B-B62C-4E4F9BC0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CA257AF-170E-4F23-A1FC-D80C5E0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613D7E2-38E8-4736-B6BD-AE40829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85E5B06-3732-4E18-8181-9FAAEF5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BA61140-46CC-416A-8FD9-8611F4D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FAB944D-0085-4297-A062-E760E2ED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9FF0C92-2BFE-44A4-A389-D4798125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1CB641E-1315-4BB0-9EC1-FF823DF6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C5852-2008-471A-9BB3-60AEC943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7910725-530C-446C-B330-15020D70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A1B8064-840C-4B0B-B652-123D21B6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58F60DD-C62D-41DA-91C7-036826E7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2059560-81D8-4425-B853-B5CD582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1844A5B-E893-4105-9F4B-DCC53543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DB132A5-2743-49E8-A94D-CF2896E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8A10928-2A4F-4B22-82ED-FAF8023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DEA72F7-DB34-4E54-B50C-14BD5718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B8682B2-2050-4207-A3AF-4465D28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279774E-958E-4B6B-8E4C-B6E217A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065FD-05FC-4CFB-9BD6-2D8C5063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A22D547-B585-48D6-92C0-74F8D1A8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C13696E-781D-4739-B989-81E42756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2ACDFD4-0900-4F51-8166-841AECB7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C908676-3CF0-4B98-BBF0-98259AA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C951CF2-807C-4618-97EC-E8176019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2A5422E-B5EF-4CD6-BB44-52081623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B1043D2-DF9E-4951-8439-7E6E9847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DAB1B6C-7D2D-49F0-86E4-B844501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C7423E4-561B-45DE-B70B-21BE2E8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3D486F5-0019-418A-B77C-2F2AFF8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1F8F-9FE3-4629-BE06-F775B01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AC6BC40-1DD3-4BAA-97FA-3B8E3298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3C188CD-8AD1-426C-9823-00A1CAC6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00E6B09-C71D-4398-B404-CA5529BC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91A0C41-9F08-44DA-B906-C254D9D9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76047CF-3847-4812-BCB6-71461063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5CB0611-062D-41DF-8C59-B4EC8163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2C8CDF7-937E-45A6-A0A2-B07B35F4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007278A-96ED-4F92-BFA5-BF7CF365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5AE22C0-40A2-45E9-8A4E-46296AA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43DEB5D-967A-4137-9567-4F363362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294FA-2238-49E6-9145-ACBAC3C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55A9097-7ED3-48B1-9922-8C79752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4EEFAD6-90CC-4546-AD24-72F26FD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30E8D87-9B67-466B-B2BB-2818C7F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6845F8D-C03F-4BA0-A459-63D63C30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8D86EC2-CB5C-4CAA-A76A-C8AA1337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4272471-E1B9-4B2E-A333-F23C35F8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2C57BD2-D70D-45D6-9070-DE0D0EA9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BC2C25C-0F8F-4CDC-8C7B-DBAAFA68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64E7675-88B2-4B75-BC66-6F43C7C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F860AE7-984E-43DF-A660-F6C0E44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FB2B7-CA8F-4C2D-8608-F08966D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113E29C-49B4-40EB-922B-7CB3E347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EC1F5D5-591A-4AF1-9F51-C758F65F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74E76C5-E0DE-47F9-B6FF-E2FDFA2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BBD4393-2861-42FB-A761-B214D67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3532F81-7C2B-4FD6-8409-9760B1F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B753AF2-3A0D-4838-8892-1B03A6A0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00B663E-9AD0-4CEE-8AE8-0D18AF16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4912489-39EF-4435-8C20-C352290B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8FD39FC-CE11-4158-86CB-E7AC9CA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D3E0EDA-5DD1-42C6-908B-86E5A75B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1F70B-3937-407E-BD0B-9B7322A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FA0FE4C-CB01-4AEC-9513-4484AA57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E832127-9E04-4AEE-964B-1D9F857B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5993F30-6A04-4822-A7E7-BD9FB3A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D300D5D-0938-406A-BBB5-A1D584D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8A0C15E-0D21-4843-B189-5C8EA069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188A2AB-ACA8-4C7A-AEF4-4B13766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B3BF60F-F6D8-4F28-AC7D-9EF15952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BA2F257-02CA-4430-B278-E9174F3C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E9DB016-EA1F-4E16-9485-C5C18E62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373C1DA-899D-4A3C-9D87-742F3B2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71435-893C-40CB-996F-01A70C79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8DA3900-B739-4BAE-846A-6CCE801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1A8E43F-3AAF-41A9-BA85-08F27C54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FE88241-BA16-4E03-BC26-86FEA00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9AB31FA-260E-40C7-88AF-EEAE4D3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9D633ED-7392-4771-8881-89534694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6A6527A-6A4E-44EA-8678-C558FED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141C413-0AA7-467F-99F7-D75BF18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8E3CA2C-A006-4830-B12A-BC38FB8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DDDDC1E-7AB9-450E-B6B7-C853AE3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8838A6C-2601-4C18-8900-88A42E2A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C37B3-C6E6-4DF8-A596-1996AA85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2D7CD60-8E66-4833-AEDA-E43AFBD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7173F06-11D1-48A8-ABEC-B90C2B46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FAB47A0-1F5F-47C0-BFD7-5C1767F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3E5012E-5389-42DF-A781-3B895EBC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21768D9-0F4D-4509-9293-6A05177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C68A72D-6649-47AD-9C95-7DAF0452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6456ADC-B848-4508-AC95-4D0939BA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9C8EAF9-E492-4DDC-8972-4E0F720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1CEE573-D827-450B-AB88-1E2959B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5251991-6C15-4FE6-B866-201B829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D8A07-D093-4CDD-B755-85E785B7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51057BA-F3E9-4CE3-963D-F8AB931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B9D6C9D-0311-4AE6-B167-427EEC70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25ED99A-27D7-4418-BE23-C73537FB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AD5F42E-AA01-45E0-A721-2E1D7382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0DCCF60-D097-43E9-9ABE-A5161040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24D4C7A-B038-4350-9C59-A0EBC33F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42EEDF3-E1A7-435D-B680-AACD2BA8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FC7CFAD-CE9D-46FC-A373-1F0BA4A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AC7B59B-339F-45B2-9F51-9D06670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82C2276-E2D9-4E9D-AB8E-32F1CFB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4B1-65BC-4E18-AFFA-B977ED21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E2675-1BBA-49A6-8EAA-E90914C0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31AC327-7B2A-4013-94C9-2B524F2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734E69D-ECE6-4053-AFCD-9DF1437B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FCF2DAE-B8C0-4BD2-B3AE-C67B4379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9A04618-FB09-45AF-8B6F-7579ED79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A611B7B-4E0A-44D1-BAB0-0337433A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6A6F805-7DEC-4722-8B30-2B4FDE10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4B9BF80-545B-438D-8B71-7605B8F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EBB0971-765C-417E-9417-FECCFFEE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D276ADF-808F-413D-AE65-402052CF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1A78F77-7180-4527-827D-0C6F4D2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4F322-2567-427B-8100-7B07D66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59A5319-3BE5-4B9B-A108-EB2FC746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FB3AA65-3046-4AC2-9C0B-75DC7EB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093C356-4B20-4EA6-92C8-7B6D58B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12901D9-281C-4A5C-AA34-F62A94B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D12D05C-8E36-405E-8359-7764F539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BCCAD69-55CC-43DF-BEE1-2E8B327B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B3EAC32-874B-4E09-A930-9F13EEA3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AEA344E-C4BD-46D9-ADE4-32199227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0FC8504-29BC-486A-8BF9-F156BCF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F3B7707-E531-448B-8426-D07252EA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EEF13-6829-4884-AFEF-6E3F7378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3CE48AE-4FB5-4E0D-98DA-14D06D35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4ADF6DD-4339-479B-9CBF-6974ED8D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C3B731D-CF22-4E9C-AEA8-219C62FE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0E9BF95-F48D-4997-8050-D2570D5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76AD15E-D157-4542-9DF5-0A14D30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C24E943-70C3-4F4C-B0C8-7DAE288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066E555-BB92-46FC-8E8F-53101FB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6D1F411-11BE-45F7-9707-C3B8CFB8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D62C9F5-9E9F-486C-9641-C994B5BA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34CCF49-08FB-4308-A12B-6359370E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832C7-A26C-4566-AB2F-5BC185E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6B99EF7-35C7-4EB6-B955-CDE1B7F2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2C5BF94-6827-48F7-B49E-4454064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CAD961E-5941-4629-89A2-A6391DF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A3ECA53-51DE-407E-97D2-63441B39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1712FB6-A9FB-49DB-8DCA-2AB7864F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81572A2-2614-4044-8B2B-C825DB06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BA54ED7-1351-498F-99F8-A268EF2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0E9BFEC-B51A-41C4-B8BD-CC96721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BD11D23-D38B-48FE-B534-0CE5280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3517A46-93C8-457C-8B86-06068E31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19D33-7FF0-426F-89B3-E13333DC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1D5FE22-A6BD-41E6-B022-3A28853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26BA6E5-E3A7-431A-990B-EF06AD7A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E052965-5C43-4C37-92FE-5A46700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AB293D4-B60D-411B-9DDA-DEF0261F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D4DC9F0-2047-4D55-A8B6-3EE1B3B9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4C67702-5061-4189-915D-571016C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0B44F56-22C1-4CC8-B448-715AF407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0130C2E-25E5-4C31-9432-F4195B7D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046DC02-66ED-4362-85B4-CBB5F1C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970BDE4-8AFB-475B-987D-9FCEFE1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EF97A-6CEF-4BB1-B399-D261DC7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AA07A92-22DD-4A6B-BBC1-48ADBE8C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AABA405-E021-499F-87CA-69092D04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9C8D879-413D-4FEB-920E-8FAF99AC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700ED7E-E1B5-453F-854A-38CD178E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4E09176-8AD6-4C0E-912E-5E7C52F4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CB47284-02BD-4C15-8C8A-5D38EC1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1B59087-B111-494F-BC3D-BDE2BBB3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E4EF3B4-60AE-4A0B-8A24-33878E0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B3AED0D-1B12-4F1B-B3F3-ADC2721F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5499982-5A53-41C7-A0DB-BE8B05DA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13244-7DBB-4B77-B574-06FE95A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DA30251-0C37-471D-AFBC-2FB3694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10B8D10-280C-465F-AA39-0FEF747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7BE250B-9BEB-407A-BD44-34FD16CD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8539C5B-1D50-4BE1-9D18-9F2418A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87B3001-E3F2-4D3A-A7A7-079F3349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69894F9-7AAF-40D7-A5FB-097D6DBF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B36AB7E-8A27-423D-BC3A-7D59569F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6606CEE-0A9F-4CE0-974B-775EA6E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2B182B0-BD86-49B1-8D52-51BC58A0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A3C533C-ADFF-4887-A1CD-20E5D24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17F7E-9F3C-429D-BA4A-3CCAF40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F79DC10-1E77-4C31-82C1-64F421AE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372D9BA-4E40-4349-90C2-39C78C01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8C36D23-2F8F-4D69-8D32-57A1FC9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C08DB37-4656-4267-B93F-5AD25E4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0CB0064-9F87-4ECB-8D5F-38BF196B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0346B3A-8979-4F14-AB3B-556FB89D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F5774A3-4F10-46B0-8656-C06706A1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0208FCA-ACAC-4A86-9183-7E191D5B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0703F9B-7C3C-44AD-9B6D-5EC0A319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9866E2A-1510-48B4-88D7-DE787F1A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8258C-B32B-4C2E-B0EE-15D7988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82E97CD-7114-46E8-BEE8-7BD0D43F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44AD0DA-2F31-4054-8143-5258905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6CAA00E-9E21-4894-9B75-B229722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0A30AF9-CA30-4DAD-831F-033B635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CA0A012-6AFF-41AE-A940-E9881321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80CD58C-095B-4D2D-B85B-6E01B3FD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F9081A1-2E73-46EB-AF03-32A623D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2613A5B-9F8C-41C6-ADFF-B5B6A437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713C8D1-61EF-4A3A-8CA3-3CA17D12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98EF962-0450-476B-ADEC-33D2899E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5E1EA-393F-450A-A98D-5D6EE8EE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D486465-154F-4124-A373-7819FE4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0F6C74D-65CD-48A8-85EA-FBF379C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877C893-530C-4D18-B9FF-363A01F4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76A571E-7A85-4793-B685-AC0CA39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E744AF7-01B0-4E2B-98F5-9891ACC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B111227-CD5B-40EE-AD82-67CDD60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D926AAF-C9D5-4A14-965D-49B1CCC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F6C91F9-B9F2-4D08-8229-F7A6053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CE485D0-173E-48BE-8028-B5CE248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54E10FF-A4C8-4D7B-9539-B685D95A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13D-9F62-499B-B972-E0F159D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7922B-B207-4490-884E-BCD38C35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C083E04-6968-4F75-B98F-DF7383B8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D637B79-EC2F-4A85-90C5-DFE37ACE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BB84A1C-A8CC-4F69-9FA0-900A3DE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0565F8B-D922-4862-A33E-CDADC3B8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DDAB0A9-AD7B-48A6-865F-02BB66C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A75F40D-02D7-4F95-B1E1-31CC5A4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10E054A-17ED-46D0-98D4-C867C60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383D5CB-1244-4EC6-86DE-CB6B9B7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B7D3CC8-B8DA-47E4-B126-56CC6C1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D5D7DD9-4C41-43C2-AD98-A649D4D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46A8E-ACB9-4A56-B957-5F46AA9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2A61B10-E108-401A-A5BB-E16ADA6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92530CF-1547-4FE3-82B1-64D57F83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D078930-F3B3-4EC3-8056-E6E57931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B96EA75-EF57-4C4D-97F0-0C446121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AFA0FE2-0BDC-468E-BDE3-5F18DDAA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1286A5E-54BF-4BCB-9BE9-1DF529B3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2C7A223-23E4-4B12-9CBA-EF215C28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304DFC6-D808-4171-A433-F1FAD4B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7A5E192-BD91-4C5C-A30F-9F8FB9B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6AD11B5-3666-488B-AB84-EDBF2FE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22E1A-356F-455B-9141-A3621687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2F3D3AF-B32D-4D93-8ED1-6E515C6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7FEF5A3-0F67-4C36-A47A-C4C8403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89FA568-CFD5-4E89-A036-059ADA5B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4868A3E-EEF8-4D84-9238-1726A398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E1D266F-06E4-4CD0-881D-316A4938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CCF5259-E61F-4F58-B336-DCF26A39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49E9F0E-FA5D-410A-BCFA-E5337891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7D11402-FF83-43D7-A868-030A219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7473023-9FC7-4893-A7BE-15BBB90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BC9522E-960D-4B39-B86F-2D40357F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36C73-1227-4274-B007-C288BD0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1C82444-5CEB-4F2C-BB64-B389A57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3F01ADF-2EDF-4AA3-980D-73F7444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AB62E32-E8E9-47A3-BBB8-7D57727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91D2EF4-FDCA-4BB9-894E-3474043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AD8606D-BB84-4D66-9729-9471B14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66381F9-D73E-42A3-A687-86209A6B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3029124-7DE3-458C-86A9-E0384C8C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DCD67AF-4F7E-4033-B17D-237EF358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DF04883-965A-4355-8CB9-1696D5B7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36FB5EA-3E32-4F7B-9E70-0D9CBF81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E197B-6FDD-4350-803A-2B6AAB78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5D5477B-3DE8-4A2B-94E3-85946A9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AD42385-1F38-4D26-B054-2C9C755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E0F034A-B9BF-45DD-A8AE-FEA6D4C9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FD352D9-705F-47D6-A109-19B3ACD7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84BEEA8-9A6F-4019-B408-BAC11DA2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5D15DCF-CF79-4A9B-B33F-BFA56191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2231F4C-B545-4014-82FB-81DB117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A31C840-74AE-409B-943C-D71E9990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D7848E2-D93A-469A-BBC6-D77A0EB6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BDD446A-E16C-4F98-B080-17535579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4D0AA-08FE-419B-ACAA-4286BD80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78E09F6-5575-4181-B912-0E36C52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AB2D716-94C1-4FB8-9323-22B128E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49DD7CD-7DC7-4BF4-968E-A910CE3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E9F8246-7B2E-4B6E-938D-91E6F1FC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0D36067-ABDB-429D-BCF5-C9270902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59C8860-6C69-473B-8AE5-9F799F9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EC7BAB9-31C9-4100-98D8-B24642A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4E74FD1-8FE6-4652-8C6B-9536C71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780E307-134D-44B2-8A72-B4F33CD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C49C06B-241B-4F4A-9DC1-291EFC7E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256E-FD86-4347-B769-9A1107B5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844C783-6E85-4FB5-95AC-8942C25E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DCC94DEA-B9A8-4CA7-8D9B-4D875935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88D833B-A420-47E5-B5D2-1DC66216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11A3C8D-F257-4308-A0A1-7704FB8B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F40BA07-CEC5-4CD1-816D-7792A4CF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C0891C9-85FC-49F3-A53B-2E77A7AA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F8896C1-69B9-452A-8FC5-A3028268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31124F8-17D3-4AC4-A590-B533FEA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F7ADC55-9E87-479B-89D9-689A1FE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613FCB4-AF71-484D-A3A2-4FB084CD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FA9C0-DF47-4677-8698-E5F5AB8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C9E73E6-6D4A-41F8-B475-8E61FED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1B0B612-EC42-45B1-97BE-7E0D0AFD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F9324C4-06A7-43E4-AAC1-AA931DEF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781E0C4-CFAB-45D4-A9A1-38282BF7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8C003E8-6F33-4EB4-91AA-43DC2147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5515A3B-B400-42AF-9065-065F8C40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A0A241C-5F4D-43AC-B4A6-0472F3C7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0225330-1074-40F8-972E-EC26382D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7261A05-2E12-4734-A9F0-1DDAEEF6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1191D18-954E-4E58-B610-C254FB0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5A896-61B9-4ADF-8443-61D10FD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E387784-29EE-400B-9885-7C41124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C2DACDF-7FFC-4B8B-8BC3-B987D1E6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F080DFE-19B1-4C3D-A08E-C761E8D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10F3C75-1574-4910-8B39-FB23841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B2D2069-48B5-432F-A451-551633DE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2A14B13-B7C5-4E2F-BAB6-E079D60B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A262B15-5B55-45AF-A329-E95D8C2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8690D47-6FC7-4634-8A35-4E08D5F1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BAEF1BB-78E1-4C13-B265-AC380645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F800B42-0B68-41FE-9B8A-97393DE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FB68D-9E3A-4211-BBFB-646BD02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4DCBD27-08DE-4217-AE55-7C4D370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C872155-B76F-420B-AF70-4E38288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DB5BD3A-D371-4D41-8A39-1912E3F1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F157F81-1DCA-417E-924F-EB9FE87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FE21F40-EB66-4024-9BD2-86D6281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D3F64DE-8D4E-4B8E-AF46-486DACC7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1746CF0-B147-4801-A4E7-7718A113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1838FFB-8C44-4126-90D4-20ED6D03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163FD12-9DA8-405F-8999-E6D2919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2E9C28F-8DA8-4FC2-9A44-65AE32A2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831-F21B-48CB-9DB0-614212B7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8FB46-ED7D-4DCA-BE6F-45FEC5E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4724B18-93BC-457E-8811-C4434511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8487DC6-FDB4-4D4B-B9D1-444E103D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A6F1EF9-2281-40A1-8BED-3FA7D87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1F6D433-6197-4B96-896D-E39DCF73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23A117D-30A5-40C8-8EE7-8FBCC050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C682EAA-7BD5-48B3-BA5A-ADB85B1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183A981-331A-4265-8AA7-CB35190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885DCD5-7D40-4D2B-BB67-71C65BD9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AB29B33-5ECE-4C71-9856-EF1B3CAD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66E5658-48FA-4D87-B537-F664FCEC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F4877-D12C-4AAB-8AB8-0DB9C1D2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ECFB3C3-94DB-4CFE-AB05-19DFCCF9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04DE1CD-F890-41B1-8A29-3CE48A12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49614B4-6AB0-4FE3-B8D3-2A526B97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E5FCF44-E4A5-410E-8ECE-C84636D3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744C33D-6184-44E2-AC2D-74A20D61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336DF45-748B-44B7-8BB5-5C1C65A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35DD06D-A4CA-446C-A615-E2F8E76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266E803-6643-48CF-B133-C4A052E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79C7F94-FAFA-4E63-B804-85351BF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E4400A2-37D0-4C41-A58C-1DA58B59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E9C4-A8A9-4B47-91F9-4E8174DD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32D2F72-C4F7-4AA8-87C7-D1D4686B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2A40ABB-6F66-4AFE-AA9A-A2F8C1F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5043784-4BDD-4AE7-81FD-39810BB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BB34185-7762-49B2-B909-4F671A8C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E75A418-E5CE-4B01-A011-2D359471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DD1D0C1-7002-4A09-AC54-ECE4384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75C720B-FDBD-4543-9CD2-BC79171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5DF4AEA-6AB0-42BD-B379-F596DD6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14A40B5-0588-462B-999E-8B1EFD36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72D6CAC-CBC4-4CDD-A747-F5253715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F947D-4749-4F82-B387-D64FAB8D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44D1999-F327-4FCA-BA56-CA9E44A5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4AFCD60-819C-41F6-820A-6A6C53E6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BF6EEDB-1408-4FC9-99CF-D48C43F6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4BA8EA4-E5E3-464C-8525-AA383F74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EACF369-3759-4F27-A53A-EB4525C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00E3CC5-0F68-4547-AC3B-D2DE6D44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5260E4F-87FF-43EC-A950-01B11BA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4E6FA4B-1569-4428-8F27-51ED47F8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5D0C999-40C3-4CCA-A9B1-B648D05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D36E838-42A4-4DF4-A88D-B8DB796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CFDF-52AA-4F6E-AE8B-383A967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44C2CBF-F433-4CFF-8EBA-2F28225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CC60ABD-9987-4110-A4DC-D196D64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2596DED-D7C3-4413-BE16-2953ACF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4F2E174-2FE6-44C2-94A2-CFCD9DE1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0D53D39-0E44-40CA-A12C-33082F12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532F465-7519-4D91-9829-FB201297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99DC40F-D3F0-4581-BC75-41AEAE1A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9B91931-6AD8-4CCA-9475-89335D91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A056637F-6039-4D70-86DD-0FFD90CE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14988A0-8DC6-4313-BC50-E1527F3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CFD3F-C18D-40F4-AD20-05A2CEB9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979E49D-2DC7-4A24-B384-9BF1A791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0842FA6-62EE-45C9-A4F2-DD106A0E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19DEFC3-BFA7-4385-A8FE-B25AB2D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AE86465-F810-45CA-8951-5F84B6C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53679FB-C4D5-42D5-BB25-8B7FF5FF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AAA3F5F-44B9-4D2E-96B6-5BBCC64B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E0FDC43-E053-4B8A-A3C0-ADFF0D35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FB8581C-F012-4CDA-A085-6EAC6ABD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B53DC8A-0741-4A44-9202-B6ABB3B5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BC7B054-8A34-45C5-B790-E89D627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B093E-80F8-41D0-8A2F-D51BB02F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9AD1D8E-EF1D-4696-B0F4-DDCB4890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250CADC-99E9-4D83-A71D-040B4B0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F4442AC-EDEC-4475-B495-51648A71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3EA5045-8BB6-4565-AD0E-82141298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847113A-E9D8-4798-B509-DF9200CC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7333994-9B3D-4890-957E-9321EC6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03F3672-3509-449E-BEF7-D93B6210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E74069B-E7EB-41E5-A8DC-DBD4975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E305EA7-6824-480E-85C6-37E35F96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7C0D655-4070-4720-A5A3-57A210A9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06965-48A0-4408-BBDB-6141B1E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7A561B7-2032-476F-ACD5-B09A3030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8420D1C-7631-4F3B-B9AA-DC2BD41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F377EC3-078C-436A-9CF4-B27688EE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F0C9CB5-0033-45AD-AB71-F312B30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436AD8E-59B0-4007-AE6D-3F843415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FF951B6-2DEB-41CB-A12B-99D9A28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F39E29D-74C4-4C21-8CE6-2F7649E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ADF56A4-87E7-4164-9A1A-9637E87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9819CB9-7827-41E4-B190-ED8DF02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EED60D5-7E96-47D5-ACEE-E100A7D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CB3CC-626E-4085-8215-8D50EF73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981E0F4-CF8D-4A7B-8AC9-6568E12B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9AABCF6-8DD5-456E-B43C-E9FDACD0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2D9E0A4-B316-4E1C-AB3B-8FF190B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7CF453A-1049-4F77-B8C8-E9E1EFB5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84532B3-5031-4A76-B7C1-1425D735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1C5AD37-608D-40C9-A400-1999EDD7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BFDA4BD-292F-4E85-AA19-3EC8D2F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2083A38-9938-479E-A816-5CF8C6EE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1AF90FA-D250-47F1-B6E2-B63C1CB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38C9F98-E273-4EE0-BF52-540DDE4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3FB12-1F58-4954-AF04-11D3B281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DC29D2D-8A86-4ACC-A431-B260C6C2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FD0EE4EC-A4D3-4168-9EF9-76EEA23B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4A11A5C2-F192-437F-80F2-D832E5B0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1B9E5E0-9F7F-451D-9F9E-6D4805BD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8B7DBBD-1FA9-400C-A23A-55EF427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51B0CB0-0B39-4837-A5B5-3F6412E1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AE41E18-58E0-40D7-A4CD-12C88D92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8D32BB8-36EC-476B-B294-ECF7544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05BDFB4-309B-4E5E-95AE-F62D4AC0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626B5B0-2B63-4E9E-B1EE-030A11F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081-31AC-4392-A548-540443E8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07B68-0577-4BD5-9223-E231A8B2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998A9FE-9E88-42E7-980B-93BA0D92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2E3FDE0-1A04-4E71-86B3-973FC99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D972261-BC07-4396-9D46-1D72B80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5D9610A-5B85-41E2-A3B6-78570E5E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059D0E8-69BC-4CC9-BD76-E113B067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8B68605-542B-4427-B154-CA148475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73B20FD-1364-40CF-9040-7A0F3FC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DE196D4-296E-40B0-8090-C7D4AEC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90F94BD-BB2C-46E2-9F7B-0736091B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F47D902-90E3-4E42-97F1-3637EDC0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92D74-E76A-4DE5-9CE0-EFF984F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1EF01F0-F017-43AA-871F-644A4AC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B03235B-069A-49AB-A56A-BD4B931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F446E33-0651-4D0E-8F65-F7789A2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DFBE92AC-0412-4644-A2AF-8A6489A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7ECC1E6-3C3D-4268-AD5C-57F6E8C4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D24D57A0-EEDC-4E2C-8229-816BC8C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F55CEE9-4819-467E-8B14-CF8B7B0D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7680DF1-2416-4FD3-8E1A-4ED5BA55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8E7336D-99E3-44DE-886A-71BE25E7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A7DE0CD-EB4B-44B4-BDDA-BF8217D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9978C-E07D-4F94-A437-58452C1B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B1480D7-8962-41EA-B898-6C5A74A4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43B7EDA-9F2F-4394-8AE1-80889721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A9C3E22-078B-4E1F-9E07-2788AF7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9D2DF20-DB3B-486D-87A2-56031AC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CF8E145-1441-43E3-899D-B3662C19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12D12D1-E20F-4BB3-B67A-7CAD102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57CD972-967D-4F6D-801A-C92BD4A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E0B9DA1-E196-48BF-A082-A314F4AC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BCC542E-B571-4748-A0B8-698CFF2C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C8343A4-52E9-4659-9C02-55803C6D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F7DEB-E2BE-4C95-8FC5-5025F226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90D941F-F836-4E16-AB88-7BF9EA07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8397ABE-6AFD-494A-B4CD-117CB262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9565B22-BE05-4F9A-AF05-D99E40C3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7D7BA89-DA89-46BA-9736-9337FE4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C55869CB-E677-4571-A020-6E3B523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B1F9BBC-45D2-40A4-B4B1-4E2E750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CB95BB5-8A2A-480E-8B49-C091322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4BB2024-D36C-441E-A0BC-669BA16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ACA7D1B-F4C9-4EA2-9D00-68FFA84E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8A8FB08-FA94-44DF-A3E6-2D187E0E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A45AB-6D1A-46CD-9CCC-6C86E09A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C0E3E1C-021B-4515-9C91-CC97E46C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6564C10-ECD5-417F-AA19-86767D21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75A5846-2D49-4AED-B3D7-88A33D2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5731A80-530D-4835-B08D-22D880E9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8145A3F-6112-4F09-ADA1-19311162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FC30E73-FF86-479C-B760-0441346F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8E0E061-7CFD-4DA2-BE49-14266D14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E727160-83F2-431D-B1EA-7EB1F43E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7A88B89-AEEC-4311-8D50-1E5CDDB6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E16F434-23B6-4A54-A213-023DF39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EE672-72F5-4C16-92E3-4447495D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54CD1E3-A149-48EA-A8D3-A07B20AF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07BC80B-2971-4FAE-A22C-D9BE64EC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C5E2A90-8929-47EE-90E9-14D2396A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07E8B12-04D4-4806-AD2E-44FDCF0D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C633CB9-2487-4543-B089-F854E521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9CCBE27-1DCA-4DF7-9C83-42481FAF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86637B2-2C2C-4757-9FAE-8C072ECC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44A4A82-A349-437B-B387-4C7944D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CB13E70-0BA0-452A-8142-A26F9F3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A307936-16A7-4A5A-8F1C-A92AB65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AD3EF-9420-473F-9502-AF4F1CF0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8334437-1C52-469A-8F9B-455210C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6CF3E22-2466-4355-A0D5-EC012DD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3093116-540F-4B3C-8F82-05D9FBB3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26719A4-B257-4BE4-8769-6B105604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8800D37-04BB-45FF-9C7E-6AAFECA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0DF30ED-534F-43DF-BAE3-EEC80544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9D5C9A1-A25F-465C-9C9C-823D423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4885D2B-4FAE-47AC-A3B9-634C00DF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4B382F0-E3CE-49E2-854E-7388921B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4B1F436-D047-485D-8832-77AD5C4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9DBBA-54C1-41CA-B8E8-380A9C02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CAE7DA6-2051-4B92-99D9-DC418DE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F212291-7313-4551-BE48-BB779536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F280243-780F-45B9-88BE-2FEF4BF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AC059E8-F130-41CB-A0A2-CCBAE8B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07048FB-F2E3-4184-B274-41600717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4F633C3-0B84-489C-B9D5-43F66006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06AE4D72-368E-4263-A8EE-916A2A6D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2EA66-EB9E-4612-AAD0-B1C3EDA2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6D8E0-7F51-4430-87B4-4FE06AD3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59C4-9459-4C80-963A-E33F226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10455-7BE8-417E-93FB-43A93DCE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E4834-05E7-440D-8D4C-A185520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610F7-3CF7-40E9-9F83-51937A1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50830-8FA2-4F23-A3AA-4994A8F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56880-A976-4F48-AEBD-8CE45F2F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868D9-C762-47AB-BE56-9583A25C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E020C-B715-450B-B849-4848647F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05E70-F39C-48F5-A308-DF672367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1410E-F522-4462-BCCB-D0185A3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E1FB9-9531-4978-833A-36D87C30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3142-FE32-47B3-AA60-7ED48A8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901D1-5DC6-451E-B0F2-6BD27E46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FE27D-C615-49BE-BF0B-C08D5A4F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4EE0A-63F0-456E-BD91-30455F6D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FE546-49EA-451C-8B34-BA22328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06BC9-4D0A-4744-9971-F922FE4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86761-BEC1-43D1-B4D7-FD167AC2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CE614-87D2-459F-BD04-34E449A1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769EA-5809-4A8E-A08D-2BE52B3B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BA3D3-54CF-4B55-B54A-549B51FB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9215F-96DA-4B98-A385-749EE587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D6DD-8284-4974-84B1-46A5FF59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C2310-179C-4318-8E64-11C8730F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9EC3D-E17E-4967-93F7-CFBAE1B2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9204E-1759-4619-9364-56AA458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CE836-6F87-4EC3-8C30-01A91429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CE46A-52E2-4A31-B2B0-D1DEE023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669C0-D9CB-4B5A-8AF9-1DED5E5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5599C-D7C1-4E99-8D7B-195BF89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D4FE4-A066-4395-9098-2A464633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FAADF-DEC2-4850-BFC7-4304A6F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70A92-077D-47B4-B70C-7977D083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2B6C-1562-4868-924C-0498CED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8D823-2D83-486E-9F24-C23A957A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A2189-5FD4-4EEF-86CA-11EA3F2C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5EFA4-A9CA-4DE1-9D62-1E1BBC1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C56D4-A342-4DB7-B871-656F821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D3EEF-644C-4968-94EA-23C265C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2CFBC-5E16-42EC-9CD1-CE389FA1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4D426-B8F4-4FA0-BB6F-AA5E52B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8EC99-BF38-4FD2-AAF4-C1AC07B9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08F9B-125E-4CCD-9C03-A661D556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2F217-6F45-4D0B-951F-7B8B6C66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3C4F-1A8A-4830-B471-93D1FA4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29311-9387-4905-8BF1-685CC80F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B7BB9-B8F0-4CCD-AF40-E17BA633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B47AE-48FE-426B-92DC-7D0B6CC3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F1BF8-5E92-43E6-952E-FA30E5B1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E8F46-1F83-4BA0-9F15-0F18649F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7ED99-BDA4-4332-A111-E2BA6D07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BAB0F-4A9C-4337-8D0F-942243F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40CED-6D19-4EE1-8DDA-70683F59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8394A-61CF-46EC-95EF-271881F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15D02-2ACC-4B36-8EE7-48AD4AA1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805-03A2-4279-80FC-FE152017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6A45-E039-46D1-8B58-02AF4A24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15524-AD3F-4003-B899-8571C33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9B9E8-64E4-4770-819C-FC3341A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E828F-8EEE-4CF5-B330-33F3E85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B3E40-46CA-48D4-AE1E-774524CA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EA345-9ECB-4EEB-8232-2EC9E35C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7D84E-0424-4666-BA74-7FADDEED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93069-96F6-400A-8F68-A202A93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7F0AB-63E4-4E81-80FC-D4C42AE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107CB-4367-4E84-997B-2077D2B7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08B5B-2F5B-4AE5-B01A-25EE415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7B03-B18E-4614-9C1C-6B987F44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B0944-D89D-448E-9128-63F220ED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9A989-353B-4252-AC33-7217F8A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04592-30AA-41D6-9084-634C58E9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E570B-C908-40CC-8ED2-1FE97C43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A0867-F6C0-4B3F-955B-5AC5E017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1CB9E-FB97-4405-A7D3-B18DDD12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3284D-408B-4454-BA46-373DC306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CB20D-3730-4B0E-BEE8-9D71A8FF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60A44-3AF4-4C99-9E13-DF4C40D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A25A7-E278-4E0F-AE6B-C30F4F84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D9CB-1E2E-4C3D-8566-F951DF6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AF79C-743D-4352-830E-5ADEF8F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180B4-05D2-4527-8EB7-CF46AB31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0143E-87A4-4392-B2C1-59F918DC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A65E6-F57A-434D-975A-D4CF407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C8829-23B9-498B-9E27-546A734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ADE4A-28E4-4E04-9756-C5F4747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5E156-6149-4E24-8126-9B1610B5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9F82F-9F04-4BC5-9072-D33D4E04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80333-4A26-45B4-A82E-B4CB93EC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E361B-5B57-47AE-BC60-5F84CE68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8DF9-6E96-40EF-A315-03736BA9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DDAA3-B4F6-4977-9551-522C401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82D12-4903-43F0-9295-C2C21D65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FA5F5-B967-4BB6-B34E-DCFD14A3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AAB1F-498B-4C05-B5F1-7C76694D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CA397-A1C5-4F09-A350-86224F50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F690F-4775-4FDB-B348-867AF33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178EB-0947-4506-B0B9-FE2EF6E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CD387-CA54-401F-BF1F-5C7F838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57857-7064-4C0A-84E5-F8225EC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5EF1D-7CD7-440E-91BF-2D0239B9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6237-0EDF-4CF6-B3BF-9273C930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73D5A-85B1-46F6-B801-D354F25B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82CC4-1D77-4CDB-90E2-17A1F00D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F87692-DC2F-4774-89FD-AE6EF1A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BAC207-345A-4303-8668-9318BB55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5C3AD-512B-4E7F-8F77-BF601A1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845FD-9406-4534-9DAC-B112BB08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4A3B8-2DCF-429D-B994-36443EC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5ECB8-3ECB-47CA-B08D-5E0B7E32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8893B-E5F2-49D9-B968-BB81333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D658D-F8C8-4E26-99C5-7FE6C77A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1AEDE-7933-4EF0-9857-1743FC37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4B7CF-CBFF-4B10-A65C-1A0DBEA4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69A2F-4215-4BEA-AB95-587F23F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0E7AB-AAC6-41E7-A20B-1B639164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7230C6-C914-4607-A6A8-1C4EC05D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9A8D11-EE3C-4657-BC4A-53E80C48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9C290-B459-404F-A222-AB413952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6567C4-5FB1-44E4-992C-B7DA2BD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F889E-6D0E-4BD8-9C32-970FA09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C7D88-1B6D-4E82-A286-8CB5004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20DDE9-1CA0-4299-957D-8E3F241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F9DD3-60EC-479B-A24E-EB9C052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81251-65CF-4424-9652-354F3331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41FCAE-3EC6-435A-8BFA-664B412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076D1-6177-47B4-97A9-9CDF4B1D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D6A4B0-CF52-46CC-B0E2-FA6646FD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C3F84-8EAB-4593-BF3C-BF81F899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AFC239-6DDA-46D8-A8C5-97551726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E5988C3-B24F-4A42-AE53-B9E18715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054A4C-39C3-456B-944E-277B936C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32F534-20EB-455A-9221-42EC494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13E05B-E426-4E97-834B-91E5783D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D449F-0325-47D1-BA07-C459958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66B93D-1107-4BFB-979E-861C67DA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916AC7-901D-4B59-B5C3-0D00060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875484-B25F-4508-9617-20A6312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0FAB0B4-6902-4B77-A21F-0931AEB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FDE217D-ABFE-41AB-828E-0849067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5E39A9-727E-427D-8D20-5C5716F2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44C027-D592-4BB2-9513-1A0C1CE7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7E27D6-8C7F-40FA-B3B6-77824F09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E0B90F-4444-46F6-82DA-655EDED2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CBCD20-22BF-46A3-BAB0-49C7524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CACA2-EBAE-41FF-95C3-7899EDD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99E715-964A-4FE9-AB06-9185F4D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C6FDFC-896D-4493-9BEB-EABE32E3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BFAFD29-DB87-46DC-8F21-B84134BA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05F55DF-C84F-456A-8B29-D60C963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77A5BF-3610-4801-BA94-9F9AA96D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84E1CF-7854-48D3-ACF3-7A45C44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3C6E90-2B09-4C6C-B7E9-D22FCEDA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9547C6-2D52-4405-ADB1-E302126A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C3A300-4E64-42F5-A043-31AA90CC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1FAFE7-C8CD-43B9-99ED-AADB50DD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46430-3C0F-46B5-A0AF-41C2A02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776709-1F21-4E26-AF4F-FAD1D47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B572CB-7D9E-4A04-B1D3-78EEB4D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75EF6A6-3A26-4E3E-B638-24528E10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D49C6C7-5D4D-4C67-80B8-D56C6A96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7E8F29-55A9-4182-A1E0-5CE81632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826B641-C358-4FB0-8266-8AA8053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03BB9D-0EF1-4FE3-8FB9-AF31FDCA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013AD1-45E1-4F60-9C85-DA41C5E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F06F18-F449-423C-BE04-5A49DE5D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2ADF01-5E13-4A08-BC4C-91FAC8DB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10B-DCC8-403F-8A58-D66B4BEA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C94ED-25CB-4DED-9CCD-FDC020C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773545-1F85-4EBB-B6EC-28F14508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9CCBC4-FFDB-4B02-A50C-4B3BF848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812F8F-A077-4375-A014-0783C00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ED8E81-E0A1-409B-880B-5F421D8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58F168-03E0-458D-A3A8-FAE16E22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C6C0E0-3E3A-4C54-86D0-1E1B667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31E1FC1-9A4B-4877-8CB1-5FE67535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9F1F9D5-FA27-42F9-8DF0-165F654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28F27A-D766-4509-9CE0-03EFE11C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BD941FB-E307-4C30-AF6C-D404C87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2B60A-8B0B-4423-895A-C43E3BC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D756AD-9043-42EA-A240-66E2362B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5338FF-4624-4A10-B8EF-AEA26F83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401499-8AC8-4545-B2B4-5EB562AA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B224667-5718-4F45-A5E9-25EEB2B9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E5E728-7763-4DA5-8F9F-3808114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65159A-FD55-43F3-B382-36566A9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AC34E6-9181-490B-8371-32A86F43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5AD9007-27F8-454E-9C96-2033367F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322B96-1E0C-41D4-88A9-DE6A0AF8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A222CE3-63D6-4AB1-A6E0-96F27E9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6295F-E9BE-45A0-8BCB-266821F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45C2D38-EDFA-4AE6-BF44-B3E1744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012373-FB77-41AB-B4A8-9F92682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3AAA5A-707D-4B8D-803C-9F0F1B7C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661D9C8-EDDA-4C91-B28C-02AB21B0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258789A-CD7B-4A4D-B220-7BB44FB9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D79D003-8435-4017-91F8-BC44702E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140022C-B3C6-4033-B064-5D1D709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E596D4-0212-4FAA-A658-27B6A63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0C529DE-6D32-4227-A532-0058B2F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C920A90-C7AA-423B-A408-96230CBF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977C3-2654-496D-A576-67EB7220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B180A0A-CA0C-470F-8CFC-952B3D94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A4F113-609B-4333-A433-F7BE166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87C68FB-21AD-4D52-ABD0-29E41E6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97BCE71-75AC-431B-8AB5-2E33EFEC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FE4BD02-8ABB-4025-97AE-63A3EA8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340B20-85FA-42F4-8754-38ED9FA3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3AD00AA-9BA7-449A-8B43-432D9ECB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7DB396-B079-49ED-B1BE-946F8EB2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40DA8A4-B969-4C7F-8A37-6B1B8112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DE04B45-A672-454B-A474-1DDCD1F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5BB1B-CE0A-40A1-A520-AF548E5C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D769CCB-8FB7-4649-9514-56694AB5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E7F54ED-519E-4FED-B126-657D7F7E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819843-3E4A-4715-959F-6CDAD42E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70FBE8B-C953-43F3-9390-989C2A1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392732-D130-42CB-BAF6-6DA461FD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E2B744-5F99-47EF-BAA1-C5212B91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3C16DDC-F819-403E-8A1D-990D1491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FEAC46-9B16-41A5-9A7B-8B30199D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00051ED-6E83-4825-80D1-0570DB91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D2E7F2D-205A-476F-8B6E-629B101B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ECB67-4F55-466A-A1F0-B4A2ABFE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961C48C-8121-40D7-A1CA-1C6CF565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AF994C9-335F-4BEC-95A7-6B9E48EA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D5969F5-4C63-4E37-BC98-5D3D7659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57FD421-F1FD-48DF-945B-EEED2C5D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4C03ED0-967A-4E94-944D-ACEE033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22868A5-88AA-4F24-BD49-368A468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A30C04A-7EAF-42B2-BDC6-E952B25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59672DD-36DF-4CBA-9665-304AA90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803A0B0-5962-45A6-9976-367E5A1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DAAA88-594C-4644-A9B5-DD097F6B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E404E-3E5A-40DD-84CB-8CDA2139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11F7FB6-6AA4-4BFC-A69A-BB831A8B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6262989-075C-42B3-9DA7-83A9B62A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C256198-B67E-4D12-98FF-9CA250C9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CB439E6-CD26-472C-A13B-49C9E16C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1BE8127-E359-4F0A-BE51-67D29132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DD54D48-01A6-44BA-93CB-A2DD06F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6625540-678C-42A1-9A83-C106BE7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557752D-6AC0-4315-A8BE-C1DA3E5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9641546-D33E-41D0-9D84-4AF88BB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630889B-BA1E-41F1-9D34-70053CD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5EE04-FB19-479F-A4F6-F2CFF84A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43385A6-E896-4404-9406-2161E40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F4E3700-1D37-4FFF-AEC8-79C84166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3F66A61-BD5B-4D43-99BC-8A6D7331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3239552-8217-4A0B-B0C3-30C16DC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8302DCC-9F63-42AA-9C4C-DEE37990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75FDD1E-4CDE-491F-87C6-97DE9DEB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AC12056-71A7-47AA-BC7D-5F810FA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883E35-D824-499D-87A9-1A5FFCEF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58E0F5C-5CB9-4CCB-B5D1-8F8C1E1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F1767E3-D278-4A56-8565-7458E30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BE003-9F81-4D9D-989C-961D172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4FBC12-1DB5-48A8-9156-43F3CA5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5A44AAE-50B2-4DB3-95AA-3D6ECF7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D7D0D1D-1F9D-4BE3-AD83-C84B1B6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CD1ACF0-588C-46E3-A7C7-91A24D91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2C2F5D8-2857-42E5-99A7-C153B9D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0F7EE7-57C6-476C-840B-C2839C5B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F6BDD2E-22D9-4175-9B8D-9D31918C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0DA8BE5-A3F7-4A6C-89BB-73D64248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89BE0B9-1830-4CCE-8CA9-4433DFC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85C221D-AD47-41E9-8DFF-C9D78DF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E6813-F7B6-4A66-BB12-AF3443FA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436E503-C40D-477B-9235-2491614C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3F929F1-7995-4547-8E5E-8EF1BB6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E372B50-F38E-4B58-A017-EA5F4C1A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003226-BFA0-46DA-AE77-ECE4A9E8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CAD6AE5-AFBD-4129-9FDE-452D6450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F247B2E-9228-43D2-B891-D56C737A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0C86396-3287-46A1-9C91-313CE286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E7BE770-A5AF-4F1F-BC7E-449CD334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574D1B-25E7-4042-9A71-A5D76B53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0F6CC0B-D0D2-40AE-8059-1AA0644E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ED4-5E6A-4A98-BD1D-4D63A85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349DA-4352-4D4A-9BE1-A0AEE980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396B971-2E35-473E-A093-C4A4419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6436D07-294E-4421-AED0-4C5B5EDC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62FD8B8-3D3A-4D6F-B578-C1F02FA9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6F202E6-EDF3-4A42-A535-EE100FC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5D53001-3475-4011-9574-1CADB2F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EAED61F-8CB8-4959-925F-4B191BC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88785FF-5E12-4F68-8FB5-AED72532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4DF23C1-7F01-4606-8ADA-2D13F3B0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AC3B61-A579-4B94-8E03-1DD81C8D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5703A0-21CB-4CF1-9BCD-95157D5D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8B976-DCDF-4277-87A9-9B80CB3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557DEC-F32A-4839-ADF5-1B0D8BBA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C35577-AFCB-4692-BF82-5BC3C47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383E3CB-908F-4F29-BE28-D3B1A26C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2DA53A-9C15-4F9E-AE39-411D7E6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E2BC71-C636-40A1-B689-A8973EED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89C2E3E-DB06-4DE4-8957-E059B3D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9A49D5-1D2C-429A-85FC-A2045DF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33F88AC-EDA8-48A1-9E22-440A1B9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852D945-D725-4B56-9585-F4ED3D0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21C7939-4E99-40B5-8184-7AB7BF73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E8CEF-6E36-46F2-83FA-816A3ED6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8F73C9-D4DB-417C-AEE3-94FBF1AB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FBC4EC4-55D5-4CAC-8551-A7007B3E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58BE868-EA9E-4659-B57D-F5D144A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19852F-D747-4FBF-B0BE-97F57EF1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6A32DAB-1349-42CD-8647-84856DB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8861DC-7C93-453E-A4AF-6EC6829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C1B3CB8-A470-42CE-9009-F7049982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31268A2-5E1D-479E-B414-F6CEEA0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789CE1-C8BF-47AE-97D6-3EC080F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966187D-DDF5-431A-AFEA-82341D63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1B19C-F8AD-498B-9C81-C2B5034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54AB86A-9505-4D93-9C80-2119B48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7CCA62B-5A84-4369-8E2D-C2F19166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47F5160-A36B-49BD-AA6B-4CC46FB7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046878-4508-47F7-A578-1C52A72E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37B6033-B0A4-4D98-8632-A6AEB09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258F53D-C1C1-420F-B73E-86135824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01FA44D-1C90-4880-876F-517E7616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F670E9-79D8-4FF3-863D-729EB59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1CFE2D1-16E1-4C8A-AEA9-7DB16C70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0566458-5A2D-4EA3-B77C-2A79373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EFD07-D6D7-496D-93FB-A6834B2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95DF206-A925-457E-BA4D-E177F26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328FC4F-28EE-4294-B895-5E6FA9E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D40E933-F7D9-4908-A80D-71FF09CA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53CED71-1357-44DB-ABCA-92A50EB3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F1AE910-1EF5-489E-B2DE-CEA4F3BA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BCB319-A6A4-4A5F-9005-B0D7C838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74A4C12-F78F-471A-A1FD-BC680640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3EF60DE-6DDF-4698-8AE6-7A342F53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03687CA-0E08-4D49-9C85-0894CB5F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80EDDE-AC3B-4D81-9EF8-F317A8E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E87A9-8EEB-4F0F-A56C-FE82124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F3E11DF-1028-42D0-A4B5-818B329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97C00D2-EA94-4F95-A290-A000A16F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8ED3C2E-7463-4C3E-B03B-8D19D05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5A1E2D1-B0DE-4A44-A3CE-9CF63B2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120656A-C134-42FC-92D8-A198F3CE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3767230-EF03-4D5D-84B2-6672E308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04EAFFE-6939-49F5-B6FB-C0684F9D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F51FAFD-AC10-4841-8CAD-555A839D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CAF5445-7B46-40FB-8BA6-8FDF7122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83B6DA-6EF6-4139-91B3-461D72B4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BE37C-82E7-4951-BCDB-7DD7DF8E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9D4F23C-23B5-4198-947B-06A1B9C3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7E4F898-BA88-44A7-B102-C7D13822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0D22468-E5C4-4689-9B6F-20C4C476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59FE448-03CC-4528-9BE0-0B398023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0752D50-588C-490B-8C74-88384F8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9B57827-9075-4397-9C2D-2823D50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275EF2E-75B7-475F-91E2-208C3C54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F3A4AD7-C233-4615-A3FC-087A123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3C9C7A4-4032-4D0E-B4E7-BFE6C590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7686949-9A1E-452D-9AF3-D72D685A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5B56F-34EE-4A57-BCFD-34E6035A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A705613-D91C-4AC6-A786-39FCA00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8565EE3-D454-4F91-8BDC-7F73929D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211FBEF-2451-4DE7-850F-C600E66A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DEDA8D6-B14D-4B36-ADF7-12326A8C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6964BF8-A215-4E0E-839E-9BC8A01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CA82D2E-1B79-4A05-B9CE-4A52A1C6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C8B3A17-573F-4EC2-908D-DE20BC9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0638448-6BE4-4307-A3E8-DA4D323B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F843BFA-BC34-4CC3-8A7C-F89E607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C479486-3C94-46A1-9BF2-FD755950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C8C62-8623-4A30-833F-0C4EE405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2DF12F4-3FC1-4F5F-8B68-DE8F56DC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D72623A-2A41-4DAE-BA27-D01157D2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BCAC482-2230-4246-9A18-D5DD502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E520E64-2AF4-4705-8AE1-1626E9B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E7D6B82-1FEE-45FC-899F-C99BC07D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3B4B6E-2735-48A1-872F-5C9DD5D6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20E966E-9E28-43B2-946A-74BAD6D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21D32E2-38AD-400F-8D25-F466C88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0928D7A-59C6-4F6C-BC7C-5C1ABE1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578FB20-AA75-4331-909E-A040A59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AC51-66B2-40BF-A124-2BFE122B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18C0215-2354-46BD-AEB6-C4A884D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87464BF-4500-42A4-8B94-5300CAFB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8F7BF05-C61F-4C19-A093-CF97034C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1B09BA5-7FCD-416E-A02C-BF0602CB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3F7E384-8245-4CDE-92D7-6341D03C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A4C3A11-C19A-4FCD-BC1B-FB47E961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6A7B39F-D172-4E88-8A3C-ACE6C05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AAB776E-DAEF-4F57-9E8B-F6BB9850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F4E19CA-1870-4D65-B99F-8524228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76A9D76-CD64-492C-A050-03BCC97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F9B-B0ED-415F-ACCA-9654A1EE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B131D-D0E9-4158-9A1A-91C6613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41B0B67-6FBB-4890-8D31-E791C2E1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C6226B7-F0CB-48FD-8037-E488072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A2A7A97-C163-4BF9-82F4-81D69C24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D25F1FB-C3C3-4A6E-8160-D771A4CB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67D5C25-04A3-4EC7-BCA5-0D104C78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8136B7B-0758-44BD-BF11-4C05166D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B24771F-8887-4DBB-840C-189EF47B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4E1A1F5-275C-46C3-A975-30B294BB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30E3DB7-79F8-43EF-96FB-2858FE8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0E3D6F1-A90D-48C8-9913-9BBBC2D6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461C-DB6F-41DF-BAD8-A25A456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7241B03-6C8D-4BB5-8519-5AF29B6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1C7A422-B695-47FB-9E15-C60EF73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755B5ED-0165-4DC6-B199-3D90EED1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36DF9EE-3828-45A8-848A-D41B3A2B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DAB3A57-F768-4E69-93EF-58B35913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2B7829D-7A27-4B2C-9011-0E2800C2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5F8FACE-3D16-486E-995C-F8DDD68D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B7446E0-F138-42EE-8CC1-765F8982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6D90308-D171-43C0-A8A4-07275192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FBAD2D2-DD63-4078-B0A2-3B9312CA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CC838-438E-4FE7-A608-4564928E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176074B-1C59-4B31-8C8C-ECD31D3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068FE19-24C0-4AD7-9919-E2FB43DC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8405DED-C3BE-46EC-A32A-08B1F537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65A5121-7533-4D4C-BA24-84D0DB9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1B2AC85-05E5-40B9-94E9-EE9269CC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34E1029-8E3D-4422-98C7-2F765764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B99CFB8-06FB-44A6-AF23-6241AFF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6855E7F-A014-4E2F-B9AB-35CC627D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C6D5456-F644-4DB7-ACAA-EA95C474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028BCE9-E888-4DA5-863D-4E31C395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3EB0-E2B7-4DE4-B5AB-BFEB7D49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4DF24A3-3903-4C53-8A25-6560EC2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B5131D6-950F-49F0-A0CF-CF733FB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B4AF0D4-258A-4804-89EE-A6EAF17D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1354911-CB81-4D52-A51C-BDE2A86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B256768-0052-401D-BC98-1C46FB07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84AB241-D7AA-4CF9-8D71-D9D566D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CA299EB-1CA6-4889-914F-976D5CF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2EDE947-B2E9-44CC-A52B-73D5DFF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860F506-8864-40F9-AF81-72DE6837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56C7349-DD45-417A-BCDE-0700D1DB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65A6-9FC5-4D0E-B513-6620244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C0B468A-EB83-4BD1-B899-448EFD4D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B78E9FA-4FCA-4F40-8459-25DCDB7E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0064E99-FA35-4C80-935B-A261881B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4CFE411-2A53-404A-AFA7-019120A0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291FAEA-D3B8-4DD9-B8FC-2574C45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2F4FA71-D833-47D8-A596-34A0B9CC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E6A5F94-8E5A-4B54-B042-F3C74C42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CCB2450-2659-4D2F-BAF4-70739A36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630E0FE-A270-435E-992B-657CE46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89EA9EB-83C0-4D9B-A248-EE311778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AE9B-B315-41D1-BA00-B67B8A7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4E40A64-2FEC-4448-9590-3A56B232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64001A8-BBA0-4DF8-B081-CD5D6A9F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5FD68DA-5E30-4B91-B4C2-8CA39ED3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2C9ED4-5007-49AE-B434-A5B5FD57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B26377-4A9A-41A7-9F25-75F7C62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D2E4CE-597B-47C9-A11B-8B1F3F38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E4BE21E-7746-4433-ACA5-38A7D3C4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139404-A0B9-4C28-9D2E-4EFAA5F0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E3985BD-10F5-4FBB-874D-F075AC6D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153A45-7702-455D-9C90-7C0B37F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7C66-078E-4109-8E44-0DFB611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1957D3A-3410-42B6-B400-0581C9A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3115E5-7C13-457F-BB87-7A5C53EB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916287-D110-4AC1-AA41-7F400EB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C73ABD-94EE-4D49-A28B-E84CF16A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DC6F82-1D02-4C42-B339-984EB19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05B686-533C-4BBF-809A-B29F4AB3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E12BADC-A64E-4D8A-916E-DA66224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E14602-1E49-486B-A510-71D7F966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CE098F-A4FA-4BBF-B26D-BD6F5C02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1B0EB6-4FBF-4E2C-BD6C-F21E7F7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E36D-2613-4D2A-B4B5-25145DC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B9EDB2-FB1A-4C6B-AD54-D3D57031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B100A6-28EC-4A32-ACE2-7F17CEF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1D7526-50B5-4F47-AAD9-8470F0F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A9EB3C-F010-4016-BF2C-41151A1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56CAA6-3D7A-4783-B0B3-91174625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31B11F-744F-4C17-B06E-D298F534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FAAAFB-396B-4891-A416-724D6375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909F3F-A79A-4CB3-B411-709EF432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F74238-2CD4-4CBC-B262-FD0D8FB9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C1EF16-AEEF-4D9F-AAA8-CBB0A5F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98E5-AF09-41F6-BB4F-23AAB811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335708-B8D7-4A77-94B8-616AC5A3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A73A74-4760-4261-B11D-BEB9DE5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72FD12-0DA3-488F-9E5B-330824BA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921F32-F1E1-4AE2-B7F1-CDE7CE5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B3470A-7BB1-40C7-B1C4-0D214EE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6B1394-E449-4908-899F-BD05B8D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2AF98C-C89E-434A-8E27-3052D9E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9C6DB8-6D67-4F8E-9D28-D72021DF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8E5364-383C-4086-A26E-DB5213E1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8D11E7-3306-4E32-ABDE-88D45EB9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4390-E400-48CD-90D6-8CD87E49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1D0502-F778-408F-975C-927F3014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0A0ECE-473F-4C05-BFD8-2064CC23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439083-5297-4A80-86F1-A0BAEEE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79EA461-4916-466D-92C8-98DBED8E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7CB67A-8F10-4D25-BCE0-A432063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8C8A84-E273-449E-90F5-BB3D371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9EB8CC-15F9-4443-9B74-A5FC214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99AA1A-5DB6-4A78-A06E-DBE3EA0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5613730-20CF-46CA-9F7E-64A4721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77A20E-E3A8-45E6-A538-462428D0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700-87E3-4975-8671-3F8FBC76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170F-46EF-470B-BB02-09B8BA5A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D1C6CA-9E0D-4C6E-A17A-E7DEB712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8F82E2A-2CF7-47E4-8E24-B21EB96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7559ED-C2D4-4B42-9EEA-90E950FA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B10CB0A-BD19-4FCC-8E67-1695A310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EF4F260-1E93-4FA6-94B7-0CC218B2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0670118-304B-40FA-8F14-F7D8E790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6CC99A-BBCA-42E7-9F79-056B0FCC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760E2B-B5CB-4717-BC37-5594D053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4D6485B-BEE7-415B-97F6-0055BC5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8D17A8B-FE0D-49B7-A31A-4ACC879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CC41-3DE5-464B-BDF3-DE192FF6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5EEFB43-59E4-4A6D-884A-65512A34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95F702-0608-46DE-BAD6-D0E60144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49A084-B90D-44E3-A083-4C706161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28F5E3-3FF6-4532-82FA-C2E1A885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590F9F-9A1F-4B0D-9DB5-7986DA2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9684C31-3BBE-4E54-BE18-24BF1ED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90FFD2E-8B43-4410-8B04-9E0CF1FC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EB07F7-CCA9-4714-B45A-62DBF9FF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52FB15-C527-4B8F-8DD8-9047054C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FB8C80-543B-4F2F-A3DC-80A7CB0B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B3231-3497-4EE6-9BDC-48FF889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5D4E290-EA4B-4799-845C-37D62DD5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FC74DE4-96C9-41D9-A42C-6003ED5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EA7EC1F-38B4-4151-873B-391051BD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5F35C7-F4FB-45A9-8738-2065BD9F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19C9578-5F42-415E-8CC0-1B4C3A09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6D6C2B-8C90-4969-9ACC-A5C51611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5F34158-03F0-49EA-B5DE-E53CB701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EFE519-B3B8-4A8C-A426-D013A105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C3B4AB-0E09-49EE-8680-7AC635E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2A65A5-A33E-4F54-AAFC-87B46C7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A56E2-9E02-411B-9D69-B5088F1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C028C9-49FC-41B2-86FD-DFEAAD4D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0B57C8-8B30-4DAF-B7EA-0123FCC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AE35F43-243A-43E1-8761-014D0DF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35A2952-2E93-4B46-BED6-AF06B4C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F8364E-DCCE-41B2-9467-2F5ED3A5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AD32636-9D01-4683-BC4D-E9094C37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DEA430-0A77-4065-A949-D9048BB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70A1252-C34A-4E7D-8A5F-070AEAA8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DBD0BD-1233-4963-8D69-99D66A22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050583F-4C7F-404F-9A8A-6E12E39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C565-6171-47F0-9E11-D0CDF17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857171-860F-40A0-9F35-2F5CE1E9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978110-50B2-45DE-ACC1-6E69F4F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68BE94-5C4E-48DB-95C1-34CC2D1F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6DBE83-B9B5-4D33-A65D-93FE1EB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7394F1-1467-4AF5-82AE-0365B5A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82CFD4-DD34-4CFE-B8DC-A329D942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175CEB9-ADC8-4FA6-850F-8A4F1BA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F2FC28D-5386-45F0-A28D-DB69DD4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072647-81E9-4CC0-A663-ABA61F2E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5132BE4-9EAC-470F-942A-54A2C52E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BF1BF-0DD7-4FFB-A2E2-B59975E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F70BE6-7C44-401A-9B86-BA59115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5E4F9F-286B-4C12-A9C9-2B5157E7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0F3152-853D-4571-B90B-83B84564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57E3989-8D1A-404B-8CD5-B498D2EC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EBC993-9EFB-4709-85D8-8E1074F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BBE5116-E28E-4A59-A49D-68E66E2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AD31037-58F3-45DF-A7E5-D777CB5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43E2E8-CD7C-4AAF-B84B-0E6F8F3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D13C31D-2092-4C45-9EFC-6775F7B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06B923-2F46-4D9B-B889-4FE868A4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F2B4-00C4-43BD-9F69-740F70B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2A70C3-4A76-4E83-AFC5-D7629A26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80F8F24-0C5A-4D6B-8CBA-4A3ADA78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642A0E-E9F8-43D0-A2DF-01AEB6C9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DCF9DF-CCAF-4C08-A2E8-28A18D48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409374A-AF8F-45D0-9528-3B49565E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C211442-6976-4781-B122-563DE118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C13AED-B279-49E5-AFB6-E3FD75FD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FE1221-D748-446F-9D52-6B55D4E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945278-6F76-4321-9A23-72017436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B296E9C-9CB9-4D0D-A472-53CC087B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D2BF-3AB9-4DE9-BCB8-FFAF8E2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C35697-F181-4E44-9689-182E0DFF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E5FEDF-5F56-445F-A47F-2A32A7BA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BAD8783-7EA9-4ADE-9F05-1B16A7A9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168050-9874-4625-8D6D-7F2ADE0D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9CC815-F014-4F84-B735-07033AD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4BF5E3-5ECC-4598-ABEB-CF4E9598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D4BAB5-B9E8-4FCD-969C-1887B2E1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0E64252-B01D-49E1-88D1-9CB6EA15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9645C2A-F96D-4668-9A4E-EDCB8C5D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0B14988-63A7-44FB-8F60-1158926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D3A6-D400-4E5B-9726-BD28CC3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4D6E76-730A-469D-A0BA-CD7BF8A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69E39A-B38F-4DDE-A9CE-787B759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EC0E056-1BDC-4FA7-B32A-F1867839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C4FC4B-D78D-4563-A828-8E0CE0F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A01387-2D48-4A8C-B414-210501B2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99FC4A9-D3B4-4F08-8643-DC8B8276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5D50F32-58A7-4FCD-A2B1-370A34D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ABA1445-36EC-419A-AC6C-3FE295E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7464E87-5F53-4AAC-A977-E79C7E69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578D079-444E-45D2-B1C9-D1993102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6F02-6DD1-4F61-83C1-172E9C6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57CFA09-5082-4087-943D-6D1DCEF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20CD129-D1AD-497F-BD88-BBBD74C4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CB3088-6B1C-462C-A67F-C6B77ED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8C1F3D-E32C-46CF-8FEB-92BB80F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E0653F-4CDA-4941-8D82-413D494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0D9E97-5EE3-4493-BFA8-8F574542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670A600-9B0B-4817-A6AA-638938C9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01A3F12-2FD5-461D-A388-700C5F18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4F62103-41A5-4F4A-8E1F-BDF27081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AB83A6-F5A4-443D-B297-D99C32FB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F91-AB46-4F92-BD11-53D7FC9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763C-3F3D-4374-A92D-B0272BF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E19FD24-2AAE-44AC-A415-740E37B4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3A51D2-5E2C-4BC6-B220-291981E0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2B8BBFA-E0ED-4D51-A5C7-7E9AE8D7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A6437CE-518D-415C-86B8-B051233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B12F8C-9D16-4B38-9475-3DBEA8C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244F1F-AF42-4DB1-981E-F42EC17F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7D91FF8-9F00-4E2B-BAC6-0CE93AA1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6064B1-134B-425A-8DFD-6D824CF6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D57ED9-EA06-4CD6-BF27-04E4840C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D33DF1E-B549-4A61-B1BC-C6B83DEA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2320-73D6-40CE-886A-52D4C4B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5DD055-0538-4163-8F81-6BB71E1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9BF506D-7BDE-426C-A93D-3BA75F7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7B29C4-C44B-40BA-B77A-A1EB1031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0EB0DD-8F78-4C93-B588-5C065115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52A1C8-60DE-493A-8390-110A8CE1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CA72316-2DEE-42BA-AB00-6A60D8EF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A3BFB3-0FE9-408A-9365-3A3EA98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D58F8C-2E72-4C62-8A11-1A73A2C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B6CC871-59B4-44CA-A6E6-C3F3092B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BB29C5F-CB7B-43C4-BB54-8D1BBFAD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89AD-4DF1-4633-98FA-E083362A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28026D6-97FE-4255-A6F5-6C1D83CE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D7115A3-BEB1-48CD-8D24-694B6781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DAE205C-1937-43BA-9B87-496F3375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4A960B4-756B-4630-9A24-DEF71B66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D7B88D-7AC6-4D63-93DB-66B5089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EAA6427-862F-45AC-A93B-5C700BB0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21BA299-F950-4A77-B69D-16885BA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3403B67-729E-4AFC-9CDF-5ED1B6D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5BC1CC1-BE91-4107-882F-2705B72F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DAE55F4-FD78-4745-99E8-A2BD8B2F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CD94C-78BE-4A6B-83AC-6808DD9D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611BBA3-A006-4656-9D09-828F3AFF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B67F827-B3BE-4637-AC9A-D5E7EE70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9DC1A12-797A-4BA9-A591-AFFA3717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7B94190-967F-4581-8A17-5B302387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82B010A-5AB4-4F07-AF8F-D2128B7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976E428-0C75-4C55-9AC7-123072EA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346078C-CC3B-48D6-8612-C9DD7A33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D3F269B-B8C2-4682-A1EA-49DFD2BE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3076A7-09B4-4F1E-90BC-2DD1E05A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5D1C654-27E0-4018-9762-40965E9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6E6A-4BF8-4DA9-813B-08EB0E37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71C69FC-6317-4EC5-8E72-5EFF35A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FDA84F-C51D-4B1B-A9A5-F9F715F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60DD79F-F07B-45B2-AB57-F03855F8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5175A3E-9CEF-4C5D-A786-16E7D599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8E8257D-7411-4E13-BD3C-D797A11B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C9AC7D7-7EDF-4458-8E52-5D612205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DB8B9D-AD3D-468E-BC4E-0E19ACC7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50F6C07-AEA7-4275-92CE-8372D9BD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516EF1E-7BBE-40A7-8118-6F9D13D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64C4582-0DE0-4612-92DB-7FC119EF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52751-B45D-4F0D-92B7-E46230F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E19A608-4B42-4520-B1D9-3F83366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27F359D-80EC-424A-9B0A-D0D128D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E3A0BC1-48B5-46B9-8975-8A7F445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2D4D199-184B-4EF5-A076-870D880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724F708-FA72-4858-82EF-1C490C4E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3838277-5BD2-48E7-B555-A6B5EF0D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37DD9FC-0751-4E88-B2C2-9C8BBA92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C1FAEFB-E31C-4F43-AAAD-4D7C02FC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272D84D-1B38-4D62-9105-08A2FE7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8EA4A8-C136-4C85-BD8F-4AA2BF5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3BF8F-040B-4102-B533-D530F251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BCA047D-E499-4F5D-91F3-3C0FBE37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61F6B10-0A70-4818-9081-892179B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C5FED6E-A644-46BB-9BD4-9A69FC4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30A739F-E13B-4CB4-89A7-7E76836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B9271C6-8405-41B5-B11F-B21573D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592690D-2BF8-45AD-A8B2-8FD3973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C8CABC6-1EB3-4294-80ED-9F97FA50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5B8FBFF-D816-45BE-9225-8644CD0C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71061AB-CC76-4831-81BA-B28130AE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BF2E941-EA01-4535-848E-812CC490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90A2-7F30-49AB-893F-8ABB935A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DCF13B-4198-4334-AFE3-3B49176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5178973-BBA4-4D08-B80F-1D31B51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3D9EB33-5C22-4442-ABC0-A5F95D6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939627C-702A-433B-BD66-4D4D0E1A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FA923A8-485A-4F78-9C85-C2C90CFD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F8714DF-50D5-4469-B9C3-1170F5C1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E6FF6BD-3A20-4E52-BA68-8E21985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56C19AD-BF00-469F-8E58-0645E0F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6F092CD-2693-447E-B5DB-E56E3551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C184914-26E7-454D-8906-CCA34FDE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5708-EA32-4284-A0EE-6185E5F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D3E5EE6-73B2-4ED1-9BCD-CFE0ABD0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F559B2D-B9F6-43FD-88B8-B404E635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17132F-D51E-4E39-98E2-9646D43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8FD1A3-5447-4EE5-A69A-1D38ECB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DDED8C-FE1C-4163-8715-6B4C272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0F484D7-B1EB-4B69-973B-1B3B694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EDCDD1A-2860-4F8F-955C-9EBE6240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AA37FDE-DA0D-42B2-8D58-D6AA677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9B6960E-B489-436E-A9F4-A8E74CB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BA6DE56-F82F-4319-8E4D-D885EDD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BA26-854C-4BA2-9042-B135392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533BBBF-36E6-47F9-BE40-C7D27BA0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627C560-C59D-4435-9293-C23E63F6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14E6F8F-0864-41E7-8AF2-974D17A6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C80B668-76B5-4D79-8E56-5EF5F7E2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B337C98-3715-4D12-BCFC-0CE7B65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8CD11D1-8FB5-4A4D-AB45-514513E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75DEA8-BE3E-4555-8662-BB04758F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594ACB-3BC7-49B3-AFA1-9816381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C6EA993-62A8-47D3-B6D7-80221664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3E29FED-F53D-4BAE-BAD4-0BE8BCE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ADB-C5C7-4929-A9E8-2D6B280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BC97-7362-4A63-BB47-E7E00AA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7E3BE20-462C-4963-98CE-341E7A5B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A162842-CF5B-40C0-B6AE-9ED4991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10C4BE3-1DBA-4EF4-9DC2-0289BC4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E2984F2-8C26-4E62-9E9B-90F5B35D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D006424-573E-448B-9BFC-636AB26C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2609308-E886-4E91-9945-D0B58B46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38DA943-C58E-40EF-B20E-22E3172B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8ACC2AD-2835-4E3D-96A6-D4A2E57F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9AC410-12CE-426F-867B-36172069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5FA5292-B9A4-42FD-BA6D-F156C13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392B-6A4D-4017-9A2A-8C0E343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FB6DD5C-E87D-409E-91DE-F50E9E19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F8A5056-C604-427A-8199-943CA91C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D425901-950A-471A-93A3-75355B4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01AF7A2-E1E6-4E60-BE45-FE0956A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F54466B-20CD-415A-A7B5-2B9E6443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11A56E9-E98E-4050-92D3-574499BA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30563D3-CEA1-4D20-9DC1-FF8FEC34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008148-7DCC-4FAB-AE36-242C2E8E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7266ED-066D-43E3-9245-F961A5B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60EF030-1C09-47F2-BD71-4F57FCEF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DCD74-6828-40F5-918A-E605FED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8A20ABD-468D-41CD-8E74-F4AD7B8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5BF5F91-5EA3-4285-8B8C-E7730771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B185682-6E32-409B-A8BF-AB47C7B6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92A33C7-501D-4186-AEA7-B1AAA36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85FEE2C-01F9-4EA3-A518-76A16F5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C85F5CE-D258-4594-9F69-90FBFAD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3ACE6B1-AD76-4B54-8C6E-AFBB688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7E1138F-AA0D-4049-A090-3EA4D72A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FDA6D55-38EC-43AF-A23F-701F17D9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6B11821-85C2-4AA9-9CD0-2AF10ED6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3551-2F73-4B87-A0F1-2362327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2CFB34E-8EF3-4632-B3BB-A9DAF90E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E0BF157-933A-4446-BF3F-041A300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300DC4E-66B9-4761-A8A2-F09865F4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3B996DB-BE62-47FE-BBF6-F218FD0F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2EFC8B2-6AA8-4887-9915-A4C5E9AE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E6E661-E782-412F-9DE5-06968E6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66BECE0-8BF5-47E0-99DC-45084F8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B30E902-5B62-4665-B051-80E2F3D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FDCE55E-6D70-4BE6-9F4B-F7A7E118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ED41768-4CF6-4C86-8B86-A999A665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C0F9-0065-4F2B-8268-B6BC76DB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BB14C6C-96E7-49BC-943D-4A20A27D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EF927C1-C81E-44DC-9940-ED329200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F6842EA-DCE5-4999-B3EA-948656E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EFC6307-4FEA-4EE6-86B5-371BCD84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DBEB7F5-E609-44FB-8AF0-708E6789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B51200A-2152-4AF9-911A-B2A13B57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138C38-A242-4634-9BD2-B8FAA46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97A3D72-7203-4656-A69A-F5B311F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6CE0F6B-7D12-4432-B0B0-C008E24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BFE02C2-8738-43F3-A88A-79BE91F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44596-B9DB-46D0-8285-B175E29C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6EA6A2D-0DE4-439D-BCEC-513F7501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E37524A-0150-4461-8EC2-284C2CB8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0028AAE-0FB1-443C-8DD0-0C041096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72D7B84-3E02-4FC5-BFA0-A4B55107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7DB2D40-2189-4CE8-826A-C71F493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1476676-0BB2-437E-BA9D-0B22079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BEB8A91-4F74-490E-AE9E-7A94FEE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15BE09C-0D3D-41F2-9F38-35D1AEA3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5D1AA01-5912-4DB1-972D-2CA40E7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61DF3EC-9730-45F0-9BEA-5A8F9A0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1D014-7D50-4C35-9D73-99F42333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594DAC6-9109-480C-8A4E-82144D3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27C034D-D07B-4C5D-B3CD-55200B2B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72E5B35-64DE-4547-946D-64A324E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8EF4622-2554-465C-9422-3F4ADDFB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2163573-F988-48D5-82F9-F962EA79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E7E64EB-9B13-4804-806F-307F92A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D2036AC-2B57-47B8-8004-CBC197E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DBCA4FF-C5B7-497F-A163-B6708B2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3F1F31C-A7D4-4887-9B32-FB52D1F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13CFCD8-1352-4B55-8107-0127F35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D5EB-3AB9-4803-B5CB-48DCAA66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B417372-967E-44BA-BBD8-E9D3E6A0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7E6DB2-0221-4BFA-AFAF-AF8B9F1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69AAD0E-B4C1-4B00-AE0E-567CD4F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C0EABF2-45CA-4856-BD26-BA9CD5E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6A13640-2979-4B6B-9BC9-4DF5214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1A08F40-5DAD-4D92-9BE9-B2DE1F0D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F303CE9-4EB6-4A2C-9B6D-06028352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5DC96D2-76EE-4CF0-9270-385A7AA7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CBCC6D-9E88-4222-8933-AAC2D882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0B13D91-55A9-46A9-9944-31D0969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CF3C-EAC2-4B5A-BEAE-5825832F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2268149-AA3E-43A6-82AD-4BDCCD0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110D79B-9593-4AC4-AAF4-7BBAF15A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B65EFE0-343A-4D45-B648-0A9DB59F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9CBAAEE-04CF-4E50-B69B-DC2AD39D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04BA2B8-FF5A-40CB-AD27-FB24C52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81286A5-6A84-4FF6-8FE9-8A09E09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27FCA0B-1AE1-4F19-A823-01DA078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F5EC030-1ADC-414E-9EB7-EEF54AA4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AC8EE4C-6CAD-4AD2-A74D-8FB5DBFB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AEC8DBF-2B3F-4DD3-9CCD-B5E2E9CD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BFB7-2656-4F96-89C2-BCBD9DEE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86C8BB1-3A71-4B8C-920C-653AE37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6EEEEA1-D35C-4427-8722-CF300F6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4B1C00-C1CF-4907-A036-51DF63AC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3311877-D96E-42A3-9F88-DDE5467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7DF64BD-6C06-462D-B1A0-1F48EBE8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3467E0-C7EF-48F3-848F-DB1EA1A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603A7FF-CD77-40C3-95FD-88162650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EAA1F99-9458-4AAA-9518-A5C2B73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7B4554A-5F70-4792-8379-56FC611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65F61C6-46A9-4D09-B84E-04C0478B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33B-3D06-4E14-AA01-88F51DE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2D733-7F5B-4D7E-B3D5-3F9EEBD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42324E7-FCC5-4FDB-8B66-F183ED26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A0EE316-A0DC-4443-A072-E1404A3D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150929A-C341-4BAD-AE8D-FFF2853B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6C18D68-F6FB-4D33-8295-7875F04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D26F16A-E4C0-4B3D-966E-23CB66D4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EDC6889-08B6-41C6-97A7-C1BF3AF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8D3578D-694D-41B4-835E-45545517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D7CBBD-99A5-47E6-A364-5FBF82A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BBD7669-F218-4B9F-B353-BB860D12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1D989EC-DD1F-4648-A775-E39DCE3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85D46-8A50-4B1B-B8BA-2819F267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A0C87AD-57CB-4456-B9F0-DC11097A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4B1106B-7323-422A-92CE-F9B7E612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F611EA-38DE-4866-B8E5-45D0743A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B2D4966-5619-4689-A32B-2870F288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1A3CC59-E923-4989-8F8B-BA779851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76D57F8-9965-4228-B2DA-04F16AC2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2DD3CCE-6FD2-435C-BE41-EDE4A6D3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3BF664B-3C2D-4784-9573-34415AA5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F77A8A9-E598-4CBA-BE8F-BDEC5886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0B806D2-3140-4652-B57B-5FF5193C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3A0C1-71FC-4EB5-A2F8-1697D5B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3026AC8-F123-4F30-BD6F-958C0F4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0538B84-18FC-4032-98D6-534E508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63304E4-1142-42B8-8802-7590DFCB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6D79EED-0B87-434F-BDD1-9970A2DE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87CD23E-1F4A-445C-8054-F0D4A1EC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40D6781-4FED-43B2-9557-1FC64F02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050C168-A56A-4A31-889C-FF8A10A6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1A34636-A9B5-451E-B7A1-5F9B653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02AD3BF-4F26-4C21-8C43-BF44D59B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623D188-E690-49A5-A8D9-5D31244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769DA-5D84-4F8B-A191-6FC207DD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9F15290-AE9D-411E-8EE2-E0CE2002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A647D83-D43A-455A-A7BC-5C574D8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9C9F9F1-7E0A-4385-A0F5-04BFF27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DC7491E-23BC-4BFB-986C-FD5372E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363B0B0-4A9D-4BE9-9DCE-35C635E2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5724FB2-9131-4AF3-AC6D-088F9ABA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E53690F-CBB2-4AC4-999E-65C2BEC4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4C30419-02F3-4FC8-BBB9-B87D3831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86D5FA0-9B9F-41DB-A09C-04B40252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2FDD6D9-34D1-410C-80A2-713BFD1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FAF3-69B9-49FB-B8DE-C713B3AD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9882120-6C2C-4C39-80C3-F46DB55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BB2749D-4D5E-4F4E-AC01-96EAFDC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8E84773-21D0-4C12-9CFC-C110503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CC9599A-8454-4E2B-9957-BCCCEC2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B2B5259-4039-4819-BE20-0B3142E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CDE18CC-1B86-4C9F-A413-6478A16E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97C13E5-8C1E-4B7E-967B-7142417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20BF956-8A9F-43F9-8252-B7BC7BF1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E15DDDE-AB15-409E-B32C-6F083224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D5360F2-19C1-4A10-B276-5C7E2024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8208A-2FAF-47B4-B15E-0AAA2643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EE5A3E6-CB8E-4469-BFEA-EA8ABBF7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8C9A296-F8AF-4A04-B98F-0DDAB58B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6DD8179-30FC-4CB6-989F-C1ECB8E4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A3E5F73-4225-4AC6-9C35-5C981D4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B89B774-12EE-4F46-BE62-C484D04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F3926DE-1358-4891-BEC2-26B3CF8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0E36442-091D-4952-9DEF-6046826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9D3E4FA-D715-4BE1-AE90-9ABA998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A3A7B86-EA0D-4777-9EDE-81A33B26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33AE657-46D0-40E9-9DA8-ACA75B42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8AFD-B3D4-46C4-8BC6-B7C064F1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85FC80D-34E3-4A64-B93F-C56C9198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655E35B-3C92-4A8E-BDED-289E0724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89343C3-DD08-45E2-B1A2-79FE162D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53CB900-0690-4E5E-8C96-CC550E8B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9CC4BC0-CCF9-4236-98CE-A39C5A2F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25E6AC6-EC24-4076-B70F-8C66C659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2F243AA-A136-4F5F-8A30-ECCF9B3B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60F028F-E37F-4BE6-8E3F-C55B1CD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862506D-CAB0-41AD-8124-044A8BD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870C703-BD2A-470B-80BF-CBFF2045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60CBB-109B-448E-9C57-D44F0561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C487E18-C0FD-4862-B7E5-94DCFC4E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792A5D8-FEA8-4E3B-9B13-09A9220A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A3B94BE-F02A-4D3F-9CC5-C7E5F1C4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4C5E7EA-0559-4D12-B618-C843B6B1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C600C0C-CD17-4273-AC8A-70495EB5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8E9460D-00D4-42F5-9220-32AAFACE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A392AF8-CFAE-4D43-8BE2-2CB5591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E07836F-1A51-4886-AD2E-80CDFDA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6CE2B86-B029-49A5-81FF-73D5E47C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F3297AA-0472-4372-AB12-F92BE17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E2E7E-94D7-4FE2-A11E-D2121007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45FAFF1-468E-49C9-8C6E-F3E695A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12D7ADF-9DD3-4472-B32C-E78D47D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B25673E-F947-4A2B-BFF8-72F0F90B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1FAB5E7-7AAA-4572-A2CD-B2447DA9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C4C4A4B-4EF3-4E07-B63E-7C2C1F94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9C22334-3B34-4CA1-BE24-B7215E5F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0CA186F-74EE-49DD-9AF1-194C68E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3C1CC5D-3CA3-46D5-92FC-40612865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95E0D83-9C8A-4118-86B8-4B521C97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C05FB9C-C6F8-4BD1-94CF-88C10DF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9898-1A16-4C1A-A884-670109C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D33A6F1-8FFD-4B95-9206-D4175A15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6280AC4-B5D3-43A5-A577-AC819FE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56BED8E-279F-47AF-8BDA-6368E9D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624092F-FF32-4A0F-8031-7B26538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95E5396-E7D4-4B2E-B0CD-A8B7DE5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BAFC28A-81EA-4055-BD1E-981C0F14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4C98E63-78BE-40DB-B72D-823E82F6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B4D7B91-643C-43CD-8769-6E6F78F9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42D0686-8DEF-4766-AC21-E5F6E341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DA674DA-BA27-45EF-BC0D-5C44D7E2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BF2-9F9F-4EEB-B059-9CBED5429F9A}" type="datetime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81A-3D48-4A8D-BBD4-5C947AAC7701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9BCF-88FA-45A7-9A9F-09851B057FD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42F8-6EE3-448B-BE08-CDDB9D951F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 type="dt" idx="2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C797-D743-40A0-9E3A-7792FC31BD7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 type="ftr" idx="2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1" name="PlaceHolder 5"/>
          <p:cNvSpPr>
            <a:spLocks noGrp="1"/>
          </p:cNvSpPr>
          <p:nvPr>
            <p:ph type="sldNum" idx="3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3256-D763-4A31-9EA1-27834222E0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 type="dt" idx="3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76D9-18BA-48F7-ABB6-3048EA81782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 type="ftr" idx="3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2" name="PlaceHolder 5"/>
          <p:cNvSpPr>
            <a:spLocks noGrp="1"/>
          </p:cNvSpPr>
          <p:nvPr>
            <p:ph type="sldNum" idx="3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264E-B8C4-4F19-BF23-02598EC711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 type="dt" idx="3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FA66-FD6A-435A-A2F6-C8224DF38BB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 type="ftr" idx="3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3" name="PlaceHolder 5"/>
          <p:cNvSpPr>
            <a:spLocks noGrp="1"/>
          </p:cNvSpPr>
          <p:nvPr>
            <p:ph type="sldNum" idx="3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977-5A5D-4138-A804-B36110AA58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 type="dt" idx="3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8065-9B35-456B-97EA-46894A69B77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 type="ftr" idx="3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4" name="PlaceHolder 5"/>
          <p:cNvSpPr>
            <a:spLocks noGrp="1"/>
          </p:cNvSpPr>
          <p:nvPr>
            <p:ph type="sldNum" idx="3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6CF1-5D49-4DBC-A6C7-5B0AB1746E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 type="dt" idx="3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00FE-0521-4552-A67A-322CF044B62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 type="ftr" idx="3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5" name="PlaceHolder 5"/>
          <p:cNvSpPr>
            <a:spLocks noGrp="1"/>
          </p:cNvSpPr>
          <p:nvPr>
            <p:ph type="sldNum" idx="3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4FC-DF24-40BF-9DDF-D917CF0FA2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 type="dt" idx="3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A3C-1990-4F06-9187-C9FA403076D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 type="ftr" idx="3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6" name="PlaceHolder 5"/>
          <p:cNvSpPr>
            <a:spLocks noGrp="1"/>
          </p:cNvSpPr>
          <p:nvPr>
            <p:ph type="sldNum" idx="3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60A7-F86D-446B-8CE9-FAEAC79804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 type="dt" idx="3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1425-4AE0-4858-9177-2B1B4E4CD78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 type="ftr" idx="3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7" name="PlaceHolder 5"/>
          <p:cNvSpPr>
            <a:spLocks noGrp="1"/>
          </p:cNvSpPr>
          <p:nvPr>
            <p:ph type="sldNum" idx="3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2C4-882D-4F86-B546-2BAA500DEE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 type="dt" idx="3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4523-B7C0-45F6-9888-E61E70FCBD2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 type="ftr" idx="3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8" name="PlaceHolder 5"/>
          <p:cNvSpPr>
            <a:spLocks noGrp="1"/>
          </p:cNvSpPr>
          <p:nvPr>
            <p:ph type="sldNum" idx="3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6E71-3C87-4278-8676-705C06BA60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 type="dt" idx="3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8A8-968B-4167-80C8-E4D2DF1D32D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 type="ftr" idx="3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9" name="PlaceHolder 5"/>
          <p:cNvSpPr>
            <a:spLocks noGrp="1"/>
          </p:cNvSpPr>
          <p:nvPr>
            <p:ph type="sldNum" idx="3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24D-D1C6-44F9-9D12-1504D4FA83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 type="dt" idx="3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1683-28F2-4F54-93D8-BA887D00EEA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 type="ftr" idx="3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 type="sldNum" idx="3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72D7-5D3A-43A9-A1BF-058C185CDA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D4F9-A300-447E-9A12-473E2050B3A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4D3-8E14-44B1-99D3-51780D7E53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 type="dt" idx="3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2636-49EC-4BB2-A23A-85861C1B216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 type="ftr" idx="3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1" name="PlaceHolder 5"/>
          <p:cNvSpPr>
            <a:spLocks noGrp="1"/>
          </p:cNvSpPr>
          <p:nvPr>
            <p:ph type="sldNum" idx="3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85F-A7D2-4854-BC94-FCF22D317D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 type="dt" idx="3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209-EAD9-4EB1-8CD7-FC726A9A951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 type="ftr" idx="3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2" name="PlaceHolder 5"/>
          <p:cNvSpPr>
            <a:spLocks noGrp="1"/>
          </p:cNvSpPr>
          <p:nvPr>
            <p:ph type="sldNum" idx="3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7ED1-CD7E-47C4-8D54-E6C5A24E66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 type="dt" idx="3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DFC-34BF-4045-A5DF-F88199A004C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 type="ftr" idx="3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3" name="PlaceHolder 5"/>
          <p:cNvSpPr>
            <a:spLocks noGrp="1"/>
          </p:cNvSpPr>
          <p:nvPr>
            <p:ph type="sldNum" idx="3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38E-C526-4FB4-B45F-3AADCDF96C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 type="dt" idx="3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109-4A46-40FC-89E3-1CAD663A174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 type="ftr" idx="3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4" name="PlaceHolder 5"/>
          <p:cNvSpPr>
            <a:spLocks noGrp="1"/>
          </p:cNvSpPr>
          <p:nvPr>
            <p:ph type="sldNum" idx="3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93F-03F3-4ABB-B299-2EE893DCBD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 type="dt" idx="3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981-AE83-4D20-8941-FDA258AA22C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 type="ftr" idx="3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5" name="PlaceHolder 5"/>
          <p:cNvSpPr>
            <a:spLocks noGrp="1"/>
          </p:cNvSpPr>
          <p:nvPr>
            <p:ph type="sldNum" idx="3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044-0064-4F9B-8B85-28D4277AC4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 type="dt" idx="3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8B7-8228-4940-8F50-BE699639458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 type="ftr" idx="3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6" name="PlaceHolder 5"/>
          <p:cNvSpPr>
            <a:spLocks noGrp="1"/>
          </p:cNvSpPr>
          <p:nvPr>
            <p:ph type="sldNum" idx="3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781-5D66-413F-9E90-7FCA9357A0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 type="dt" idx="3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0B29-C419-4CDC-9843-0A2498E9B8D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 type="ftr" idx="3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7" name="PlaceHolder 5"/>
          <p:cNvSpPr>
            <a:spLocks noGrp="1"/>
          </p:cNvSpPr>
          <p:nvPr>
            <p:ph type="sldNum" idx="3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DCD2-7556-441A-A4A3-F4A24AE183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 type="dt" idx="3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6D6-17EB-42AA-A932-CEDAEC127F8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 type="ftr" idx="3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8" name="PlaceHolder 5"/>
          <p:cNvSpPr>
            <a:spLocks noGrp="1"/>
          </p:cNvSpPr>
          <p:nvPr>
            <p:ph type="sldNum" idx="3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A54D-802C-495C-A895-A5C99844F7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 type="dt" idx="3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D48-1720-461C-9E93-035CC55270C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 type="ftr" idx="3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9" name="PlaceHolder 5"/>
          <p:cNvSpPr>
            <a:spLocks noGrp="1"/>
          </p:cNvSpPr>
          <p:nvPr>
            <p:ph type="sldNum" idx="3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6300-6E6D-4B5C-BA1D-7E7BE3863A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 type="dt" idx="3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0C0-B0FF-4FB2-A666-4B97578BE65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 type="ftr" idx="3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0" name="PlaceHolder 5"/>
          <p:cNvSpPr>
            <a:spLocks noGrp="1"/>
          </p:cNvSpPr>
          <p:nvPr>
            <p:ph type="sldNum" idx="3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933-6C04-4752-A224-539D19997A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8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FC89-64A5-40B5-99DA-5DE744B5079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B48F-E953-4305-8C57-9E30113CC9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 type="dt" idx="3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F189-A4BD-4024-9C1D-74388C0DC4D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 type="ftr" idx="3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1" name="PlaceHolder 5"/>
          <p:cNvSpPr>
            <a:spLocks noGrp="1"/>
          </p:cNvSpPr>
          <p:nvPr>
            <p:ph type="sldNum" idx="3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DC70-8472-4202-8616-E54DE20F81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 type="dt" idx="3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46E7-1E69-4687-83D5-A0A86053D8A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 type="ftr" idx="3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2" name="PlaceHolder 5"/>
          <p:cNvSpPr>
            <a:spLocks noGrp="1"/>
          </p:cNvSpPr>
          <p:nvPr>
            <p:ph type="sldNum" idx="3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2CC5-0C5F-4B83-9FCB-21B0C4EA0D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 type="dt" idx="3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A1C-CE55-4655-82BB-63DAAF33726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 type="ftr" idx="3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3" name="PlaceHolder 5"/>
          <p:cNvSpPr>
            <a:spLocks noGrp="1"/>
          </p:cNvSpPr>
          <p:nvPr>
            <p:ph type="sldNum" idx="3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3EF-7D36-4D18-A1D0-A539707362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 type="dt" idx="3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5121-4878-4B3F-9ECC-FE5A92193FB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 type="ftr" idx="3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4" name="PlaceHolder 5"/>
          <p:cNvSpPr>
            <a:spLocks noGrp="1"/>
          </p:cNvSpPr>
          <p:nvPr>
            <p:ph type="sldNum" idx="3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8495-716B-404C-ABAF-2ABBDFF789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3324-313F-4DAA-A712-CD19CF540D5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DD8-4E04-4E35-9734-BB274F802C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6C3-6D83-471A-A239-113655CBFAC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A943-E888-4AD2-86C9-4B593D4DEB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1D17-0BBC-4729-AB07-6E83CC67B20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21E-0F6F-4E42-AB83-8691F3BE35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0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82C-0270-4F5E-BCE8-248AB6F8374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7FCC-562B-425D-AB20-F4FE08CA22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D178-0CC4-4913-B1E7-4B59D1FAB68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6C4-7550-4375-B28B-FEE0371005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D6E8-B417-45DF-871B-24644380771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79AC-F999-499C-BF19-B3B5D45FA6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7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D6E-5EFE-41E1-B864-17535CD445A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517-6218-4729-ADDD-FF933E61A8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8B33-F8A8-4328-9EF4-BFB40AC8548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1C6D-7D21-4D1F-BED8-05F0EA7872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2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FA97-F618-4A4E-8FE6-F70CCA5ABE2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8BC-467B-4E46-AC8E-F6075266A2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8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4D52-F9B3-4823-901C-B4CAEAA8AA9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99E-570A-44CD-B89A-14C618F213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3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7516-52F1-48AA-ABF7-273F86CF7A2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59CC-23A5-4C0B-86B2-7F8932F73E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809-6CCB-4409-9FA7-72A567D64C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0E68-3F5B-4B16-BBAA-7FBF9B2E59E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4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055-300F-4EEA-AE82-8FB34E500F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88BA-4EA6-4EE2-AF73-0CE6357BFDB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9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C50-FFB2-4303-BB84-CB82795482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8A5F-478B-4C07-9B54-C5D17051232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0287-7277-4C96-AD54-4234D2D2AD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 type="dt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18DD-1B7D-4CC8-A3AF-89A76F30063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9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F57-8CA6-46C8-B336-10DA555A30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dt" idx="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E6A-3B40-4332-B325-7172CCB64C6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B333-C275-4DAC-921A-48B9AD4F13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dt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ACFB-B7B5-471D-9E05-E187469F963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9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2AEB-6B8A-463A-8086-E501EAB0E7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4C7-D6C6-403B-84AF-FCE18FC59AC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36CF-1EF3-4054-84C6-D98E52A087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F5BD-F852-4AB1-A086-1E29693F211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1F92-69D9-4C84-A938-EA50F8F76B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F70-AC6B-429D-B3F6-A021F5EAEBF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9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BF14-26CC-438F-BB4A-2B10819C80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dt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BE62-92E7-43C8-AE9C-AB480064347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03E2-F0AB-408D-88D6-646D1F2372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dt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DB7C-8035-4A7F-AA3A-9F219B4EB05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CA8-29A4-4320-B6C2-250A3058A7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dt" idx="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4449-9765-4473-9CF5-3F305B0CFC6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ftr" idx="1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8EE-DB00-48A4-8744-11C6CA05EF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dt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80BB-A416-4B6C-9DDC-81B39D1A27B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 type="ftr" idx="1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AE2B-F795-47B1-A4EC-C818154808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 type="dt" idx="1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C17D-34BD-4C91-9FEF-B98C83C04F8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8347-5878-48A1-B15E-887FE7CCDD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dt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698-0090-4777-B0B4-403DE0A3D81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0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sldNum" idx="1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ADF0-9099-442B-BE3F-B4E9688910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dt" idx="1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B3D8-A08B-409F-AA91-DEB05DB32AE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5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 type="sldNum" idx="1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DA0E-3D5E-4B45-B509-D9E629EEE8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 type="dt" idx="1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BF81-83E4-41F6-8782-E786D910202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 type="sldNum" idx="1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E463-D302-49A0-8412-4FA5115F69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599E-DF8C-4FBF-BCF4-25AD494D4FA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BFED-70FF-4559-971F-0780006F3A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3E6-B989-45CA-B51C-4CFEC25EFAE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sldNum" idx="1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037A-E3F2-4B09-8DD6-A28F184F8B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dt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203-9304-44E0-8883-17EB75E39DA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 type="sldNum" idx="1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302-1B69-46AC-9E51-7ECAF69195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3BE-4BE5-402A-9122-6FF4E2B2F13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sldNum" idx="1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28C0-B411-464C-B66A-6CDA87035F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dt" idx="1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C0DE-9775-4963-AC37-838CCAFCEFA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 type="sldNum" idx="1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08F1-FAEB-45AD-BE21-9D84E6DAED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FCC-4616-4506-B2C9-8828FD0546B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sldNum" idx="1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5886-DAE4-46B6-AF13-BF22FD67E2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dt" idx="1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7547-D5A6-4ECC-BBA6-63D9DC3F279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sldNum" idx="1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FB28-FAB1-4165-8453-ECBE4D8E55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6FB-76BE-46FF-8143-A1BD252C976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sldNum" idx="1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97BC-7F04-421E-8820-61C237C15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 type="dt" idx="1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8C0C-0048-4F08-B1DF-3DBB4ABB3DF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4035-29BB-4CD2-ADB1-0D43C3EA687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0D1-37EF-4DEC-B0E2-58B3602FD8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EFB-D81C-4BA3-AD15-DDAEA826A75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9F1-9BEE-4E41-BB62-B94B21E6C1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2277-5800-4A58-8856-D2D96CEC3BA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DF8-2E9C-4EF3-8FCD-8A00B94CA4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669-19FD-4D67-8A30-276EF451728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1B09-7C22-4216-A846-635E951D47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7037-7B23-48C1-B803-E7F94CDEEE6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B85-6FBA-4EE7-8C76-EE45FCF83E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94B5-7FB1-41BC-AD7D-4B39A645216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6F92-A3A9-4883-9530-B530B97C7E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12C-6159-4685-BDF9-4BC366C9462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777-2389-41FC-A47B-206ADCEC03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E5B0-40D5-438E-9FA6-C26C6EB1B11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 type="sldNum" idx="1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4849-BA58-4029-8367-D00B90A80B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CF4D-D5BC-4A13-B7BD-E3BCF94092A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5"/>
          <p:cNvSpPr>
            <a:spLocks noGrp="1"/>
          </p:cNvSpPr>
          <p:nvPr>
            <p:ph type="sldNum" idx="1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C26-4B41-4A00-9F6C-CBFBFCE7CA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DCF-BE81-4916-A8F3-863DFF6183E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5"/>
          <p:cNvSpPr>
            <a:spLocks noGrp="1"/>
          </p:cNvSpPr>
          <p:nvPr>
            <p:ph type="sldNum" idx="1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0DF-7EEF-4112-B9CB-DC04274549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E1C-D073-4F25-A376-61C6B941AD4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0C7-322D-4670-94FF-BCB507B4BC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FE7A-95E4-4AA9-8D0F-553CE25E3C7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D5B0-CADD-4C4E-AB3B-351E46AD53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C34-26F3-400E-AA76-F1C383DBDC4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 type="sldNum" idx="1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3A10-2290-4EBD-99FE-04D82841D7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9581-E70D-4DD7-BE09-4E275B35B19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5"/>
          <p:cNvSpPr>
            <a:spLocks noGrp="1"/>
          </p:cNvSpPr>
          <p:nvPr>
            <p:ph type="sldNum" idx="1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F92A-1D70-44D6-8614-A73984CFF1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8A05-9B51-4B4A-A8F3-FEC3827D866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AB3-59E5-471A-BDF8-90C4B8759D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524A-BB88-41F3-8296-43AF4055280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4CD7-C67D-4778-A0F8-DCCE63FD20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D099-B407-47DA-8822-E491AF77E70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A765-DA98-418B-B27D-9612D37A6D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3B6-200D-4C10-8438-73F8CDD4A32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CC0F-66C8-4C07-A77B-69F7919E96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F915-32C5-4544-A56B-44BDDD48887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FFD5-6ECE-470C-B33B-0DF6AFE61F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AC1-3DCB-4022-8D55-70F950B3323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056-9349-4420-8A17-61AC6F1D93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 type="dt" idx="1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9787-8E80-4E2B-863F-D08858B095B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 type="ftr" idx="1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5"/>
          <p:cNvSpPr>
            <a:spLocks noGrp="1"/>
          </p:cNvSpPr>
          <p:nvPr>
            <p:ph type="sldNum" idx="19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6AB8-8E7B-4305-BBA5-C369CB24C7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 type="dt" idx="1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8BC8-C900-41BD-8B0C-72E164DCBBC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 type="ftr" idx="1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PlaceHolder 5"/>
          <p:cNvSpPr>
            <a:spLocks noGrp="1"/>
          </p:cNvSpPr>
          <p:nvPr>
            <p:ph type="sldNum" idx="19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02DC-08BD-4D0A-B7CC-25A1A88274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 type="dt" idx="1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68F9-333F-4010-A369-5AC3D51B2C6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 type="ftr" idx="2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5"/>
          <p:cNvSpPr>
            <a:spLocks noGrp="1"/>
          </p:cNvSpPr>
          <p:nvPr>
            <p:ph type="sldNum" idx="20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7AA-37EA-48F9-A238-2181092AA5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 type="dt" idx="2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D8F-49C0-4375-AC2E-E752D8EA1BB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 type="ftr" idx="2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5"/>
          <p:cNvSpPr>
            <a:spLocks noGrp="1"/>
          </p:cNvSpPr>
          <p:nvPr>
            <p:ph type="sldNum" idx="20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ADF-482B-4ADA-8ED5-A66A0ED51B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 type="dt" idx="2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D087-8BBC-442C-AFFA-C3B5C026134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 type="ftr" idx="2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5"/>
          <p:cNvSpPr>
            <a:spLocks noGrp="1"/>
          </p:cNvSpPr>
          <p:nvPr>
            <p:ph type="sldNum" idx="20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8EA-3C00-4E8B-98D7-6F9DC1CF20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341D-BAD1-4242-A125-D3DAFDBD3D3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4F0B-F40A-4EAB-8C8E-C257DD75D2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 type="dt" idx="2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096-00CF-43FB-919B-F7A4D992953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 type="ftr" idx="2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 type="sldNum" idx="2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D0D3-3BC4-4667-814D-05899A13BC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 type="dt" idx="2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6848-C363-4BD4-80F4-D324B3E5EF7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 type="ftr" idx="2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2" name="PlaceHolder 5"/>
          <p:cNvSpPr>
            <a:spLocks noGrp="1"/>
          </p:cNvSpPr>
          <p:nvPr>
            <p:ph type="sldNum" idx="2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C201-775F-45CE-8A5A-72EC3AAF5B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 type="dt" idx="2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8CB2-897F-42D3-8ADA-2BB0D9EC3AD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 type="ftr" idx="2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PlaceHolder 5"/>
          <p:cNvSpPr>
            <a:spLocks noGrp="1"/>
          </p:cNvSpPr>
          <p:nvPr>
            <p:ph type="sldNum" idx="2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2DEA-11C8-429A-95E4-39D5D363CF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 type="dt" idx="2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F295-67FF-4FCC-A2A0-44D2CA44D54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 type="ftr" idx="2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PlaceHolder 5"/>
          <p:cNvSpPr>
            <a:spLocks noGrp="1"/>
          </p:cNvSpPr>
          <p:nvPr>
            <p:ph type="sldNum" idx="2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812-8E6A-4F22-AE17-73BF930CF6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 type="dt" idx="2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990-74A5-4AF1-BE27-D6AD8CDC208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 type="ftr" idx="2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PlaceHolder 5"/>
          <p:cNvSpPr>
            <a:spLocks noGrp="1"/>
          </p:cNvSpPr>
          <p:nvPr>
            <p:ph type="sldNum" idx="2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09FB-8D37-445C-B04E-452C395B91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 type="dt" idx="2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B2E6-7B74-45B6-AB60-6A9A5C4E5E9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 type="ftr" idx="2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PlaceHolder 5"/>
          <p:cNvSpPr>
            <a:spLocks noGrp="1"/>
          </p:cNvSpPr>
          <p:nvPr>
            <p:ph type="sldNum" idx="2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86E6-88BD-4938-BA5A-4A47C4D150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 type="dt" idx="2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BA4F-AF38-45EA-821D-116AE9E80BF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 type="ftr" idx="2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7" name="PlaceHolder 5"/>
          <p:cNvSpPr>
            <a:spLocks noGrp="1"/>
          </p:cNvSpPr>
          <p:nvPr>
            <p:ph type="sldNum" idx="2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138-8D39-40D4-83DA-77DF83991D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 type="dt" idx="2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1FB7-D926-4B5A-93DF-C9FDFDB0D4B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 type="ftr" idx="2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PlaceHolder 5"/>
          <p:cNvSpPr>
            <a:spLocks noGrp="1"/>
          </p:cNvSpPr>
          <p:nvPr>
            <p:ph type="sldNum" idx="2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E54-D99D-429D-94B0-4506DD342C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 type="dt" idx="2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E90-1830-4496-A815-FD8349E9C3F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 type="ftr" idx="2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PlaceHolder 5"/>
          <p:cNvSpPr>
            <a:spLocks noGrp="1"/>
          </p:cNvSpPr>
          <p:nvPr>
            <p:ph type="sldNum" idx="2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6821-C1EE-4A73-BBA1-D6A22F2B26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 type="dt" idx="2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1EA-12B4-44F7-825D-5C12FF8F93A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 type="ftr" idx="2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PlaceHolder 5"/>
          <p:cNvSpPr>
            <a:spLocks noGrp="1"/>
          </p:cNvSpPr>
          <p:nvPr>
            <p:ph type="sldNum" idx="2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D1A5-474B-4F8F-B179-403E692112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20E-9640-42AB-AEBC-66154193709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7683-878C-4746-8471-D40B3F236F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 type="dt" idx="2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A308-7832-4B71-9947-449D784E155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 type="ftr" idx="2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1" name="PlaceHolder 5"/>
          <p:cNvSpPr>
            <a:spLocks noGrp="1"/>
          </p:cNvSpPr>
          <p:nvPr>
            <p:ph type="sldNum" idx="2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6E3-9EDC-4823-B6E9-B3A30B1D00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 type="dt" idx="2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F611-C47A-4BD3-863B-A3447421BB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 type="ftr" idx="2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 type="sldNum" idx="2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FE7C-0F74-4D09-8DF1-E3F18FA9E4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 type="dt" idx="2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CE1-0AA9-4E6D-90FE-F1CD6CB46C4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 type="ftr" idx="2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3" name="PlaceHolder 5"/>
          <p:cNvSpPr>
            <a:spLocks noGrp="1"/>
          </p:cNvSpPr>
          <p:nvPr>
            <p:ph type="sldNum" idx="2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3DB-5205-4546-ABB5-6352C66ACF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 type="dt" idx="2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958B-839F-4CA7-8D56-5DB0A5CF9EF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 type="ftr" idx="2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 type="sldNum" idx="2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BCFA-7208-4823-A22D-2A7A670279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 type="dt" idx="2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C7C5-D878-4940-93BC-2B4CE6A32E0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 type="ftr" idx="2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5"/>
          <p:cNvSpPr>
            <a:spLocks noGrp="1"/>
          </p:cNvSpPr>
          <p:nvPr>
            <p:ph type="sldNum" idx="25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071-6BCF-4BAA-94F7-CFDD4D873B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 type="dt" idx="2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25B-0D94-4427-A062-C96E09A4427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 type="ftr" idx="2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6" name="PlaceHolder 5"/>
          <p:cNvSpPr>
            <a:spLocks noGrp="1"/>
          </p:cNvSpPr>
          <p:nvPr>
            <p:ph type="sldNum" idx="25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355-7BF7-40CF-AE75-9C9E05AB83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 type="dt" idx="2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28D-22E2-41AE-9857-BF5980C6D2A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 type="ftr" idx="2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7" name="PlaceHolder 5"/>
          <p:cNvSpPr>
            <a:spLocks noGrp="1"/>
          </p:cNvSpPr>
          <p:nvPr>
            <p:ph type="sldNum" idx="25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754C-52E4-4DD2-8325-01889B8860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 type="dt" idx="2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86E-5C4B-4ECA-8A15-4243245ECED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 type="ftr" idx="2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 type="sldNum" idx="26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82B1-6609-4C54-ADB0-84741737FD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 type="dt" idx="2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523-58D7-4414-8E18-BEF919C4EDA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 type="ftr" idx="2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9" name="PlaceHolder 5"/>
          <p:cNvSpPr>
            <a:spLocks noGrp="1"/>
          </p:cNvSpPr>
          <p:nvPr>
            <p:ph type="sldNum" idx="26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2777-3D39-4995-918A-05A21F385C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 type="dt" idx="2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5300-B69A-4ECB-884F-E18782EDD83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 type="ftr" idx="2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0" name="PlaceHolder 5"/>
          <p:cNvSpPr>
            <a:spLocks noGrp="1"/>
          </p:cNvSpPr>
          <p:nvPr>
            <p:ph type="sldNum" idx="26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B318-FEE8-4954-BCC6-A2073EA2E0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5E8F-504B-4B0C-B987-6C94D1B2E47F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A6C0-B2FE-48F3-849D-9C07C2A667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 type="dt" idx="2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994-981C-4398-98BB-59EBB85890E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 type="ftr" idx="2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1" name="PlaceHolder 5"/>
          <p:cNvSpPr>
            <a:spLocks noGrp="1"/>
          </p:cNvSpPr>
          <p:nvPr>
            <p:ph type="sldNum" idx="27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BC0-FA8B-475F-9E8E-1186F9F479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 type="dt" idx="2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E751-F489-425E-B3AB-BBFC5056396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 type="ftr" idx="2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2" name="PlaceHolder 5"/>
          <p:cNvSpPr>
            <a:spLocks noGrp="1"/>
          </p:cNvSpPr>
          <p:nvPr>
            <p:ph type="sldNum" idx="27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9AD2-A262-4B6B-8300-870D644F6B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 type="dt" idx="27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50F-B05D-45BF-9FF1-E203C8EEACF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 type="ftr" idx="27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3" name="PlaceHolder 5"/>
          <p:cNvSpPr>
            <a:spLocks noGrp="1"/>
          </p:cNvSpPr>
          <p:nvPr>
            <p:ph type="sldNum" idx="27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2EC3-B1DB-4BAC-B45D-5496022261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dt" idx="27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A1B2-734A-498C-A65F-418F224BCC9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 type="ftr" idx="27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4" name="PlaceHolder 5"/>
          <p:cNvSpPr>
            <a:spLocks noGrp="1"/>
          </p:cNvSpPr>
          <p:nvPr>
            <p:ph type="sldNum" idx="27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2EF-3F4E-4823-A2DD-66E561B270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 type="dt" idx="2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117-3595-4F92-8147-4BD05325049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 type="ftr" idx="28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5" name="PlaceHolder 5"/>
          <p:cNvSpPr>
            <a:spLocks noGrp="1"/>
          </p:cNvSpPr>
          <p:nvPr>
            <p:ph type="sldNum" idx="28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9C3-F060-4DBE-AB54-97D023FE37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 type="dt" idx="28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0083-C6AF-4340-A015-53D9E933D5A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 type="ftr" idx="28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6" name="PlaceHolder 5"/>
          <p:cNvSpPr>
            <a:spLocks noGrp="1"/>
          </p:cNvSpPr>
          <p:nvPr>
            <p:ph type="sldNum" idx="28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AC8-DB4F-41C1-B916-9EC1BCCEC2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 type="dt" idx="28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524-A37F-424D-8A76-7C483D85646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 type="ftr" idx="28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7" name="PlaceHolder 5"/>
          <p:cNvSpPr>
            <a:spLocks noGrp="1"/>
          </p:cNvSpPr>
          <p:nvPr>
            <p:ph type="sldNum" idx="2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2629-07E7-4D90-A42E-0E194F1C94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 type="dt" idx="2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F21-3294-4265-B737-B1E3E4CF50F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 type="ftr" idx="2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PlaceHolder 5"/>
          <p:cNvSpPr>
            <a:spLocks noGrp="1"/>
          </p:cNvSpPr>
          <p:nvPr>
            <p:ph type="sldNum" idx="2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388-1433-4D2D-AC1D-6564942BD9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 type="dt" idx="2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D08-5A18-4804-AD2D-486F6D9EDEA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 type="ftr" idx="2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 type="sldNum" idx="2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4D1-401F-4776-AAA7-C872C53436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 type="dt" idx="2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9F1E-FBF2-4E89-8E32-8F2E3A1AA84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 type="ftr" idx="2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0" name="PlaceHolder 5"/>
          <p:cNvSpPr>
            <a:spLocks noGrp="1"/>
          </p:cNvSpPr>
          <p:nvPr>
            <p:ph type="sldNum" idx="2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95A-104C-4A98-A8C4-1FA6CEF59E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zakon5.rada.gov.ua/laws/show/z0196-12" TargetMode="External"/><Relationship Id="rId2" Type="http://schemas.openxmlformats.org/officeDocument/2006/relationships/slideLayout" Target="../slideLayouts/slideLayout6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213840" y="71280"/>
            <a:ext cx="8401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565ff"/>
                </a:solidFill>
                <a:latin typeface="Arial"/>
              </a:rPr>
              <a:t>ЛУГАНСЬКА ОБЛАСНА ДЕРЖАВНА АДМІНІСТР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245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МІН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провадження процедур внутрішнього контрол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практиц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иди контролю та їх реалізаці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7d"/>
                </a:solidFill>
                <a:latin typeface="Arial"/>
              </a:rPr>
              <a:t>Управління внутрішнього аудит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м.Сєвєродонець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7d"/>
                </a:solidFill>
                <a:latin typeface="Arial"/>
              </a:rPr>
              <a:t>квітень 2018 рі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0" name="Picture 6" descr="Картинки по запросу луганська область"/>
          <p:cNvPicPr/>
          <p:nvPr/>
        </p:nvPicPr>
        <p:blipFill>
          <a:blip r:embed="rId1"/>
          <a:stretch/>
        </p:blipFill>
        <p:spPr>
          <a:xfrm>
            <a:off x="7380360" y="26028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090-C24A-4149-A14B-35951DEEB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иповими заходами контролю 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вторизація та підтвердження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підписання, візування, затвердження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зподіл обов'язків та повноважень,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тація персоналу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щодо прийняття рішення, здійснення операції та контролю за не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нтроль за доступом до ресурсів та облікових записів,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кріплення відповідальності за збереження і використання ресурсів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договори про матеріальну відповідальність, довіреності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нтроль за достовірністю проведених операцій,    перевірка процесів  та операцій до та після їх проведення,  звірка облікових даних з фактичними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планова та позапланова інвентаризація, звірки, здійснення контрольних заходів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цінка загальних результатів діяльності, окремих функцій та завдань шляхом оцінювання їх ходу та результатів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3d3db7"/>
                </a:solidFill>
                <a:latin typeface="Times New Roman"/>
              </a:rPr>
              <a:t>(звіти про діяльність, про виконанні паспортів бюджетних програм тощо, проведення службових розслідувань за фактами порушень законодавства)</a:t>
            </a: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d3d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d3db7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истематичний перегляд роботи кожного працівника (нагляд) </a:t>
            </a:r>
            <a:r>
              <a:rPr b="1" i="1" lang="uk-UA" sz="2000" spc="-1" strike="noStrike">
                <a:solidFill>
                  <a:srgbClr val="003399"/>
                </a:solidFill>
                <a:latin typeface="Times New Roman"/>
              </a:rPr>
              <a:t>(проведення щорічної оцінки держслужбовців)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ші правила та процедури, у тому числі визначені регламентом, правилами внутрішнього трудового розпоряд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08EA-6622-4D42-8D31-5EE6B75A1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іяльність, направлена на оцінку якості функціонування та відстеження результатів впровадження заходів контролю шляхом проведення постійного моніторингу та періодичних оці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51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Четвертий елемент внутрішнього контролю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оніторинг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4200" spc="-1" strike="noStrike">
                <a:solidFill>
                  <a:srgbClr val="3d3db7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94A-94E3-44A3-AE15-66DE3D2C6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d3db7"/>
                </a:solidFill>
                <a:latin typeface="Times New Roman"/>
              </a:rPr>
              <a:t>Моніторинг полягає у здійсненн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42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Times New Roman"/>
              </a:rPr>
              <a:t>Постійного моніторингу</a:t>
            </a: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що здійснюється у ході щоденної/поточної діяльності установи та передбачає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Times New Roman"/>
              </a:rPr>
              <a:t>управлінські, наглядові та інші дії керівників усіх рівнів та працівникі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при виконанні ними своїх обов'язків з метою визначення та коригування відхилен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7" name="PlaceHolder 3"/>
          <p:cNvSpPr>
            <a:spLocks noGrp="1"/>
          </p:cNvSpPr>
          <p:nvPr>
            <p:ph/>
          </p:nvPr>
        </p:nvSpPr>
        <p:spPr>
          <a:xfrm>
            <a:off x="4606560" y="692280"/>
            <a:ext cx="4357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Times New Roman"/>
              </a:rPr>
              <a:t>Періодичних оцінок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бачають проведення оцінки виконання окремих функцій, завдань на періодичній основі та здійснюються працівниками, які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несуть відповідальності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їх реалізацію,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/або підрозділом внутрішнього аудиту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більш об'єктивного аналізу результативності системи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EC1-DB07-4322-A2CC-AC96B3132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856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риклади постійного моніторингу та періодичних оціно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остійний моніторинг – щоденний та тижневий моніторинг стану виконання контрольних доручен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еріодичні оцінки – щомісячне та щоквартальне підбиття підсумків (на засіданнях колегій, нарадах, 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щотижневих оперативках</a:t>
            </a:r>
            <a:r>
              <a:rPr b="1" i="1" lang="uk-UA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(регламенти і процедури визначені та фактично виконуються, що підтверджується документами: дорученнями, планами та протоколами нара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- - - - - - - - - - -- - - -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ВНУТРІШНІЙ АУД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0924-3AF2-451A-B88A-E13B18EEC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1"/>
          <p:cNvSpPr>
            <a:spLocks noGrp="1"/>
          </p:cNvSpPr>
          <p:nvPr>
            <p:ph/>
          </p:nvPr>
        </p:nvSpPr>
        <p:spPr>
          <a:xfrm>
            <a:off x="899640" y="1856880"/>
            <a:ext cx="7704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Інформаційний та комунікаційний обмін в установі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передбачає збір, документування, передачу інформації та користування нею керівництвом та працівниками установи для належного виконання і оцінювання функцій та завд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'ятий елемент внутрішнього контролю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br>
              <a:rPr sz="28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456-E39B-4B08-A8A7-25488BC56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фективна система інформаційного та комунікаційного обміну передбачає надання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вної, своєчасної та достовірно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інформації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ерівництву усіх рівні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 щодо виконання завдань і функцій, ідентифікації та оцінки ризиків, стану реалізації контролю та моніторингу, впровадження їх результатів, впровадження рекомендацій за результатами внутрішніх аудитів та обов'язкових вимог за результатами контрольних заходів зовнішніх контролюючих орган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цівника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 для забезпечення належної реалізації ними завдань та функцій, покладених на структурні підрозді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AA5-57C1-4ECA-908B-4FF310E73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стему інформаційного та комунікаційного обміну формую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и обміну інформацією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, що містять процедури, форми, обсяги, терміни, перелік надавачів та отримувачів інформації (наприклад, регламенти щодо доступу до публічної інформації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іки документообігу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іки складання і подання звітност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схеми інформаційних потоків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омп'ютеризовані інформаційно-аналітичні системи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тощ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Ефективному виконанню завдань і функцій (з метою досягнення мети та цілей) сприяют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налагодження інформаційного та комунікаційного обміну із зовнішніми сторона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оприлюднення інформації про діяльні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65C-DA5E-4F0A-8D0F-DF7FABE44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иклади документів з інформації та комуніка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ки подання фінансової звітност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ки документообіг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Автоматизована система єдиного документообіг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орядок надання доступу до публічної інформаці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орядки використання інформаційних систем (баз даних тощ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мунікації – формальні та неформаль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Щотижневі наради (протоколи на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сідання колегії (рішення колегії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авчання, семіна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обочі гру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1A14-0570-47A0-B64E-041F7E702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71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ння/затвердження керівником сукупності внутрішніх документів з внутрішнього контрол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керівництвом, керівниками структурних підрозділів та працівникам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дань та функцій, включаючи функції щоденного контрол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ка функціонування системи внутрішнього контролю підрозділом внутрішнього аудит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і складові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рганізації внутрішнього контро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7375e"/>
                </a:solidFill>
                <a:latin typeface="Calibri"/>
              </a:rPr>
              <a:t>Практичне завдання: надати інформацію щодо стану організації і функціонування внутрішнього контролю в </a:t>
            </a:r>
            <a:r>
              <a:rPr b="0" lang="uk-UA" sz="2400" spc="-1" strike="noStrike">
                <a:solidFill>
                  <a:srgbClr val="17375e"/>
                </a:solidFill>
                <a:latin typeface="Calibri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"/>
          <p:cNvSpPr txBox="1"/>
          <p:nvPr/>
        </p:nvSpPr>
        <p:spPr>
          <a:xfrm>
            <a:off x="899640" y="1857240"/>
            <a:ext cx="72723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нутрішнє середовищ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а і професійна чесність, етичні цінності керівництва усіх рівнів та працівників; </a:t>
            </a: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йна структура;</a:t>
            </a:r>
            <a:br>
              <a:rPr sz="2000"/>
            </a:b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ципи і правила управління людськими ресурсами та компетентністю персон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правління ризи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ходи контрол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ніторин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FDC6-C0DE-458B-8310-98B9AD7D491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1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Статті 20, 22, 26 Бюджетного кодексу Украї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2626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62673"/>
                </a:solidFill>
                <a:latin typeface="Arial"/>
              </a:rPr>
              <a:t>Концепція розвитку ДВФК (розпорядження КМУ від 24.05.2005 № 158, 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(у редакції від 22.10.2008 № 13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атегія реформування системи управління державними фінансами на 2017-2020 роки (</a:t>
            </a:r>
            <a:r>
              <a:rPr b="1" lang="uk-UA" sz="1800" spc="-1" strike="noStrike">
                <a:solidFill>
                  <a:srgbClr val="262673"/>
                </a:solidFill>
                <a:latin typeface="Arial"/>
              </a:rPr>
              <a:t>розпорядження КМУ від08.02.2017 №142-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Методичні рекомендації з організації внутрішнього контролю розпорядниками бюджетних коштів у своїх закладах та у підвідомчих бюджетних установах (наказ Мінфіну від 14.09.2012 № 995 зі змін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5d5d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Інструкція з організації внутрішнього контролю в Луганській обласній державній адміністрації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(розпорядженням голови облдержадміністрації від 28.12.2017 № 963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Rectangle 5"/>
          <p:cNvSpPr/>
          <p:nvPr/>
        </p:nvSpPr>
        <p:spPr>
          <a:xfrm>
            <a:off x="468360" y="642960"/>
            <a:ext cx="83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Нормативно-правова ба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та методичні матері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з внутрішнього контролю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Rectangle 6"/>
          <p:cNvSpPr/>
          <p:nvPr/>
        </p:nvSpPr>
        <p:spPr>
          <a:xfrm>
            <a:off x="8542440" y="638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4" name="Picture 6" descr="Картинки по запросу луганська область"/>
          <p:cNvPicPr/>
          <p:nvPr/>
        </p:nvPicPr>
        <p:blipFill>
          <a:blip r:embed="rId1"/>
          <a:stretch/>
        </p:blipFill>
        <p:spPr>
          <a:xfrm>
            <a:off x="7596360" y="260280"/>
            <a:ext cx="1222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6" name="Picture 6" descr="Картинки по запросу луганська область"/>
          <p:cNvPicPr/>
          <p:nvPr/>
        </p:nvPicPr>
        <p:blipFill>
          <a:blip r:embed="rId1"/>
          <a:stretch/>
        </p:blipFill>
        <p:spPr>
          <a:xfrm>
            <a:off x="7580160" y="260280"/>
            <a:ext cx="1312920" cy="1297080"/>
          </a:xfrm>
          <a:prstGeom prst="rect">
            <a:avLst/>
          </a:prstGeom>
          <a:ln w="0">
            <a:noFill/>
          </a:ln>
        </p:spPr>
      </p:pic>
      <p:sp>
        <p:nvSpPr>
          <p:cNvPr id="5527" name="Прямоугольник 2"/>
          <p:cNvSpPr/>
          <p:nvPr/>
        </p:nvSpPr>
        <p:spPr>
          <a:xfrm>
            <a:off x="434880" y="988920"/>
            <a:ext cx="8458200" cy="54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Управління внутрішнього аудит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відповідно до основних завдань проводить оцінку: 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фективності функціонування системи внутрішнього контрол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ості надання адміністративних послуг та виконання контрольно – наглядових функцій, завдань, визначених актами законодав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у збереження активів та інформ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у управління державним, комунальним майн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ості ведення бухгалтерського обліку та достовірності фінансової і бюджетної звітност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зиків, які негативно впливають на виконання функцій і завдань облдержадміністрації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Прямоугольник 1"/>
          <p:cNvSpPr/>
          <p:nvPr/>
        </p:nvSpPr>
        <p:spPr>
          <a:xfrm>
            <a:off x="873000" y="914400"/>
            <a:ext cx="7839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0" lang="uk-UA" sz="1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а внутрішнього контролю – це процедури прийняті керівником суб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єкта, які спрямовані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безпечення впорядкованого і ефективного ведення  діяльност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береження актив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побігання та виявлення шахрайства і помил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точність і повноту бухгалтерських запис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buClr>
                <a:srgbClr val="212121"/>
              </a:buClr>
              <a:buFont typeface="Arial"/>
              <a:buChar char="•"/>
              <a:tabLst>
                <a:tab algn="l" pos="581040"/>
                <a:tab algn="l" pos="1162080"/>
                <a:tab algn="l" pos="1744560"/>
                <a:tab algn="l" pos="2325600"/>
                <a:tab algn="l" pos="2908440"/>
                <a:tab algn="l" pos="3489480"/>
                <a:tab algn="l" pos="4070520"/>
                <a:tab algn="l" pos="4653000"/>
                <a:tab algn="l" pos="5234040"/>
                <a:tab algn="l" pos="5816520"/>
                <a:tab algn="l" pos="6397560"/>
                <a:tab algn="l" pos="6978600"/>
                <a:tab algn="l" pos="7561440"/>
                <a:tab algn="l" pos="8142120"/>
                <a:tab algn="l" pos="8724960"/>
                <a:tab algn="l" pos="9306000"/>
                <a:tab algn="l" pos="10058400"/>
              </a:tabLst>
            </a:pP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воєчасну підготовку надійної фінансової інформ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 Light"/>
              </a:rPr>
              <a:t>Приклади встановлених порушен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30" name=""/>
          <p:cNvGraphicFramePr/>
          <p:nvPr/>
        </p:nvGraphicFramePr>
        <p:xfrm>
          <a:off x="628560" y="488880"/>
          <a:ext cx="8264520" cy="5159520"/>
        </p:xfrm>
        <a:graphic>
          <a:graphicData uri="http://schemas.openxmlformats.org/drawingml/2006/table">
            <a:tbl>
              <a:tblPr/>
              <a:tblGrid>
                <a:gridCol w="453960"/>
                <a:gridCol w="7810560"/>
              </a:tblGrid>
              <a:tr h="355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731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шення НП(с)БО №101,  НП(С)БО 121 у державному секторі, Порядку № 307 та </a:t>
                      </a:r>
                      <a:r>
                        <a:rPr b="0" lang="ru-RU" sz="1400" spc="-1" strike="noStrike" u="sng">
                          <a:solidFill>
                            <a:srgbClr val="0563c1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орядку № 4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фінансовій та бюджетній звітності не відображено збільшення вартості основних засобів та зміни у власному капіталі, зокрема, фонду необоротних актив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ісля прийняття відремонтованих, реконструйованих, модернізованих, поліпшених обʼєкті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283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рушення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 12.7 Порядку № 938 та п. 11.17 Порядку № 1407 не складено та не подано до казначейства 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ідку про надходження у натуральній формі у вигляді безоплатно отриманих робі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е відображено у бухгалтерському обліку та консолідованому звіті про виконання бюдж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33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шення  Закону України  від  </a:t>
                      </a:r>
                      <a:r>
                        <a:rPr b="0" lang="ru-RU" sz="1400" spc="-1" strike="noStrike">
                          <a:solidFill>
                            <a:srgbClr val="292b2c"/>
                          </a:solidFill>
                          <a:latin typeface="Times New Roman"/>
                          <a:ea typeface="Times New Roman"/>
                        </a:rPr>
                        <a:t>16.07.1999 N 996-X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 </a:t>
                      </a:r>
                      <a:r>
                        <a:rPr b="0" lang="ru-RU" sz="1400" spc="-1" strike="noStrike">
                          <a:solidFill>
                            <a:srgbClr val="292b2c"/>
                          </a:solidFill>
                          <a:latin typeface="Times New Roman"/>
                          <a:ea typeface="Times New Roman"/>
                        </a:rPr>
                        <a:t>Про бухгалтерський облік та фінансову   звітність в Україні» 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азу МФУ від 02.09.2014  № 879 «Про затвердження Положення про інвентаризацію активів та зобов’язань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02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рушення вимог чинного законодавства у Департаменті СЗН відсутня база даних дітей пільгових категорі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64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артамент СЗН здійснював розподіл пільгових путівок переможцям міжнародних та всеукраїнських конкурсів, які, відповідно до законодавства фактично не мають такого статусу, оскільки не зареєстровані в установленому порядку, що призводить до використання пільгових путівок не за призначенн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2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ушення ст. 50 КЗпП України, в частині формального ведення обліку робочого часу, що створює ризики для незаконного нарахування (виплати) заробітної пла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фері закупіве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32" name=""/>
          <p:cNvGraphicFramePr/>
          <p:nvPr/>
        </p:nvGraphicFramePr>
        <p:xfrm>
          <a:off x="628560" y="1065240"/>
          <a:ext cx="8120160" cy="5192640"/>
        </p:xfrm>
        <a:graphic>
          <a:graphicData uri="http://schemas.openxmlformats.org/drawingml/2006/table">
            <a:tbl>
              <a:tblPr/>
              <a:tblGrid>
                <a:gridCol w="357120"/>
                <a:gridCol w="7763040"/>
              </a:tblGrid>
              <a:tr h="337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1912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дійснюється відповідний контроль за «градацією» потреб, (від першочергового до другорядного)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то, закупівля не завжди є необхідною у тих обсягах і за тими цінами, що встановлюються замовниками торг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здійснення моніторингу цін перед проведенням тендерних процеду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що приводить до закупівель з ризиком втрат через перевищення середньоринкових ці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належний контроль за визначенням предметів закупівел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бто предмет закупівлі ділиться на частини з метою уникнення проведення відповідних процеду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7398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належний контроль за дотриманням основних принципів здійснення державних закупівел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априклад, під час тендерних процедур допускається звужування кола учасників внаслідок вимагання необґрунтованого переліку довідок, технічних, якісних показників предмету закупівлі, кваліфікаційних критеріїв, що призводить до зменшення конкуренції, неефективного використання комунальних ресурсів тощ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628560" y="199800"/>
            <a:ext cx="78868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фері закупіве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34" name=""/>
          <p:cNvGraphicFramePr/>
          <p:nvPr/>
        </p:nvGraphicFramePr>
        <p:xfrm>
          <a:off x="628560" y="988920"/>
          <a:ext cx="7886880" cy="4672080"/>
        </p:xfrm>
        <a:graphic>
          <a:graphicData uri="http://schemas.openxmlformats.org/drawingml/2006/table">
            <a:tbl>
              <a:tblPr/>
              <a:tblGrid>
                <a:gridCol w="347760"/>
                <a:gridCol w="7539120"/>
              </a:tblGrid>
              <a:tr h="4413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1350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належний контроль за додержанням норм чинного законодавства під час укладання додаткових угод договорів щодо збільшення ціни, що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водить до необґрунтованого підвищення цін та до неефективного витрачання з ризиком втрат комунальних ресурс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796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безпечено встановлення в тендерних документаціях процедур закупівель чітких вимог до предмету закупівлі (кількості, якості, необхідних технічних характеристик), що дозволяє, в подальшому, при виконанні договорів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іпулювати якістю/ціною/кількістю отриманих товарів, робіт чи послу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160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лежний контроль за договірною роботою, зокрема в укладених договорах відсутні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антійні строк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і санкції за порушення умов договорів та відповідна претензійно-позовна робота замовникі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учке реагування на коливання цін, наприклад, на сезонні овочі та фрук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о має своїм наслідком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щення цін при закупівлі таких продукт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5" name=""/>
          <p:cNvGraphicFramePr/>
          <p:nvPr/>
        </p:nvGraphicFramePr>
        <p:xfrm>
          <a:off x="272880" y="-12600"/>
          <a:ext cx="8623440" cy="6473880"/>
        </p:xfrm>
        <a:graphic>
          <a:graphicData uri="http://schemas.openxmlformats.org/drawingml/2006/table">
            <a:tbl>
              <a:tblPr/>
              <a:tblGrid>
                <a:gridCol w="1530360"/>
                <a:gridCol w="4378320"/>
                <a:gridCol w="2714760"/>
              </a:tblGrid>
              <a:tr h="44280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мен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рушення, недол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снов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49680">
                <a:tc rowSpan="2"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іональної комплексної програми підтримки індивідуального житлового будівництва на селі та покращення умов життєзабезпечення сільського населення «Власний дім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ені розбіжності між вимогами регіональних Правил та Постанови №1597, в тому числі щодо визначення позичальник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Як наслідок,  надано пільгові кредити мешканцям районних центрів які відповідно до адміністративного устрою Луганської області мають статус міста та позичальникам, місто роботи яких не розташовано у межах району. А саме у містах Кремінна, Сватове, Старобільськ за 2015-2016 роки за рахунок фінансування обласного та районних бюджетів надано кредитів на загальну суму 4093 тис 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ежний внутрішній контроль з боку Управління, передбачений п.п.7 п.5 ст.22 Бюджетного кодексу, в частині  забезпечення ефективного, результативного і цільового використання бюджетних коштів, організації та координації роботи Фонду, як одержувача бюджетних кош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2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належного контролю за поверненням кредитів відповідно до затверджених графіків т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конала Методика визначення платоспроможності позичальникі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звело до збільшення неповернутих кредитів з 4,3 тис грн у 2013р до 1 021,4 тис грн у 2016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боку Фонду, встановлено низький рівень претензійно-позовної роботи. Так, по неповернутих кредитах укладених у 2012-2016 роках оформлено лише тільки 5 позовних заяв на суму 68,7 тис 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кий рівень системи внутрішнього контролю Фонду за станом кредитних справ, що в свою чергу може призвести до неефективного використання фінансових ресурсі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надання кредитів на розвиток особистого сільськогосподарського господарства  викликає негативну оцінку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 регіональної Прогр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6" name=""/>
          <p:cNvGraphicFramePr/>
          <p:nvPr/>
        </p:nvGraphicFramePr>
        <p:xfrm>
          <a:off x="826920" y="2205000"/>
          <a:ext cx="7993080" cy="4383000"/>
        </p:xfrm>
        <a:graphic>
          <a:graphicData uri="http://schemas.openxmlformats.org/drawingml/2006/table">
            <a:tbl>
              <a:tblPr/>
              <a:tblGrid>
                <a:gridCol w="1705320"/>
                <a:gridCol w="1392120"/>
                <a:gridCol w="1135080"/>
                <a:gridCol w="944640"/>
                <a:gridCol w="1376280"/>
                <a:gridCol w="1439640"/>
              </a:tblGrid>
              <a:tr h="8780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риз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заходу контро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 виконав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і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дів контро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чікувані результати від упровадження заходів контролю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ди моніторингу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ан упровадження результаті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функції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операційної цілі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ризику (ризиків)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ація бухгалтер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2680"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належна організація бухгалтерського облі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прийняття до обліку первинних докумен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ірка стану бухгалтерського облі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контроль головного бухгалте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ішня перевірочна комісі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ічі на рік станом на 1 липня та 1 січ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еншення ризику викривлення інформації про реальне фінансове становище частини (фінансову звітність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із результатів здачі квартальної та річної звітності до органів казначейства та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щестоящ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інансового орг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7" name="Rectangle 1"/>
          <p:cNvSpPr/>
          <p:nvPr/>
        </p:nvSpPr>
        <p:spPr>
          <a:xfrm>
            <a:off x="974880" y="76320"/>
            <a:ext cx="73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Calibri Light"/>
              </a:rPr>
              <a:t>Практична частина семінар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даток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 Інструк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 реалізації заходів контролю та моніторингу впровадження їх результа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20___ рі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8" name=""/>
          <p:cNvGraphicFramePr/>
          <p:nvPr/>
        </p:nvGraphicFramePr>
        <p:xfrm>
          <a:off x="474840" y="260280"/>
          <a:ext cx="8418240" cy="6415200"/>
        </p:xfrm>
        <a:graphic>
          <a:graphicData uri="http://schemas.openxmlformats.org/drawingml/2006/table">
            <a:tbl>
              <a:tblPr/>
              <a:tblGrid>
                <a:gridCol w="1072800"/>
                <a:gridCol w="2303640"/>
                <a:gridCol w="1152360"/>
                <a:gridCol w="1152720"/>
                <a:gridCol w="1295280"/>
                <a:gridCol w="1441440"/>
              </a:tblGrid>
              <a:tr h="245160">
                <a:tc gridSpan="6"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онне та ефективне використ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н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ош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50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значення у кошторисах завищених обсягів видатків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хування об’єктивної потреби в коштах кожної установи, виходячи з її основних виробничих показників і контингентів, які встановлені, обсягу виконуваної роботи, штатної чисельності, необхідності погашення дебіторської і кредиторської заборгованості та реалізації окремих програм і намічених заходів щодо скорочення витрат у плановому період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фінансово-економічної служби, головний бухгалт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 особи Департамен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д час визначення обсягів видатків бюджету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наступний бюджетний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додержання режиму економії та не допущення включення до кошторисів бюджетних асигнувань, не зумовлених потребою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місячний аналіз кошторисних призначень та фактичн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 витрат, не підтверджених розрахунками та економічними обгрунтування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ладання договорів та угод на поставку майна та отримання послуг без обґрунтувань та відповідних розрахунк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ереднє письмове погодження проектів майбутніх господарських угод (договорів) з начальником фінансової служб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івник, начальник фінансово-економічної служби, головний бухгалтер, юр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ійно перед підписанням договорів та угод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нецільового використання кошт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місячний аналіз кошторисних призначень та фактично підписаних договор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дбання зайвих та непотрібних матеріальних ціннос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ння начальник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м фінансово-економічної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лужб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забезпечення розрахунків, які обґрунтовують показники видатків, що включаються до кошторисів, з детальними розрахунками до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фінансово-економічної служб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ісля отримання від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щестоящого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інансового органу обсягів видатків на наступний бюджетний рік після внесення змін до кошторис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неефективного використання кошт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ід час затвердження розрахунків, які обґрунтовують показники видатків, що включаються до кошторисів, аналізувати необхідність придбання матеріальних засобів, які включені до вказаних розрахункі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9" name=""/>
          <p:cNvGraphicFramePr/>
          <p:nvPr/>
        </p:nvGraphicFramePr>
        <p:xfrm>
          <a:off x="395280" y="0"/>
          <a:ext cx="8507520" cy="6615000"/>
        </p:xfrm>
        <a:graphic>
          <a:graphicData uri="http://schemas.openxmlformats.org/drawingml/2006/table">
            <a:tbl>
              <a:tblPr/>
              <a:tblGrid>
                <a:gridCol w="1090800"/>
                <a:gridCol w="564840"/>
                <a:gridCol w="1297080"/>
                <a:gridCol w="144360"/>
                <a:gridCol w="1008360"/>
                <a:gridCol w="142560"/>
                <a:gridCol w="1081080"/>
                <a:gridCol w="1295640"/>
                <a:gridCol w="1882800"/>
              </a:tblGrid>
              <a:tr h="2313000"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ладання договорів та угод на поставку майна та отримання послуг за завищеними ці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вчення ринкової вартості ціни по регіону (при наявності отримати дані з офіційних Інтернет сайтів Міністерств та відомств про середні ціни на товари та послуги по регіону), отримання не менше трьох цінових пропозицій та визначення найвигіднішої цінової пропози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ндерний комітет, відповідальні за планування та виконання бюджетних прог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укладенням догов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кнення ризику неефективного використання кош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укладенням договору проаналізувати отримані цінові пропозиції на предмет наявності: інформації про регіональної ціни; неменше трьох цінових пропозицій; правильність визначення найвигіднішої пропози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дбання неякісних матеріальних засобів та отримання неякісних посл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ірка якості матеріальних засобів та послуг спеціалістами відповідних служб. Перевірка відповідності матеріальних засобів еталону това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ий за прийм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укладенням договору та під час отримання матеріальних засобів; під час отримання посл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еншення ризику неефективного використання кош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місячне отримання інформації від посадових осіб, отримувачів товарів і послуг про фактичну якість матеріальних засобів і послуг та прийняття відповідних ріш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gridSpan="9">
                  <a:txBody>
                    <a:bodyPr lIns="7560" rIns="7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ація та забезпечення проведення інвентаризації матеріальних цін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8200">
                <a:tc gridSpan="2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якісне та формальне проведення інвентаризації матеріальних засоб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проведе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тримання вимог нормативно-правових акт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ифметичні помил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ірка якості та фактичного (неформального) проведення інвентаризації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ова інвентаризаційної комісії,  інвентаризаційні коміс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денно під час проведення інвентари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меншення ризику викривлення інформації про фактичну наявність матеріальних засобів та про реальне фінансове становище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фінансову звітність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оденний моніторинг інформації отриманої від голів інвентаризаційних комісій щодо стану проведення інвентаризації та прийняття відповідних ріш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755280" y="1988640"/>
            <a:ext cx="777708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uk-UA" sz="6000" spc="-1" strike="noStrike">
                <a:solidFill>
                  <a:srgbClr val="7030a0"/>
                </a:solidFill>
                <a:latin typeface="Arial Black"/>
                <a:ea typeface="Aharoni"/>
              </a:rPr>
              <a:t>ДЯКУЮ </a:t>
            </a:r>
            <a:br>
              <a:rPr sz="6000"/>
            </a:br>
            <a:r>
              <a:rPr b="1" lang="uk-UA" sz="6000" spc="-1" strike="noStrike">
                <a:solidFill>
                  <a:srgbClr val="7030a0"/>
                </a:solidFill>
                <a:latin typeface="Arial Black"/>
                <a:ea typeface="Aharoni"/>
              </a:rPr>
              <a:t>ЗА УЧАСТЬ!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5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ій контроль включає такі взаємопов'язані елементи, які стосуються всіх підрозділів, дій і процесів в установ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нутрішнє середовище (середовище контролю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правління ризи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ходи контрол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ніторинг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формація та комунік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AB1-53F4-4687-83C7-0D4C03985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7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НУТРІШНЄ СЕРЕДОВИЩЕ – це існуючі в установ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цес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перації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егламен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укту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розподіл повноважень щодо їх виконанн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авила та принципи управління людськими ресурсами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тощ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кі спрямовані на забезпечення реалізації законодавчо закріплених за установою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ій та завдан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 метою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сягнення визначеної мети та ці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3EB6-A1CA-4F15-A9E3-E618799A7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є середовище містить такі аспе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а і професійна чесність, етичні цінності керівництва усіх рівнів та працівник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Докумен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равила етичної поведінки (кодекси ети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- правила внутрішнього службового розпоряд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- антикорупцій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F1AC-63F0-4687-8A00-5F143357D6C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Прямоугольник 2"/>
          <p:cNvSpPr/>
          <p:nvPr/>
        </p:nvSpPr>
        <p:spPr>
          <a:xfrm>
            <a:off x="357120" y="285840"/>
            <a:ext cx="8572680" cy="62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є середовище містить такі аспе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структу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Докумен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організаційна структура, штатний розпис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оложення про структурні підрозділи та посадові інструкції працівникі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розподіл обов’язків між керівником та його заступника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ерелік усіх функцій ї їх відповідальних виконавців та співвиконавц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здійснення процесів та операцій у відповідній сфер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інструкція з діловодства, система контролю за виконанням документі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равила внутрішнього трудового розпоряд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7D7D-7BE0-41C9-A56E-B513277D5EC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Прямоугольник 2"/>
          <p:cNvSpPr/>
          <p:nvPr/>
        </p:nvSpPr>
        <p:spPr>
          <a:xfrm>
            <a:off x="428760" y="415800"/>
            <a:ext cx="85723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ерший елемент внутрішнього контрол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є середовище містить такі аспек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і правила управління людськими ресурсами та компетентністю персон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</a:rPr>
              <a:t>Докумен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інструкції з кадрових питан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плани проведення навчань і підвищення кваліфікації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накази про проведення щорічних оцін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62A-EC5C-4337-810A-833401091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правління ризиками передбача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ю ризиків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видами та категоріям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цінку ризиків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ймовірністю їх виникнення та впливо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значення способів реагування на ризики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никнення, зменшення, розділення, прийнятт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7030a0"/>
                </a:solidFill>
                <a:latin typeface="Times New Roman"/>
              </a:rPr>
              <a:t>Документи, які визначають порядок документування системи управління риз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ругий елемент внутрішнього контролю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правління ризикам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 складова частина управління, виконання завдань і функцій, яка здійснюється керівниками всіх рівнів та працівн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AFA2-96E6-4851-A962-9D08BD9F2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етій елемент внутрішнього контрол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ходи контролю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сукупність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запроваджених в установі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управлінських дій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, які здійснюються керівництвом усіх рівнів та працівниками для впливу на ризики з метою досягнення мети та стратегічних ці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Заходи контролю здійснюю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на всіх рівнях діяль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щодо усіх функцій і завд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d3db7"/>
                </a:solidFill>
                <a:latin typeface="Times New Roman"/>
              </a:rPr>
              <a:t>та включають відповідні правила і процеду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2:35:35Z</dcterms:created>
  <dc:creator>Користувач Windows</dc:creator>
  <dc:description/>
  <dc:language>en-US</dc:language>
  <cp:lastModifiedBy>УВАЛО9</cp:lastModifiedBy>
  <dcterms:modified xsi:type="dcterms:W3CDTF">2019-05-17T07:06:08Z</dcterms:modified>
  <cp:revision>520</cp:revision>
  <dc:subject/>
  <dc:title>ЗМІНИ ДО БЮДЖЕТНОГО КОДЕКСУ УКРАЇНИ (щодо реформи міжбюджетних відносин)</dc:title>
</cp:coreProperties>
</file>