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93.xml.rels" ContentType="application/vnd.openxmlformats-package.relationships+xml"/>
  <Override PartName="/ppt/slideMasters/slideMaster123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122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0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109.xml" ContentType="application/vnd.openxmlformats-officedocument.theme+xml"/>
  <Override PartName="/ppt/theme/theme51.xml" ContentType="application/vnd.openxmlformats-officedocument.theme+xml"/>
  <Override PartName="/ppt/theme/theme108.xml" ContentType="application/vnd.openxmlformats-officedocument.theme+xml"/>
  <Override PartName="/ppt/theme/theme50.xml" ContentType="application/vnd.openxmlformats-officedocument.theme+xml"/>
  <Override PartName="/ppt/theme/theme107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88.xml" ContentType="application/vnd.openxmlformats-officedocument.theme+xml"/>
  <Override PartName="/ppt/theme/theme98.xml" ContentType="application/vnd.openxmlformats-officedocument.theme+xml"/>
  <Override PartName="/ppt/theme/theme100.xml" ContentType="application/vnd.openxmlformats-officedocument.theme+xml"/>
  <Override PartName="/ppt/theme/theme89.xml" ContentType="application/vnd.openxmlformats-officedocument.theme+xml"/>
  <Override PartName="/ppt/theme/theme65.xml" ContentType="application/vnd.openxmlformats-officedocument.theme+xml"/>
  <Override PartName="/ppt/theme/theme101.xml" ContentType="application/vnd.openxmlformats-officedocument.theme+xml"/>
  <Override PartName="/ppt/theme/theme102.xml" ContentType="application/vnd.openxmlformats-officedocument.theme+xml"/>
  <Override PartName="/ppt/theme/theme103.xml" ContentType="application/vnd.openxmlformats-officedocument.theme+xml"/>
  <Override PartName="/ppt/theme/theme85.xml" ContentType="application/vnd.openxmlformats-officedocument.theme+xml"/>
  <Override PartName="/ppt/theme/theme104.xml" ContentType="application/vnd.openxmlformats-officedocument.theme+xml"/>
  <Override PartName="/ppt/theme/theme124.xml" ContentType="application/vnd.openxmlformats-officedocument.theme+xml"/>
  <Override PartName="/ppt/theme/theme79.xml" ContentType="application/vnd.openxmlformats-officedocument.theme+xml"/>
  <Override PartName="/ppt/theme/theme112.xml" ContentType="application/vnd.openxmlformats-officedocument.theme+xml"/>
  <Override PartName="/ppt/theme/theme67.xml" ContentType="application/vnd.openxmlformats-officedocument.theme+xml"/>
  <Override PartName="/ppt/theme/theme123.xml" ContentType="application/vnd.openxmlformats-officedocument.theme+xml"/>
  <Override PartName="/ppt/theme/theme78.xml" ContentType="application/vnd.openxmlformats-officedocument.theme+xml"/>
  <Override PartName="/ppt/theme/theme111.xml" ContentType="application/vnd.openxmlformats-officedocument.theme+xml"/>
  <Override PartName="/ppt/theme/theme66.xml" ContentType="application/vnd.openxmlformats-officedocument.theme+xml"/>
  <Override PartName="/ppt/theme/theme122.xml" ContentType="application/vnd.openxmlformats-officedocument.theme+xml"/>
  <Override PartName="/ppt/theme/theme77.xml" ContentType="application/vnd.openxmlformats-officedocument.theme+xml"/>
  <Override PartName="/ppt/theme/theme121.xml" ContentType="application/vnd.openxmlformats-officedocument.theme+xml"/>
  <Override PartName="/ppt/theme/theme76.xml" ContentType="application/vnd.openxmlformats-officedocument.theme+xml"/>
  <Override PartName="/ppt/theme/theme110.xml" ContentType="application/vnd.openxmlformats-officedocument.theme+xml"/>
  <Override PartName="/ppt/theme/theme99.xml" ContentType="application/vnd.openxmlformats-officedocument.theme+xml"/>
  <Override PartName="/ppt/theme/theme120.xml" ContentType="application/vnd.openxmlformats-officedocument.theme+xml"/>
  <Override PartName="/ppt/theme/theme75.xml" ContentType="application/vnd.openxmlformats-officedocument.theme+xml"/>
  <Override PartName="/ppt/theme/theme97.xml" ContentType="application/vnd.openxmlformats-officedocument.theme+xml"/>
  <Override PartName="/ppt/theme/theme116.xml" ContentType="application/vnd.openxmlformats-officedocument.theme+xml"/>
  <Override PartName="/ppt/theme/theme96.xml" ContentType="application/vnd.openxmlformats-officedocument.theme+xml"/>
  <Override PartName="/ppt/theme/theme115.xml" ContentType="application/vnd.openxmlformats-officedocument.theme+xml"/>
  <Override PartName="/ppt/theme/theme95.xml" ContentType="application/vnd.openxmlformats-officedocument.theme+xml"/>
  <Override PartName="/ppt/theme/theme114.xml" ContentType="application/vnd.openxmlformats-officedocument.theme+xml"/>
  <Override PartName="/ppt/theme/theme69.xml" ContentType="application/vnd.openxmlformats-officedocument.theme+xml"/>
  <Override PartName="/ppt/theme/theme113.xml" ContentType="application/vnd.openxmlformats-officedocument.theme+xml"/>
  <Override PartName="/ppt/theme/theme68.xml" ContentType="application/vnd.openxmlformats-officedocument.theme+xml"/>
  <Override PartName="/ppt/theme/theme87.xml" ContentType="application/vnd.openxmlformats-officedocument.theme+xml"/>
  <Override PartName="/ppt/theme/theme106.xml" ContentType="application/vnd.openxmlformats-officedocument.theme+xml"/>
  <Override PartName="/ppt/theme/theme86.xml" ContentType="application/vnd.openxmlformats-officedocument.theme+xml"/>
  <Override PartName="/ppt/theme/theme10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71.xml" ContentType="application/vnd.openxmlformats-officedocument.theme+xml"/>
  <Override PartName="/ppt/theme/theme70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29.xml" ContentType="application/vnd.openxmlformats-officedocument.theme+xml"/>
  <Override PartName="/ppt/theme/theme94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2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1463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75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</p:sldMasterIdLst>
  <p:notesMasterIdLst>
    <p:notesMasterId r:id="rId125"/>
  </p:notesMasterIdLst>
  <p:sldIdLst>
    <p:sldId id="256" r:id="rId126"/>
    <p:sldId id="257" r:id="rId127"/>
    <p:sldId id="258" r:id="rId128"/>
    <p:sldId id="259" r:id="rId129"/>
    <p:sldId id="260" r:id="rId130"/>
    <p:sldId id="261" r:id="rId131"/>
    <p:sldId id="262" r:id="rId132"/>
    <p:sldId id="263" r:id="rId133"/>
    <p:sldId id="264" r:id="rId134"/>
    <p:sldId id="265" r:id="rId135"/>
    <p:sldId id="266" r:id="rId136"/>
    <p:sldId id="267" r:id="rId137"/>
    <p:sldId id="268" r:id="rId138"/>
    <p:sldId id="269" r:id="rId139"/>
    <p:sldId id="270" r:id="rId140"/>
    <p:sldId id="271" r:id="rId141"/>
    <p:sldId id="272" r:id="rId142"/>
    <p:sldId id="273" r:id="rId143"/>
    <p:sldId id="274" r:id="rId144"/>
    <p:sldId id="275" r:id="rId145"/>
    <p:sldId id="276" r:id="rId146"/>
    <p:sldId id="277" r:id="rId147"/>
    <p:sldId id="278" r:id="rId148"/>
    <p:sldId id="279" r:id="rId149"/>
    <p:sldId id="280" r:id="rId150"/>
    <p:sldId id="281" r:id="rId151"/>
    <p:sldId id="282" r:id="rId152"/>
    <p:sldId id="283" r:id="rId153"/>
    <p:sldId id="284" r:id="rId15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notesMaster" Target="notesMasters/notesMaster1.xml"/><Relationship Id="rId126" Type="http://schemas.openxmlformats.org/officeDocument/2006/relationships/slide" Target="slides/slide1.xml"/><Relationship Id="rId127" Type="http://schemas.openxmlformats.org/officeDocument/2006/relationships/slide" Target="slides/slide2.xml"/><Relationship Id="rId128" Type="http://schemas.openxmlformats.org/officeDocument/2006/relationships/slide" Target="slides/slide3.xml"/><Relationship Id="rId129" Type="http://schemas.openxmlformats.org/officeDocument/2006/relationships/slide" Target="slides/slide4.xml"/><Relationship Id="rId130" Type="http://schemas.openxmlformats.org/officeDocument/2006/relationships/slide" Target="slides/slide5.xml"/><Relationship Id="rId131" Type="http://schemas.openxmlformats.org/officeDocument/2006/relationships/slide" Target="slides/slide6.xml"/><Relationship Id="rId132" Type="http://schemas.openxmlformats.org/officeDocument/2006/relationships/slide" Target="slides/slide7.xml"/><Relationship Id="rId133" Type="http://schemas.openxmlformats.org/officeDocument/2006/relationships/slide" Target="slides/slide8.xml"/><Relationship Id="rId134" Type="http://schemas.openxmlformats.org/officeDocument/2006/relationships/slide" Target="slides/slide9.xml"/><Relationship Id="rId135" Type="http://schemas.openxmlformats.org/officeDocument/2006/relationships/slide" Target="slides/slide10.xml"/><Relationship Id="rId136" Type="http://schemas.openxmlformats.org/officeDocument/2006/relationships/slide" Target="slides/slide11.xml"/><Relationship Id="rId137" Type="http://schemas.openxmlformats.org/officeDocument/2006/relationships/slide" Target="slides/slide12.xml"/><Relationship Id="rId138" Type="http://schemas.openxmlformats.org/officeDocument/2006/relationships/slide" Target="slides/slide13.xml"/><Relationship Id="rId139" Type="http://schemas.openxmlformats.org/officeDocument/2006/relationships/slide" Target="slides/slide14.xml"/><Relationship Id="rId140" Type="http://schemas.openxmlformats.org/officeDocument/2006/relationships/slide" Target="slides/slide15.xml"/><Relationship Id="rId141" Type="http://schemas.openxmlformats.org/officeDocument/2006/relationships/slide" Target="slides/slide16.xml"/><Relationship Id="rId142" Type="http://schemas.openxmlformats.org/officeDocument/2006/relationships/slide" Target="slides/slide17.xml"/><Relationship Id="rId143" Type="http://schemas.openxmlformats.org/officeDocument/2006/relationships/slide" Target="slides/slide18.xml"/><Relationship Id="rId144" Type="http://schemas.openxmlformats.org/officeDocument/2006/relationships/slide" Target="slides/slide19.xml"/><Relationship Id="rId145" Type="http://schemas.openxmlformats.org/officeDocument/2006/relationships/slide" Target="slides/slide20.xml"/><Relationship Id="rId146" Type="http://schemas.openxmlformats.org/officeDocument/2006/relationships/slide" Target="slides/slide21.xml"/><Relationship Id="rId147" Type="http://schemas.openxmlformats.org/officeDocument/2006/relationships/slide" Target="slides/slide22.xml"/><Relationship Id="rId148" Type="http://schemas.openxmlformats.org/officeDocument/2006/relationships/slide" Target="slides/slide23.xml"/><Relationship Id="rId149" Type="http://schemas.openxmlformats.org/officeDocument/2006/relationships/slide" Target="slides/slide24.xml"/><Relationship Id="rId150" Type="http://schemas.openxmlformats.org/officeDocument/2006/relationships/slide" Target="slides/slide25.xml"/><Relationship Id="rId151" Type="http://schemas.openxmlformats.org/officeDocument/2006/relationships/slide" Target="slides/slide26.xml"/><Relationship Id="rId152" Type="http://schemas.openxmlformats.org/officeDocument/2006/relationships/slide" Target="slides/slide27.xml"/><Relationship Id="rId153" Type="http://schemas.openxmlformats.org/officeDocument/2006/relationships/slide" Target="slides/slide28.xml"/><Relationship Id="rId154" Type="http://schemas.openxmlformats.org/officeDocument/2006/relationships/slide" Target="slides/slide29.xml"/><Relationship Id="rId1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3" name="PlaceHolder 2"/>
          <p:cNvSpPr>
            <a:spLocks noGrp="1"/>
          </p:cNvSpPr>
          <p:nvPr>
            <p:ph type="dt" idx="37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6" name="PlaceHolder 5"/>
          <p:cNvSpPr>
            <a:spLocks noGrp="1"/>
          </p:cNvSpPr>
          <p:nvPr>
            <p:ph type="ftr" idx="37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7" name="PlaceHolder 6"/>
          <p:cNvSpPr>
            <a:spLocks noGrp="1"/>
          </p:cNvSpPr>
          <p:nvPr>
            <p:ph type="sldNum" idx="37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2E4B-5B14-4E3E-8230-B3CA5C8834D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18D9-A183-46B0-BEDA-D5647AB08A56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0AD6-E307-4AA9-8BAE-B47E45EA7B31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837D-AA83-4DEF-A6EA-80CA24F5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7CB9-E6A8-4D98-B11A-4A42EBD2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2A609-B290-4AD8-AA32-25B49C16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F085FD4B-214E-4C98-978C-B63FDC83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CEE59D8-3493-4A9C-B900-65C1082C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582113D-350B-4EBA-8CC3-AA16898B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BA9B331-797E-4FE2-B67D-D0F8CB80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6085D01-4D2C-4DED-9155-72EC96DF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A8AF3A2E-9AAC-47BC-B9F6-28C14D31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AD67B7AA-3F8F-4B0B-8795-20768206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AD17794-916C-46D9-BCA1-D43697A8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C7FD6C8E-6E3B-45D6-9BDF-914A3CAB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27420C79-B6FD-4D64-A27E-7BCD6F4C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4B1E9-E30E-43CA-B197-F15A255E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DCD95FF-1755-4DA0-9739-0D211ADC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57CD291-F547-489E-A9A1-4E9A61DE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2F5449E-E2C4-4EC9-8184-B6070F53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60DC567-72A7-4F7E-8ED9-AF061684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45159F8-7B66-4A5C-97AF-2D3D4DE7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526314AE-2753-4B3A-A788-767D20E9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F599DCDA-17AB-464A-9138-E7A2158B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D409D4B9-4C24-4494-8C8A-40F10B86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356BC04-1649-4693-8840-34CE27BA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A906BFB-FE46-4B0D-9529-8F124092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34793-8AF3-4F37-8310-9853CC91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2A91047-5970-44C7-ABC9-3F9B99D5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D44F0AF5-709E-424F-AD08-AF2B1FB4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F4519E31-DB58-43FF-918A-581972CA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2AECB3E-B82C-4DC1-A359-C62173FB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F684E89-D01D-48A1-AE4B-50102091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F8B9191-18B2-4CB8-9921-C000F796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D0E71CFB-E4CB-4AED-8038-A6599729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D5D8F08D-3031-4CB4-8B2D-22216339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EA5DA30-C50F-41BE-9AA7-4CEB630E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14BE265F-5F4E-4841-ABD6-28254D27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C9B05-E294-4F6C-965B-8B43345E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73193E8-A8A7-440F-A8C6-D0BDF0EB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4DB5435-01D6-496D-B1C9-AA56A738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4C39EA33-D9E5-459D-B277-50B1631A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258D8B12-CC21-4902-94C1-920C2A81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C3423D31-CEA7-4285-849A-0537EBE3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933F09BC-9F53-4B54-8A76-6BC2CAC2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3253A228-D60A-4585-A863-0541CDA1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F7CFA52C-9A3A-4BBE-BBCA-5729E2FE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B89CDF46-0B27-4BBD-9C7D-A6851874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99F2CDFA-90D5-4149-B936-7736D01E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A6438-7882-4685-B4AA-5869EE6F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5A41751E-0981-48CD-8693-F9940D06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386C8F3A-2474-4C8C-B702-E343ACF7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D46527F7-1375-4EA1-94F1-D229E759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DAA99C5C-A55F-49B9-B01C-1AEEBC822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74800231-2D85-471B-828E-8BD783CA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F59F5F78-7597-44F4-8123-59611530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247574E0-2E57-417C-A4B5-06019B8B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71C1D203-983A-4E34-9F99-D1F78EF1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9A70E531-8578-42CF-8B0D-A134D636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742BAC8D-9CC2-49E0-BBA4-F0C1A5A1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73232-2495-47C6-964F-9F8156F4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B274AB64-47DA-4413-80DB-35ED8437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7D323A5F-4D9D-46EB-81FA-402031FE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03B42C7E-8F3E-4809-8CC8-17814F77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37EDDC90-277B-484B-B738-C62F7DCB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0E915ED5-B1EC-4954-8A93-271DACCC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91983DF2-562F-4C65-A6A8-FA52FEBF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D412E840-781A-4DD9-8EC4-635A6666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129D786D-CF50-44E1-85CB-45451085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87056FBA-607A-4FAA-8ACC-FF0664A2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096EA7D7-71AB-489C-AFCD-91E38C6C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41274-7779-4696-A105-BD0CE96C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7C89B4B6-BD68-44BE-A21E-86170612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7731AA67-48C7-40FC-8F88-7246BC99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87A4C5B6-7501-48F8-B02E-C9F12473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9F71F9D0-19D2-4633-8E89-C29C7BAB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BEEEE846-642C-4E3A-890C-E8245271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0CFB7A87-F0FE-4FA4-9BF6-20497F15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D3C6BFA6-6306-49A5-ACF9-C423F4D6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4A3F726E-7B85-47DF-B208-967C8224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34AFC398-7FD0-408F-812B-08F09545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B0CBBBAF-4630-4AF0-9A58-1A2EF557B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DABAB-F2CF-4812-AAD7-D44B9382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8E3313AD-A154-4BC7-9940-4B480E7D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3E422351-217C-43E4-A91D-FCBA9A89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D5D5C0AE-8207-43D2-BD7A-34BB9F1A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2231E8B7-D416-460B-9717-4C2717A3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16C2013F-4481-4AC9-9411-2431C317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BF70AF03-FFCD-4209-8FB1-8199FF36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A602E0D8-F7B8-493F-A355-ED969451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9FDC1485-60B6-4829-BA94-69712344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2BF0162F-3D32-448F-8525-6EC0D96E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66F02CC7-BA93-4724-BC38-D6824EC9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FCAA3-6788-4A34-B20C-F3297C6B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A6D78577-5D21-425E-A714-C94C7001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E0378A72-B0EE-4C27-A26D-9D3E45CA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6B3F9B1E-894C-4409-B78C-238641F4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B74674E9-ABB3-459F-BB5C-8ACF1EAC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ECC291BC-85E0-42E0-BDBF-08BCB329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6030E410-8262-4FB1-B7D2-530A13E4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9C71D1C7-EF94-445F-9A08-A5D64878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3F25A514-9E35-4752-8C06-A785BE79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37D0F0A2-6139-47B7-A5CE-19F0D128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FC281F25-0BD9-41E2-8168-7C7769F7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A8912-BF22-4D89-8AC2-3E043B9B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B708C961-636A-47C7-96DF-0EE3E6AB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BA9CF60A-90AB-4A5C-BB62-B3AE9E6C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6087E298-7A3A-4A01-8D00-B36C1F84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5E710C18-8412-4A5B-BB06-45B8B31F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37698868-E5C3-4B31-8594-0B51536A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A212C967-E3C7-452D-841B-CD430BFB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8D92CD57-FE0E-47C8-BE9C-CDC3F61B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267FDB62-069C-4131-8E71-DA07DD16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803A2B54-4387-4E51-ADA3-FD28F61C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FADB9414-E4CD-4FE3-8AAF-51A62649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6360-D141-4114-ACD8-6A852CFF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62F11-35E1-4CBC-B5A4-FFB7D86A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4B1FB88B-79E4-4FA7-9815-42256CD2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AC761D7E-3727-4C0F-BF61-CE715ABB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61FFE25F-6767-4BA3-83D6-1E1E9FC1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EFBAC5DF-F0A7-48D6-87D3-034601F7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9BB6D258-111B-433B-9449-AF0216FA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E5508512-05F3-445A-9563-858239CA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1EB5AFCD-FBB8-4B37-9A72-5EA4BA3F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0410F652-5BA4-4497-9134-A2D28BFE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75CB752C-806B-46FE-BF43-AD30692B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BF62E34B-BD4D-40EE-BE2B-AD92CC2C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7EB8B-2C91-4D55-819B-133757D8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5EAAC778-5071-49F5-8DCD-9B5FFBAE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4A1BBC2C-16C3-45B8-9B40-80130986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BF98CD23-C819-41E2-89A4-95A5E71F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29D98B02-B8B9-474B-8C86-E51FAD63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6F6AC02F-8CFF-49D9-A735-0519181B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B2763C66-5433-48B1-890B-F728A30E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7A329C11-6CF4-44AD-A0CB-CC9743CB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5057BDB3-AE19-4578-B9A6-BE1E85AE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98A8B26F-C01D-47AA-8A2B-DFCE8306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3837CFB5-C95D-44EF-BADC-C859EFD6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0B6C6-D565-41D6-842A-8892F6DC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1C9CEBDA-6BA4-4619-A616-3BD501BC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E6371D0E-B9B0-439C-9D8C-E123ACB2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5B87475A-C2BE-40A7-9D12-94CDBFED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9BFAEE60-7181-42CC-83D0-F9005449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C908338F-8FA8-4422-BCCB-294CE962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426E31B7-E0B9-49F9-A6BC-4FA049ED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D840CDD5-B27F-4BC5-8AE2-6B81AB1E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BA623202-5B5A-46AA-B953-2F8CCA6F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F169354A-5C78-4293-9F6F-9063EDFA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AEDD02A3-B436-492C-B808-FDFEB2A7C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78735-38FC-400B-9381-77E036E5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5C2F015D-448F-4818-BDF4-9FD652E4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BCBC80DC-9065-4F0F-BF79-F31D61D7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40639B24-0BF5-4E27-A570-062E733F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EA5C71E1-AC93-4738-8077-009AC191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11BFCD80-1212-450D-A3D0-16F01C9E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95197EF7-F55A-4874-9316-4A88B95D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5244AFAB-4009-456C-8EEE-D9991FA4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3501A4D9-5760-4543-AFC4-49A65FD2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72D6E9D0-7F21-4E2A-94A1-BF4E2584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3CAA6AC8-24F6-40DD-A7E5-135241D1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8837D-7063-46EE-BF61-8CC9EF8F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30CA5889-7150-4212-8CC8-1B19A44C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0F7C5B9F-1AAB-4DA0-9C71-0949410E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40390DAB-DCD8-49E6-B663-DF2625FF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FA85F1D2-2F5D-4A43-90B4-3285BFC9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1BE62E5C-F1CB-4542-968A-3CECD66C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BFB50CB1-C158-4A03-A5A1-9630D7E4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A02E16F2-8729-4FAE-96C7-E45296B0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C745D727-E338-4E98-AF56-9F78F4DA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D5F75BA8-BBCA-4E16-B712-A11858D5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B71DA964-B21A-42A1-9A49-9ADEC0E9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210D0-E619-41AE-B45C-4C510C04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D66F80BC-D8E2-4213-988A-C42B56E1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396875DB-DEBC-449D-8879-6D853EF4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B7C85F52-F240-4539-9EB2-CB66CEED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4F1FCA75-67D2-469D-8B6F-C7298F04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AE8B351B-0507-4736-857C-4EAD2628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4D36CED4-EEB6-494E-9C89-4AF88738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094DBFD7-23F7-49C3-8B02-3C2497DB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B5A0EA1B-BB5D-4CA3-ACEC-B1D9C40A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D2EF6AF3-1B58-47AF-9347-1D05BE78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9BEFCA7A-9DC9-45B8-9D7F-26A123FB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4A67B-A8F5-4616-8D26-E5BEAE41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16E8B03A-0FF7-474A-B5BF-C6F59D0C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7039DE11-BA3C-4D39-A713-4BEC46BB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E5901761-EA3F-438D-8BC7-3832C7B3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C304AE8F-0A41-4182-95B9-CBFD6425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1EC3EE23-FD87-4BF5-800C-121D2215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596BBBFC-C246-44FF-8971-58532445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C441EFEC-76BB-46AF-AC55-BD54B475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3D20C17B-193C-4FBE-8327-E1B2A488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72951CEA-C028-4720-85BF-B8382357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D473580A-4183-4F72-B310-6CBE9D9E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090C4-A6C6-47A2-8FD3-A8C6A44F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0235AA21-F404-4C6B-A72C-BB555070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0420B106-9F25-4F19-83E3-B63C902A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52F8B847-4CC1-4058-81C5-6C9A57EB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869815A4-95CB-4AD4-8FED-F94C0DCA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01907658-A841-4F3E-AB2B-254BA4F9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B7212817-D08A-4CDB-8FEA-C8BB834A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DC822FF2-D085-4D93-94D2-51BE80CF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EE62BDF6-E9B8-4322-B043-B9D15634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4ADA09E1-8570-4A53-B414-ED04F6E6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E2F57C95-2B81-4BD8-819B-3B88ABDC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E0901-037A-4F93-B136-08ED3A2C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97E9E2B0-CAF7-421A-A36E-8671F6E0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FC5FCE20-18A2-4187-B688-45CF35FE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54252537-B969-4FAE-A211-B7341514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97C46F04-9A54-419D-8AFC-4A49D6C5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3051FB48-A0C6-4E18-95F6-1696D448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30F2F180-C80F-40CD-92AD-E39DE668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672A792C-ABA8-4FCB-A6D9-FBDDA2A9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1EA79120-CA2D-4F9F-BD17-7CE902CD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2ED6BAB6-3458-4B57-8E96-2FFD79FB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488736D8-78CB-4977-9C99-E961C51E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77484-C5E6-419D-B8BD-D232E503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FFC4B150-EE1E-4C98-8379-261743AD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E80D6225-05D0-4F2F-BE7D-315FAD0E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99C81D2A-1A09-437E-B1DD-00F1CF55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893B9B90-8E3F-497D-92DD-5D991C7D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E1966D19-814F-4386-90CC-4B2572EE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1253FB53-26F4-4855-BC04-BF06F495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0645371C-3DFC-47D9-8697-712EA243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E422CBA0-26EF-46A7-A8D1-5D8A48BE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2CEF182C-CC30-4047-A9EC-29D70DC3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DD47C21D-4469-4556-8AFB-ABEEFF6C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9A5E-B173-45EE-B302-FD5E2DBA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E169F-0CE7-4D3C-9585-AB3ED148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F1530FAC-A0F6-42B7-A12D-CAEC2777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01E1BF18-6814-4A5C-800E-451F9761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1E3022D0-5415-4ADA-9EE2-DE750E72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A4BCFB86-64B4-447F-ABCB-C6C04390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002D7A11-1063-4A22-B7B9-55C728A3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453D9FD3-C3E4-4CF1-A30B-21C3DFC2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072A3694-BF2F-42F5-99AB-CC575532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8BE4AFBF-5092-4188-B5D2-150E9CF2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A819A27B-11C6-4060-A79D-AA653323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A3F26F24-1C37-44B9-917C-44129A4A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FD542-DE0F-42D8-9684-DB445FBC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CF1A6D76-AE11-48F8-8587-92FCF07C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8936A5A5-AB4E-4611-BC96-E14B4967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7716CA6C-CC13-4AF1-A361-F99AC04A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72BBDBA4-DC01-470E-8D3A-644210BF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4D2304E9-F493-40F8-B7B0-84FEE375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3312280F-0071-4B66-9E75-0991D3CA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BD39558E-BFF6-421C-889D-B2E1683A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540D609A-D750-409D-AB55-63BF5041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5819200D-057F-4561-A013-EBB86962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C2D3D91E-3B73-42FF-80AC-34B1DB16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9AA1D-6B5F-4864-900C-E98F349D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6465BE16-009E-41FC-B9E5-CF47487E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4EE2396D-A7B4-4337-8162-739B089A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CA14D68F-D2B9-4E6A-BEBA-E24A5FFC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D24BA829-8099-42AC-B22A-23090CF2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89A60337-75AC-4A36-A990-7281E279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32BFB530-D168-4B3A-A3B3-24A13D52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DAA09D3C-A9FB-4A51-98EE-0CB5C91C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C13B22B1-F2D5-450A-B9BF-2BB6F501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39DB7173-8CFE-45AD-ACBF-6E46908A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2576BB1C-ADF5-4625-BBC5-0835AC93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A539E-C848-43D7-8E3A-3650592E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0CAB4523-A7FD-4D6B-8255-6B141CBE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B6E53282-285D-45B0-8F7B-58BED522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B0C88BA2-2A81-439F-97F0-14378E59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7E1B0303-265D-4971-A632-F47B51E3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D7172870-7BE9-464D-AE8E-688D7BAE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B391D9AA-571C-459B-99C8-E35F5058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0A2E16B8-C6B1-41B1-95C4-8F018C9F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DD94B8EF-DDC7-4513-B31F-BC21E31C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722E8A36-F3D0-4DEE-B236-62709407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FC6B3B3A-18C2-45C7-B7E7-BDDC7636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DCA9F-CFD0-4CC7-BEEC-D27F38C5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3EA42C2B-E972-4F5E-91C4-053233A5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4CF1AD31-F858-4D54-9F50-B1AFF0DB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C6769576-A436-49B0-84F6-6E90D9FC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81739C8F-43E1-481A-93F7-56B5C898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8E618B28-239E-4A04-B59F-E9EF7F01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517FEEDE-6AE6-46E6-8AEB-27A4D8F5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CB06F32F-4437-4475-A92B-3F667CED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85AEA8DF-31BE-4A13-908A-44C48FB0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E25501F3-4384-4417-9694-9D16F975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3B76D727-69B5-4494-B5EF-9FFB050D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5B56C-2F8A-40EC-B870-A9D9BD16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52F440BA-444D-4C34-A75C-E2E2A3E6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6E0A49C4-9132-48F2-A884-BF295AC0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8398CEA2-0B8D-43FE-9178-FA99A21C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7E2AA3AE-5B92-41EF-8A6E-A7C56940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7A76C9E5-E81E-418F-875B-82DE11D7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0A2CE422-99BF-4EC7-A965-36B4A688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B090EB3D-C5A9-460D-872C-657CE13C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A466E763-AE92-4962-8F24-A79BB657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CCCBFDC1-C1E5-4043-976B-0D9A9C42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E01FAF85-5541-47ED-9043-4D1E1A69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03E24-3CAA-45FB-928A-CD34FD97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0D5A1AC5-F5A6-4A8F-A1ED-D65EB5C2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74825D97-830D-4D9C-8D32-924E3F0A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EB5F9AE4-3C90-488D-A73A-2966AFE8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D4D5F39B-6DB9-4DAF-A2AC-B4EA0B63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95554C35-6412-49E9-8868-2FA487F6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34115DE9-30CE-4B6C-A1C0-89E18A28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2B6F2C80-8A10-4476-9E26-B3944175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2AE2B424-E4EB-4004-B866-26EB42FC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6A4F72E6-3628-4292-AACD-B050AEB4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79DC153E-9394-4C9C-83D1-6A336BD8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53C55-3BDD-4619-866A-6714881F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B07FA439-3BF3-4B0D-9A72-7F0D9F9D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E0A41F45-5D97-44DB-8E48-CE20B0A9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FA01EA50-4FB4-4DD7-B523-5370C407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474B82A9-B818-49E2-B40F-0486E7D7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9FD5C5C4-CF74-406A-AFC3-D9A289D4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C209D324-697B-49A6-9A6A-C990EECA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553AB4FE-6C32-4012-B52E-D7EE96F0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08821403-475F-487D-9D7E-69CAAF67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F9537303-F57E-4985-87A4-13633476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B1B6A116-9E7B-43C0-98BB-FD21C230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0E6DD-C9F8-4B1D-B5F7-AD2FF344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12CB8A1C-0930-4FB2-A3BE-98E2BEF7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F5C84C53-314E-45BB-9E15-3FC07DAE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2E1DADBB-6A5F-4271-AA39-1F51FE8C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98073125-DD9D-4F67-B200-E8373D6A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B53DD94B-CD28-4C6F-9371-87A0F2D1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5CA76C01-1EFF-46CD-B6D5-FD255067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ABA58CE8-9D68-4532-A461-037B694F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2A5AA809-B033-4FB0-B2C0-9D749378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86C98840-104F-4DD2-BDF3-7F11518F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63CFC262-4C91-4064-9AC9-62673FA0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D307B-6901-4134-88F6-157E09F9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18451953-A82F-4215-B346-292C8807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338A638D-1D3F-404F-91F6-ECFF7927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5A773621-8EA8-4075-B1B8-5CA2D718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9280864F-F91C-4EFF-8D9B-59080648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2DC7B272-8284-4DDD-95CD-99050171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7F3FBAC9-AC13-4BC8-9DE7-97DFACE2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C30FEBCD-87FD-422E-AC5A-2B37A7A3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16488438-5A2D-4BEE-9C62-190FD1CF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0412F8AB-C3BE-4E01-BFB8-0E6A6EB3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176E9569-BA99-487A-957B-A41580E1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5FAB-05B4-4D4F-A451-99EB021B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5EF7D-8238-44C7-B79F-A5658F97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5F8E9961-95C7-4E95-B435-E4F52D95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CDFA53BC-0452-44AE-B7EF-AF68EE96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D3EF1D8C-2F38-43AB-BA27-6B955280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B8B13302-8F6D-4E3F-B7AC-65C6CB29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A4B26E76-42BC-4F09-875B-D5CBDEDF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458111BB-DE96-4241-BF67-847BAFDB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71B597D5-99DF-4558-90A5-BFC91435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5C40638B-733A-4B15-99CB-06E7C113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D29DC87D-C875-46E9-BCD2-4DC5B8C7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E6DADE8A-1C4D-4199-85DD-509C6174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E3464-A17F-4B5A-BD55-EC1ECF2C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F460029A-0F6B-4C20-915B-EB717060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62A09530-7FF8-4515-9F9E-8D116DF0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69A30CD2-8357-4541-B129-1A55B7B5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9A34596B-77ED-4D17-9E6D-F55BCE33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CEDE7C7C-75BB-4621-B168-43A00EEF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13BE765C-BDAD-488B-97D0-1F3F980C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C5A8FD97-AE81-4F82-A82C-626CBB90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F0726802-1FBF-4742-9398-0F60B99A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845FF317-E101-4575-A03A-914D172B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2A3DE905-5D9C-42B3-9D50-54EE4DE8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01CF5-048C-4131-BD74-429683EF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2ED8F67D-1AFB-4221-A8AA-F50B3002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810F6B58-B707-4989-9B57-B986C53D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62884461-424E-4570-A0BF-AE1B772B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93ED3E79-E6CF-4372-A1C6-A66802FE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DC7C380D-32F3-4AFA-8235-F9E7B53B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40CE1520-72F7-4DF6-98DE-06201FC8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E5157CB2-3289-4AF6-9465-B9451C1E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ACFFBC7A-63BE-466C-B121-D2DC6C3C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CF82E9B8-37C5-4488-8754-94AF93E5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C03C02CB-A2A0-4392-A0A0-5B63F29D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1DB16-AA4C-43E2-A03C-007CD692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A8568972-9799-4964-848A-8B7A28B9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66810ACD-5B0C-428B-8F23-6A0E1142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FED44A38-3D17-48DF-BAC6-3EB475AB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72036C45-3744-47E9-BC38-57487444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07307CD5-93AA-4681-ACF2-CABAB58E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1091C0B8-ED87-4BAD-B548-A5EB5474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B0218D61-1213-4C8E-9438-0A1C64C2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2948F89B-2649-4AAC-887C-D7A3683F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F3429480-60F3-4219-97F1-185753CB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DE92B0FA-8DEA-443E-92B9-A53637EB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D9D2CD-FB19-49AF-8F37-AB986A59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91E49623-73DD-47B9-B2E2-1E98718D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0D8AD41B-E5D1-4FE1-9FFF-ED9971FB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DC4035B3-77D3-4A9B-9DFF-4D2B7BF3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9246CD80-7CE4-45E9-9DB5-553B99797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B97D350C-1772-4B8B-A30A-9EF9E55D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3B360C70-ECEA-4691-A6EA-9F28C299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3AACB11A-F737-42BD-905B-AA188E07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CE63770D-E719-4433-BE3F-4DB22DA8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9E2D3EFD-9436-4EB6-A49B-65881E61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0854465A-5357-471D-B7E0-AD055B8C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31403-9A5D-422B-86D8-5D9614AA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BA69D968-80D3-481E-AAF8-77E6395D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CD9D8CC5-B5B3-49E6-9BDF-EB2D31A2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0FE571A5-327C-49B7-B96C-82EE166D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062F7218-BC41-46FD-842D-A2D65046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C1DBCEAA-C81C-47BD-8719-688D0891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52B389C2-5F03-4C52-ADF3-AA73BB78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4D612391-D155-4C1B-933B-875B0F4EC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1FB927A4-B415-4F6A-8C03-D57D411B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EB6AA76B-5027-4C00-BF35-41105C77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4A0C79C0-AC82-4E03-B8A8-E4250C54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EDBCB-5E2D-4F40-B6F3-B1E06E50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23A2DE97-FE77-4BF6-A9BB-36EE45EC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6C804C1C-D750-4AFE-9ADD-5913B51A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65A125EC-67AE-4400-82CC-E81581DF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A17CD0EB-D260-4182-AA0E-5E5D9EB1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D7A90D4A-8FB9-4B87-84C9-E07E6BB3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E46822F7-EEBA-48BA-B59B-C60F1B55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9902D626-522F-43DB-B4E9-39A97486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035B3F6D-823D-46C0-AE91-08B96AC1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A262AF7B-B1E8-4765-853E-3B25E773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FA4A3AC3-6B5A-4BA5-B6C9-EB341BEE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CAA7C-E743-4936-A42F-F7C0B040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A98C2703-33AF-4B00-8A6E-6F367F5B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7A7A1270-2B10-401F-836B-6B7941AE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06E48BE5-FD31-41D1-AEA2-DD368785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D969FD1A-DA08-4415-8820-EADB7B8B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0FD7C0D7-9F7A-4AD4-BA76-40F25854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44D45ED9-871A-4AA7-9742-83B158EE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36F81B13-608A-4481-B123-6615BF6B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7E7BD47B-85BD-47F1-B5E3-AA589147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51E5AB5D-6C75-447E-B48F-7BEE5AE6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944D0404-201D-491D-AB2B-B9E34000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73993-5708-4932-A82B-5192D670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69452E6D-15F2-4B69-ABFB-021FF4CF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C2CDC78F-31A4-42AA-BFAE-FD4735BB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A1BCACEC-D5DF-419C-972F-7085857D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9B053152-FAF2-4D91-A223-39CA7EA5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AAF48503-ABB0-4F72-881A-97E6FC2B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CCEBA493-3375-49D6-8925-B96AE28B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397600A2-A337-441D-B05F-C4CCD545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5715EFCB-F6F8-4087-8339-1FCB4ECD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6B94E321-41AE-4056-A3B4-E513332B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1928B2A7-DEA2-4B18-A166-6820C6D7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2820E-245F-40C3-85DD-8083D941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55437F5D-A67B-4988-95D5-99D2E2FC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4126CA16-67DE-4BBD-8514-938193A1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B223963F-DCF2-4459-A116-9EF906B1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64373AB3-7624-484B-AA5F-EC026E15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7991AA6A-8AE7-46E2-86BD-6E84CDF3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A6FF9EF3-763F-4D1D-800D-64754FF3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F9C40CE2-BCEB-499C-AD3A-A568EF7D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F4F1EF36-FAC6-4F03-B69F-6D3FE64B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9FC43793-4AB5-404D-9780-4C021784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BE6EA1AA-DCD6-4BF2-89C1-50A03781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A975-5195-450B-B972-0D3E450B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F8469-83F6-425E-AF0D-CDD7B342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7FBBACC5-28F6-4109-A25A-26E3D25A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69D100F3-F2B6-4433-AB8E-82A04B85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9CF7AC30-1383-418D-A931-FC91F87F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4C388E7A-2A60-4E63-9C89-AC9D461A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BF3D70F8-7414-43E3-8337-C0270005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0225CF49-0F06-4A34-BDEA-0BCB7083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70C87640-2528-4E40-8E98-4B939862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CC09A663-CB42-4A13-9D35-2B3BEE10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EBB83B61-6CA1-4216-B3CD-3111CD71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BDBF9C57-445C-47DB-8B82-D141FDC4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CBA66-D422-4F20-9F76-2689CDB0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EB806D9B-6B82-4314-A068-D6E311E6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8317C2B8-7044-493A-B42E-73C9A7FA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9E285084-D38B-41A5-A7F9-CA6AF2BC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6A6A3037-D69D-408F-A803-EED807FB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94530C0F-3865-4585-9349-36A73D87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66E2260D-2502-4E3A-A23D-FCDD0C6D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9BEFEF14-C9DE-4021-8E25-D1ACDA79F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2E3D83B6-5C3F-436C-AA22-361A056C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95FCE14B-C8E7-42CA-AD10-6CA54187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F5EE0E16-DEEF-4752-BFB1-ED59C8F5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420CA-2ED2-4471-B5DE-3BE92255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4052BA3A-233A-4BF2-99A7-E7422D99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B4295A38-D860-45FE-8575-D91FA4F1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456E93C4-E869-48B7-A4F1-59E10DE6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E5B2EA8C-3AAB-4A7D-A7D4-EFF076C0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F374F0E6-24B1-4FC5-98C9-758E4ED4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08BE7468-742E-401F-8EBD-2A5A26AF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590219D6-CEF0-4BF1-8D52-6D46F2F6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BAD80CC4-8B93-4F55-ABF4-D240FC11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D4C393A6-0624-447F-90F5-D0BF9BE2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AB6899D4-9839-411C-BCA7-F6E9F439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2FB65-B20C-42FF-B2B9-67FECB7A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A5ED86FA-07CA-4A41-B9BB-A4183F42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153FAC42-DFBA-43CE-BEAF-298D54E5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29943C1E-6AEB-4E92-A412-975D6C85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8A7A2DCD-3C34-49EF-A045-1D8100CD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4CDBA491-420E-496E-9C23-98C9B947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8319C0A2-50FE-4B9B-BCB6-FA159700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A1AD3FFC-BD56-4037-9657-F44138BA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C641A68A-3FB2-4415-8B54-EDCC432A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DCDC5266-B352-4458-A082-F83FCADF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9675BF5D-463D-45DB-9320-4B9F15B4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661FB-99F1-4070-9203-2F0B1873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6C609164-2F17-43FF-B1FC-CDD4DABB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58327C73-88ED-463A-A1D1-757E230E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CE054ED5-ADF8-4950-8F44-C4A2F438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CF4AA20E-B14B-4C69-A046-80DCE59E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67FB0547-6ACB-4266-BDF0-65014064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CD9FB426-1109-4291-92E6-8D0ED1E8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853AE029-2FCD-4238-B463-3D8463B6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0E888130-3F49-4D30-A531-97E728F6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8BFD8FAF-8AF0-44EF-BD98-BDFFCE65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8F0D87FA-3A71-4356-9663-70921438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391565-436E-4733-B389-485FB2E7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334A0E29-A68A-4D7E-A18E-3BC07CEE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67CE2CEC-9E23-46CB-B9DF-E1B30138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D32860C1-87DB-487B-B46B-9F8D2C3E9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FB6327DC-C70C-4D7F-82E4-35601920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53016B85-4465-4051-A7BA-AFB189FE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5B5B999F-8BFD-4EB3-905D-B5989B9B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56E22FD4-9A64-4517-BF9A-A9DA893C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707753C9-3801-4532-B208-0EA5FAAF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16FFD4F3-F33E-4DA6-A8D9-CB535133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50577A36-2AEF-43B5-858E-ED1B8E28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E6CCB9-CD13-4E32-AA7A-A835BC5C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9EC9E7F0-5E37-4FB0-8B09-714E8968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EC12F301-1F49-4164-8F9B-CABD719C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E20D0276-0D40-4168-A2C6-8ADED5E0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E4A3F241-D6F8-4C77-95E5-D07E7181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A46DB689-52F9-4BFC-A9DA-7F49C166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750BE359-7847-4DE3-A09F-FC6E6679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07686C02-8C87-49E0-BBD9-CF8E30D2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F019652A-EB63-46D8-A2C7-B267CAB6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19625165-4AB9-43D6-9FDB-F75C9236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A4FB3709-328B-4C1B-81EB-EA78375E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A262C9-C4F0-4220-87D1-CDDD19EA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C61FCBF3-9D65-44A9-9389-B2A7AAD4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14EC5D60-BA79-4D37-B7DA-F0F369B5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15F1BBEB-C45E-4D2B-9441-0ADF42A7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46A79BA1-D2D6-4DA4-B706-47BE0029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31F196BA-8C2C-4571-A257-D40D7960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EC631B18-387B-4C6E-868C-A459E9FE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EB5D0BAF-1016-4B79-B2C9-55B28343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BD529C-B535-40CE-BA33-B6099D34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F8FE24-3A37-4C2E-882F-73EB9F45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52CD-59F0-4ED5-ABC5-FB999DD8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3A7F5E-998C-446C-A49E-CDC633CB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66F4F7-E400-4F93-A0FF-A184BC84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00E324-0E93-49EE-8A17-7690A0AF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C8526F-D0B1-47B0-AFE9-64BF36C6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22AEAE-6E35-4913-8FA1-D2C45AF0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B74A87-6E50-4B3A-9F38-55E2F68C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04AC8D-924D-4F22-90A7-AA2001E7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389779-4143-4D18-896D-8E2957B9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14C3D8-71FD-4FE7-8E02-EACDC7AE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BC6106-BD4B-469D-89B9-9821D147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4689-BC49-4FE5-B204-FCF708A2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196506-42D6-46CA-993F-9047FED2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DF83B0-8364-46BF-BDAF-B2686B23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BBC840-2FE8-489E-990A-4313A962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57C358-0177-49D0-AFB1-84487141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DCEF8E-40FB-4D34-A9F4-CE55E9BD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42F6F4-5710-43D9-B510-40666A04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306A3D-58E0-4CA9-B653-69825FB1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AFF522-A4E9-460C-9451-0A917373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40DE8E-7F31-4C48-94FA-55623B37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55B3CD-DDBD-4DCE-BDEC-7428C400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4969-8E06-41A2-A917-E51BA4B4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0BAF36-A472-43C5-AD2A-71DC1645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AB24BF-E579-4CCB-973E-A4C66225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2C208D-C9EB-40E4-AE83-8DBE3026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770793-67A6-477A-B7E0-A05F2447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80C478-AE4D-4260-B7C4-96272D15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4B3A6D-B574-4181-868E-B58A0CB9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AA0885-F3C4-4FFC-8891-3A433590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B2BC7B-DC10-42A4-AFD1-6CF8E22C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EA14E8-C5DF-41B4-A893-425D7250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6741DF-8E39-434D-87A9-6049F22A5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7498-D29C-4588-A6E4-8982ED9A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506D9D-4BDE-4B77-9C12-C7D5809D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B5EA83-9EA9-4908-9270-89885082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991917-8312-491B-BE75-1F01E229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12D967-B90A-49FC-B6A3-8AC047F9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3996B3-20A2-40A5-840D-20DC7059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2E46EC-C5FF-4B0B-B9E2-650817A2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74F5F8-47EE-49B5-BD20-3C2DB943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4D8691-1696-42F1-846F-B575887E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8F412C-3187-4DEB-9CED-7DF55B97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56A2C7-791B-4F43-8913-BB5AE052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1EA4-AEA1-4D7E-B670-9E2ED170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2DC509-F64B-4499-8CAA-1F44C063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15610E-7EA0-4B72-9CDA-00CD32DC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EC7C12-A981-4E6C-9A10-F69AFB2C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CF37F2-2ECF-4341-853E-B5A5DC8A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05F824-D66D-43FD-83EE-52A94602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0D499E-F576-415B-B78E-21FF575D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DE5630-DC2B-4E23-975A-6FED47FA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5464A7-4DFC-41E0-915B-24E9286E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CA9111-34AA-4B41-B60A-3D5417F0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2EF023-E1F6-4970-88AC-120E0F6D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D0F3-475E-413E-AB69-66D59529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C82D-EC5B-433A-A9C8-B313C604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FC354A-8881-4590-997E-5A113660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5F7EE2-D12B-4D13-88FA-F3401288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920F79-8EF2-463B-ADC7-4ED985C6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F001D0-06B9-4774-B46F-3A37C14A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1E7D64-81E7-483F-BB10-583ECBB0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B557E1-52CB-4D55-AF87-85F2219A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6F5CE1-BFB1-4F2B-9845-D59DE680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D54CAF-476C-4610-9AFE-F06102FB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03B3BD-70D6-426F-8BB6-2FCBB6FD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4298D4-C2F2-4B53-B362-04FFCE35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F1C7-3E10-4A07-9F98-E7A19782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D840D4-E1C1-428E-8024-C334E770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DB2997-7715-41BA-9EE9-204C3F03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18765F-1E2F-4CFE-B7E7-62956BC5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FFBDDB-F90C-4945-9907-BA9A4F84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8AE0D1-CBFD-42B4-BE8A-B851D579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AD179D-52F3-48FD-8A95-A8022B47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6FCCB7-4724-490A-82FA-08A30C5A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BBDB87-AF1F-40C5-843A-84028FAA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75AC69-7616-44E9-99DF-D144752E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283E88-8408-4870-9C7A-D839E379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4E15-4D85-438C-A8CA-05DA08FA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817979-6F4D-4016-983E-FBDDC43A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4348EC-D050-4EC6-85CE-CBB7C1CA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4CF3C7-4DF7-4C39-A2C5-3399CE03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974E8F-3144-4809-9044-9DAB0A0B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03CA27-388D-4F53-897F-97DC761A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70CD11-14F1-419B-9C97-86B0933C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9AEC3B-70B5-4DF1-A539-196D9EE3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78C755-9563-46FE-B0D4-B5960985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AC2B64-761C-4DB7-86A8-4CC28DD6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271532-4F14-4970-A73A-CAE2E9EE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D092-D44D-4A32-AF27-0646A470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7AED50-D1B7-4A79-90F5-1687F5A8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B9803C-3B82-41E0-85B2-4B7A61A2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C22D88-6E24-446D-A78A-D30B86FD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53DB84-1CAF-4699-871B-3B64DC59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5F2B28-1668-4ECB-80AF-CFB3FF11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D09D2C-EAB9-4AE8-BAAB-3285B9C5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E5FAC3-C73C-4D16-B799-AB8E2BD3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ADF842-522E-4CD3-A36D-FF346F4D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62725E-FF59-4D49-932B-BC8AD713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CA6D31-85EE-4013-B0C6-9B1EC622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5D67-CB40-4729-82BD-4BD018B6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9D5AE7-C6C3-4EB8-A27B-D82B4A26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B85BFF-E5F8-4763-8BD9-7184B25F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7EA41F-F3F4-4DF4-9537-E5D2F46E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5F6F8F-B99E-49D1-80FA-A8950E74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647423-9BC0-46E1-AE13-3F87F2E5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24148E-F2F1-47C8-9382-25FAAE6E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0DAFAE-C7D2-4904-8A54-953039A9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EFF390-E9FD-4391-A2C6-6E3B0145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BD79F7-AFAE-4A83-98B9-0B5507F9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800D71-3A5A-4357-9E89-EC53D6F7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BF59C8-91E3-4ED0-B31A-CB065128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041EB9-F60B-451D-BC69-EE9B8D7E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B08DBF-333A-498A-8FC8-BA171C17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D49DC8-86D6-42D2-8E16-EF4B3511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69A391-61AB-4F63-883F-383D73BD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A3EB00-0CA7-4B97-A3D4-FB84E31C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732E03-8301-4AD9-ACEC-3052E5D7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D50E14-BBAD-4DBB-8944-C06ECB7E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0F5C61-87F6-4C1E-858C-007E8EDC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4042D6-E38A-40CF-A0FC-ACEFBE82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743B5F-7CAC-4F0A-8B74-F9628F67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F011F5-F7A1-4191-A964-942614AD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95943F-E7C9-4A5D-AF3A-47355E97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01E022-D5C9-42E6-B6D9-49553234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29E9BF-F7DF-48CD-BAC8-D873EE8E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F2D76C-D798-4498-961C-9BEA8EE2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382EF7-11D9-4DE0-BB5E-7A223FB5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C2ABA84-4716-4173-B45F-ED1C928D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AE5066F-6240-4140-8AE9-202B7BF0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DEA7708-6443-48D1-B15A-EF2C6AB0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23EA366-A374-493F-BB1B-5CD72670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C66AD9A-4444-4CE1-91CD-981F980B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9E3EC-03D5-493D-A785-5E6024AE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31A82C3-EBD4-4B0D-83C5-8A6A5513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6445FF1-252B-4123-9737-C2DB8E85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DD4EBFF-30AC-4CE8-A646-F0CC03C3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518635B-7A4B-409C-98AB-1D7E8B9D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F0B0854-7C72-4D86-B62A-04ADC266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0344953-8FD7-41E8-B178-987867F3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79E8C94-6A06-4400-B4A9-F29999B4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A366D2C-7DAF-4FC9-8347-95426412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9FFCFB9-BFA6-4F48-9699-0ABDD070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EEB39BD-5D7B-423A-9A51-C4F631D5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0D50A7-682E-4731-A326-BA753F05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C4226CD-F3A9-41E3-B823-21052297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FBF545A-1A1F-4D26-8068-D16DEF57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613E789-4BA2-46E0-878A-AFB2AA6F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02C7FDA-B64F-46C5-8984-528F89F3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504CEDB-58AA-49AE-8575-C1FE4C59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304F3CC-88AD-47BA-8172-A75A82A6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2832315-069E-474B-854A-1CAA6AFC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781A381-1D65-4DB3-9998-65362CAA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AAF3BE0-168C-49EF-8869-2040B676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62F0E94-EB33-4F60-BDB8-0DA29772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936494-9F71-4C52-B165-C2765888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0768ACC-BA8D-4EA9-AC06-69D75998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1CB5586-1F20-4064-A36F-2701B570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BE972E4-190B-42C2-AFBF-7ADB3F96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9E3CC12-5159-4674-B4A9-527B0598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390A96C-0B68-429F-B5FC-49ED0EEB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B97FAC6-B45C-4EFC-A647-2621DDA8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FBB5BD6-3946-4810-B4B7-8CCEBD8D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A4A0F57-21F4-4F53-9644-F07620C6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F60E34F-D281-4CDA-B7D9-06020FA7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4774E57-7366-483E-8509-A5C28159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E6DF-A087-467D-BF20-38AD9FED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0F8ACB-8452-4562-A0B6-9AF8EBF5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60A8939-D449-4322-85EF-20EDE35F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750BF86-525E-4640-943D-DFE71A75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6CB26F9-78E3-416F-9C5C-3D7E7BBF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3FA8FE1-A9F1-498D-9FDB-93E4C088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EF099E3-A9E2-498D-BC6F-23E27BC0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C3A6405-BE83-467A-8F88-C2BFD301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87FCC94-BA9C-45B7-85A5-E9772709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F9521F2-BA86-4204-A266-557873E4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FF070F9-4A55-481F-8A12-A5F94116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2E0FA4A-092D-424C-80D4-CB95B3BD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5D331-23E3-43D3-8BC0-456D00BE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8CBD0AD-E420-4360-AABD-4006EF50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FC37FFD-55E4-48FE-A661-EB1B648A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05B29BC-C6E3-448B-B2BA-624F0E69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948AC9A-1D7E-44A9-9047-9DD6F5BE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6F8AE6A-EF50-447D-99F0-C5C3A744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20C1853-2E2B-492F-9C5C-7846F660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88E1287-2082-4327-A33A-3B60E8AB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84137B5-2DA2-479E-AC3D-C7C5E649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6BFB999-E252-4A8A-90B4-955E2B95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F660D47-87F3-4499-AD9C-6C8FE9E1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023DE4-D5B8-439E-9DC2-7F7598DF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E0BC0E6-04C8-40FD-A07D-C61CD3FB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BE394A2-DF5F-4C61-8B42-7810A46F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F79297D-E056-4CAF-9154-C0F82280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95CD341-05D8-483D-BB81-449F08F2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1790815-4566-4C9C-884F-17293927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9E667E7-DDB6-47ED-9092-4F747854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22483E6-DDD3-4A9D-97F9-6E8AAD76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3F99880-B96D-4FB4-A285-E558AA27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F1F8C19-8105-4F29-86E2-2B6DBC62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E64682F-8B08-4EAD-AF40-97D8374C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0BE947-7B16-4680-BDAF-FDF6CFBD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A17E571-3647-45A8-888D-4790B299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49AA397-4965-4632-B520-4E55022F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06183BE-6083-4996-BB92-3C843A15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E38DD5E-4025-4C8A-BDD6-D30C0193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D80C8EA-76F3-401A-9371-A118BEB1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957BAA5-7701-47EC-A6F9-506D0C6C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2955176-20E5-4A0D-929F-F28F2664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D2FC6E5-A971-4DAD-89D1-237992E9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ECAEC34-C0C1-4672-BB05-30DC5267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E0CD05A-4E95-48E8-A4E5-C23A5A76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E5761D-177E-44CA-AA1B-EF8C8555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702ACCD-24F9-4609-9849-2394FEF4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561E797-0FB8-4649-AEEF-58392CE3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7B75751-A01D-4FD1-8CF0-9A8AA04E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987A785-6B5C-4127-8836-4F5C1D28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35F9ABF-4C80-4F40-9863-453D8E8C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3A0A5BE-34BA-4016-B548-9D7EAE37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DCBF09F-E06C-4F0E-847A-CF9BDBAD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029E91A-8D1A-4D94-9D3B-241DD43A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07F7F6B-C9FE-4C3C-BF7E-801AEA19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76421F6-20B3-4FC2-8EAB-C2E8B7C8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468D88-2C2F-43A4-A48C-6599DD1C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51314E5-B378-46F4-BC84-1528E13C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4601B13-A7CA-49E5-9531-ACFF6385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E23C25C-460E-4EE6-AB18-9821520D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679FADE-7743-488E-88BD-7189186C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E97EEF6-E456-4CFB-85E2-B5AB5DA5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44280EA-C60E-4C4E-9989-4D52D581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7C75ADD-4B37-4AD8-BB27-31589387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A0C1BA2-FEEF-4BE8-A2EF-63FC64FA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ABE4C9D-780B-4ACE-A99E-7D6FDBC7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0AB5A1F-0D7A-49BD-86F5-A75EBBC6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85533-A74D-48C4-8BA3-54ABB913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2E2ECD3-3D98-4FFA-AD47-8FA6F822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E2544A9-A60C-4F75-90D8-32B9A612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12F394D-23E8-446D-8CAD-93CBB1F0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E406F43-18E0-492F-AF48-661EAB95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E959584-9841-4A0C-8D94-4A476133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130C06D-2C99-408C-BF41-AB7AC9DD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D5F3C7F-82CF-4B3D-B50A-ACB64122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4DFC2FC-4457-49FF-803C-82C7E211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921664C-88A5-46BE-B6FA-6CAF4620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F130A41-A5F9-44EC-B635-CF042577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A24BB3-8B43-4B97-9150-A9413EED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C8D6391-0E1F-41BB-9F52-DC317319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C7E3821-CA53-4B37-B8FB-68D27218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6326E2E-DB22-4581-8FE4-3055F777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B36891D-24B3-4FFB-90CE-B8B13D5C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36BBF3B-E721-41BE-9687-624ED18B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D9E16BF-239D-45B5-B98F-4551B2D5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568DE5E-E95B-4014-B703-3C086084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DF12218-8580-4216-AA7D-E3116369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D7EC056-66CA-4F69-9729-93E69100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DF44948-A14D-4970-9A9A-64E5CF3E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3C3E5A-D9AE-4C42-9F99-2D1D4226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A9D1DAA-C4C6-4A07-8701-CFDCC8EA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482B477-87CE-411C-92C3-990F84BD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0BAD282-53EE-46AD-8B33-96E5F50B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7B1F66C-CF29-4911-921F-04774E1C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C9A583C-A6D1-4764-9A94-6674C10D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D2B614D-D6F6-446A-934F-2DAB01AD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1FB9AB4-E088-4B19-8423-CA3A323D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97C3C50-9147-451D-A26E-039E623D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2C46E86-427B-4873-8861-6D4CFF8E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096741C-E617-4BBD-A6A4-A46313BD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424F84-57FE-4D97-9C60-9100A838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BA39325-C38D-424A-8FBD-46982063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A454814-6E32-4733-8690-1C717BEA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86B8C16-2403-4F5F-89A6-A10364A8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DFA478A-B60C-4121-A07E-E83FA5EE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B1DF1C1-F9C4-4C3C-A0AF-55398C30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22A6CB2-409C-4912-8C2D-A01D8210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98B71A5-FC6F-4617-B8C6-FAF58BDCB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D4319CA-8EAB-405B-841D-BB971150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FD1626A-4CD6-4087-BD08-10B6056D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4BF91DF-F57D-468E-BC34-2AAC2B39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A2F4-9D70-4ACB-8463-D74B8E7C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16F499-B0FE-4E45-96B3-F37A8250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E83293E-2FE3-45EE-8E2E-6B0B4558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6906976-6260-40BA-A701-2FF545CB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90ED1D9-205E-412C-9B5A-E55BF831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747DE9E-9138-4F77-BC47-5E5E6EB2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68A1BCA-FF47-45DE-B6E9-60710B61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4C0A0EB-3665-4240-97CB-C3CEEADB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B718B21-280D-412D-9D5B-F99E25C9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6250CBE-5924-4157-ADE5-359C389C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6E4D136-CA31-4ABA-B088-298FC8C9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88003D7-1111-464E-B6F3-5C679F59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98FDD5-8929-497F-AE58-83AB4236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C02E99D-AC99-46DE-A529-7FAC4C2D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8F65C4B-2186-4227-B3CA-83375959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95BD904-781D-43A4-8DA4-FA5599DE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FC9F2C0-2490-43A0-8997-FAD086C8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BC799A6-9D2C-437D-9B5F-174325A0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30DBFAD-7759-4CEF-A6CF-69E4963C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FE18ED6-DF0F-4EE8-BC27-1FD2DBD9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9B176B3-01A4-44FB-80AD-9C96BFFF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FBDF508-C24B-4006-9AFD-0B69B88F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C9C754F-72AA-45AC-86C7-FBDF10BF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8A7E82-0860-408E-8480-1F6A7F7C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6BE305B-4754-4238-9559-EE0BAA3B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5D424AE-3875-4CA4-A97F-AB04440E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B85CD34-F7CE-4322-A607-E3CB944D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376743C-9A41-48F3-930E-93511B59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52BFFD7-CFD9-4C63-AAA8-DAA1EA3A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B914B72-8AF7-4DB4-A243-D8EC5001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46CDBAE-D52F-4B8A-8610-F05842E2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1CDD717-0E99-466F-8DCD-EE108D43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E2D42FF-9DC6-462A-A44A-79B65508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774415F-1B44-42A6-95D8-BE088E07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4D3818-34AA-41A6-A6A9-72CDF567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D0C7311-B650-44B5-BD07-586D32B2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7261E84-06B2-4511-9790-593B2F1B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B46204D-F4EA-447A-8917-D60C3A39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623F581-47C4-49E4-AAFA-F21C3B87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73AE8F9-A54C-4E18-9DE3-F8DEEEAF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7470981-6D13-4564-9AFA-12BD4076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26CA832-E20B-45FA-9AFF-F7856A0C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C9A0FCE-D736-4654-9A7F-5E5B8EC6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EC83350-A972-4D03-81E3-A6827852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FD8ACEB-6650-4188-99D9-9883AFFF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ECDC6A-B536-4DC6-8A09-1B6A691B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0520699-FD38-47A4-B4E5-476B46CD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97B621D-E532-4B89-B76C-B12E642E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B2E2060-29D6-4149-B148-B5DC2AED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27DE641-2387-4D8D-879D-AC0653A9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14C2819-E917-44AF-ABEC-D0093FE3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B535265-BCC4-47E0-A07E-7EE501ED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D603FB3-7DA0-452F-BEFB-881E4208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C0F1B60-FAD9-4945-807A-282EA195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006ED1B-E699-41D3-8FFD-28C7B638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D3B567A-C823-4BAA-95BF-902BCCE5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0636CA-96D2-41E9-BADC-030D9FAF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4C5141A-48F3-41EB-9C89-B54B9F74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27B5243-515F-4074-8229-DFD05178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4B72652-A53C-461E-B859-F26052B6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E368F6A-74F5-4C24-AA4E-CB7823DE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0F9C988-39C9-4770-8FC3-189697CE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7901BEC-4BEC-49BD-86DC-FAEE4046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7C646A5-5A50-4E72-A6C4-2AFF3A49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B805C74-27E4-4430-A77A-13BC35E0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99AE71B-B2C2-4786-9C5D-5437BE24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FECE34D-14F7-4927-B9DC-C1E8F038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EA0186-69A0-4B61-8F6A-605F2FA7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744A17B-F7C8-4945-9FB5-EB644624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2ED3CD4-9450-40FF-BAC9-E433F5D5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26555B6-8978-4C84-B894-CA7259FF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2A7E85F-E930-4F9E-B393-BDC92836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EC546D6-9D41-4D4D-A7AD-9556B998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68E0250-1DA7-4693-BFBA-4B80F9EE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67A4325-4B7C-4B17-AF2B-A60DF49D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CD2B228-3847-4839-A35A-AE437949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4DFD9CE-DE53-4BC0-A97A-90E52535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ACFB724-AE93-474A-85BC-5A15510D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9B0878-48E7-453B-BE42-A4F0E58C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A6992C1-AE82-4ED7-9A2D-61AFCB95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3AFE1E8-E010-4E7D-81DB-E964EE09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1D638A3-CB89-40AF-8990-3D690EED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6419BC5-6746-4A69-B67F-BE61A783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BC3F440-CC20-4D66-ADEC-E8AEF6D9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9455DD7-1427-4665-8231-297EF403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85DFD39-46E4-42F1-9F81-7BD39535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F30250B-98DB-46E2-8761-5BF0BB66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852F198-E48D-4740-9012-E3113A21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8437B0A-44FF-4C6A-B607-97C31DE8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AEDCE2-39B5-49B4-A945-40BCE0C0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F4D12EE-97F5-43D8-89A1-34A9E7C9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8739145-5AAE-4473-89AC-AF226DE2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113AA52-016E-446D-8CC9-DAB54E0A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12EA640-434C-4598-B113-0FCE115D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571964A-16A9-49A4-8481-F22C354E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FF53158-A61E-4290-8C33-07F23EFB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170BA73-654B-458F-A11C-47D9B9AC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F248DC8-5B07-4C2F-8E58-E5C15387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0BF6910-2481-4889-BBA5-AC77C7EF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64162B6-8F25-47F4-8B97-E56BFDCA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F74F0-B4D1-4FDA-9B4C-1C54123C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A99A158-8050-4976-807C-DA083EAE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910AB86-819B-4096-BDB4-87C178F4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B8F5FFD-55EA-4563-9A3C-0EED16AC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DF5F818F-E8D1-4ECC-B5EB-E7B067FD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CACAEC0-07D2-4053-A56A-3DE4F486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425F526-805A-41E3-AEC9-5DCEA1F5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83A75F6-6199-415D-8F0A-90026189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6C0E4318-9F83-4639-969E-7D462722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DD48332D-3E34-44A6-AEDC-D28E50C0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B98F6494-2C3B-44B7-A0AF-823BE21C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5B66-88AF-431C-988A-1A101878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AD5E8-CE6D-4261-8D6F-7F788CF6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06C20E8-EABF-44F9-AFB2-1AEA99E3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5134D795-7F8C-48D1-A451-4E4025A6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8850D6C6-7D48-415C-A6CE-1EE2FAA1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3ADF46EB-9E54-4D4D-A975-171A9508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5217615F-1A7E-4503-8D9A-27A1DE3C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1F0AAD14-6C21-4811-8AE7-540E0D51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2A4D1B63-F31C-4134-A3C7-F6261E56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7CA36A5-533C-48F1-8039-C8A0D1FF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AB11F16-DB11-4C95-A2C8-33C5F65C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14DE32E6-A3C7-497F-912F-0637C75E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8F0B2-9485-450C-B258-593C185B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8DCD6AE4-4FB0-45D0-A7DB-78E44619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36A3139B-3D02-441E-9CC5-584B3056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8327D20E-30B6-4872-9FB8-33DBB881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A9F52A7-0AC3-4D76-A3D7-3E94CA4F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C870DCD-49C4-4C9A-966F-444D1617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D800CB6E-4D37-468B-B631-0EFE2FFB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B11D991-723C-434A-B305-963E04A3A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44CAA204-8574-4525-AC0C-12D117AB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8934ADD7-2DD3-4079-89F5-3852F07A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B4B84C41-D27C-4280-A1C9-0F3992EC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4EFE6-323A-4961-9386-926C06B3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E79F1007-38F8-4472-8AFD-79679BA6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CC032307-428E-4CFD-9DA2-9C0CF6FB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C52F7391-1BF2-4213-B71E-19A999BE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D9EBDD24-1FA7-4ED5-961C-AE1E31A0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64F98334-6FAE-4DE3-AC63-09B0CA76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CFEF4D3C-726A-446E-8D39-AD622B53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5680C24B-45B0-435C-AAF1-6910A8F4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9123D3E1-308C-41B9-A9DA-E1502DC8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039E9219-B025-41BF-9D14-424A2F79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1B1A5C8-30F7-4805-AD73-7D9FB411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B1607-C58C-40E9-83F2-74F16FB7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4325201-CBE0-4C94-9F6F-5473A5F3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A004674D-5596-415D-B2E9-7B9002F1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3352D7F-236D-4790-A710-BA614428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A5D0D8F4-BB89-41C2-AECC-EF1BABC7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8EBC3CE-526B-49C2-8C5A-020B91AB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391D933-2BF7-4C87-B1CF-6E3A5089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30267B3E-29C8-4643-8FDF-9A472C06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E8BF038-8CDE-4888-8E5E-5A14DE66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E777CE5A-BA23-48AE-823B-3FD81A5D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E0A02E84-DEE8-4132-BDE8-7ED43C9EE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468BD-B8BD-484E-8D48-870CB675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EFF6E5A0-3FAF-42EC-8855-D0CC9C2FE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00092FF4-C63C-42FF-8AF2-DBF6AD24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9040E9A6-09BB-4C0C-9302-23611DB0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1601B85B-1087-4CBF-8640-31D0B5FF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5E9011AE-0DBA-4D33-89C3-EE18940A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AE3177EF-C7F5-4ABA-8BCC-2DB7C344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E1A97965-BD4A-4E5C-90BB-2132B63D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66991098-DA39-48ED-983E-B2C55AF3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733A8F05-9406-4E1E-B193-E9A486A0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23B2A924-3A5C-4D3D-8405-08352E05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4A8EC-CF98-42D3-8A67-0E1D67E6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FD9D611F-8B89-4878-81C5-91750B11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0586F61C-5E0D-44FC-AFE9-FC05B13B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78544D4A-A9BC-4570-B1C4-05899943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54E7041-5516-4846-8BC1-485D9D81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2E74B37-18BA-4BE9-9339-48F40DC7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656FBD5-07CE-4E4F-AE9B-1360DCA1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CF2FC51-C456-4548-BDAA-F11F304B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59FDBE0-D6EC-44B0-B8A0-9810B3B6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01C999D-10FA-4B4B-9EA0-E3B329EE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15E0D9D-F8F7-4C3B-8DB1-641A4FE4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D4E55-F1C9-4BB4-AB8D-32ED78BB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1BBDD18-4232-4022-87E4-EE159671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4B4F816-72A8-4569-9CF6-BAB0B637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60F7C69-B6DB-43A9-BEC4-0EE3C0B4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B57B4D0-5485-4145-ADAF-A1BF672E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573DF36-C763-412D-A829-1BBE7C77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0D149FC-71F2-4D64-8F7C-1E381A8E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BC720BC-09A7-479D-A4A9-402C9CE2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F77FFC3-7150-4AC0-BEAA-4DB87EF7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66CA47C-3BBC-4007-9196-9388BADE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3087937-0568-4A6F-A8C9-78CAB4D7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D110B-D042-4771-9127-373FDBBE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EC3BBE6-3E98-4E2B-8A8B-9CDD1FB1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D78351D-50C3-49D4-ABCA-9B8D09A7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60783B5-89A5-4985-A9C0-A02632E5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D77561C-C754-4E9B-B503-8E784AD4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C7805DE-CE11-4A9D-8E42-0188D0A3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33C1C0F-80DE-41EB-9CEC-CC672967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90D2D38-AC36-49D3-9099-FF1451CB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D7C8750-226E-4947-B2BB-95F9113B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12F7D45-AF81-4AF5-B306-13EDE494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908846A-189E-44CD-B8FD-28C8B021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AE4D8-BA63-496E-9E4B-9F955EF8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86D98A4-FCFB-4D03-8D85-DAA6C179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E954257-CC1C-4E78-A672-8BC31C68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38B086B-2ED3-4A8F-90EA-BE7BFAC7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DE50C9F-3DBA-4670-9447-F95DDA18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292B323-F623-4BE2-BFE4-CFDD5C09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7BD2E9F-1CF0-43FD-8346-A6C25B84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EC6334A-7B02-429E-A5CD-0B91494A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258D162-7A4F-48EC-ADA9-F9959B2E0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B3CE8D4-FE5E-4797-A0B8-A94E97CA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B3AB091-FED1-4E10-B312-B9287B23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3D2EE-AD6D-4F46-92F3-8011CD50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B5626F9-BEAE-468E-A5DE-D9AAD677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8EBC08C-BA15-4173-8742-78C140DB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2B6D0EF-62AF-4439-A830-FC25F902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6D62653-E751-4C0E-8178-25E6CB10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05CFB57-BBC3-427D-9581-2719CDCE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AEEA6C5-6A85-469C-A17F-939D8001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482D8FC-F47D-4CF9-AD93-EBD6825E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77B15CA-C233-4F95-8C5B-0F3F52AD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E091250-6120-4EFF-923E-0F99D9B3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16DB1A2-4EE6-42A7-9273-5BEC63EC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46E3-FBFA-4612-AB15-52537411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85ACA-B8FC-4068-A266-41C058E5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0CBF047-B085-4B42-A77E-3DC4F1BC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116338D-2EED-49B4-9F1E-58DA5BB4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445AADF-F30C-41A6-8C63-F71DD94F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48F7705-9639-4055-BAEE-042FBF38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FD80D8E-8F79-47EE-A4A0-EBF92353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B9E08D0-407D-4B61-8706-07506CE5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AC13E85-9AFE-40ED-A114-AB0C8D2B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FD6A756-B754-4CC3-913D-5D96BD58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709DB42-AC18-4421-9D93-C73E8281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80EF638-22D6-48FD-B99C-008FCF22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4797F-D11D-4CB2-94EF-5433774D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F75A389-69F7-45D0-A0CE-BD276753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8E09BFA-B172-4A5E-839E-085D8318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0CA0563-0DD6-44D8-8EC4-D9C4AF12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C2CB6AD-9BD0-483D-B3D8-BC932788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356BEDF-0C86-47ED-B6C3-500D1B29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0981EEB-857D-48F8-AF8D-E812223A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96A0DF2-04DE-442F-94D3-71EFA85C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8D6954A-0956-490B-BC12-40420C8B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BF8F24E-3AAA-4350-ACC5-20998DBD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58EE809-5BC9-4217-B619-1516A8C9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E1563-33E1-4777-986F-C0DB066A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777F6A3-A77A-4D15-AF77-BDF2762B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F37EC90-0746-4885-A260-C1BBDA8D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583F989-7213-46A4-8E87-A71222FD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45B0040-5DBE-47C7-BCD3-BE01AF9E0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50D11D7-EB33-4F67-9708-99C4AE50B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9D1759A-D03F-4E2E-B6E7-97757FDE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E24A374-B129-4DBA-9CF6-DFF7EE52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591030F-0094-4F8F-875F-94AF6784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5FDFFEB-3F95-4B45-AA80-D8336B66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A7A3F87-EF24-4B46-8F58-102D46CB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BA3E2-4849-4BBD-90BE-7D436452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2A418D5-225F-4DA2-9250-0A5FE22A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E7E861A-E0F7-4BF1-809B-E301BB19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459F599-660C-4EF7-8228-93939663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F711AE4-5697-482C-A029-A8A7E2FA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165A24E-8180-4DC7-BF75-64C048EB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8B9DA04-F6A7-4A0C-A521-560BEBE1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025320C-44CD-49E4-967C-46399C23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A85409F-70F5-4B18-A084-B03857F9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FF658F0-C1D9-43DA-B131-C7989B04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0B785C3-F79A-419F-AB77-EEB30538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E3C25-D9A8-4277-8BB4-D119D698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582DA76-E78E-4B8A-A25D-E78E520E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68F4A25-B11D-4F91-9DD6-F3F3C36E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737F5EF-E494-48E4-8164-5D5A26BE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5275B7A-FDFD-46F1-A6E2-9DA12F30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769CFDB-4B1F-4FE4-8BF5-70475F14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86055EA-04F4-4D01-9D2B-F0CE648A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402D9D7-1B78-4B6B-AF2B-2A51BBD3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FF9FA34-8A05-43BB-A8B3-885F9EE3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A28DCE2-80B8-4ABA-83E2-77440E9E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92E0952-A12A-4502-B853-57AE3C62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5F31F-6E9B-4630-A362-13E65CFC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CE4C529-4EC4-41C8-B2CF-5971B57A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E8A60EC-A7A6-4698-9C71-288B6272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1338F95-1A8A-4259-AF2E-826EED5B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173E07E-FF93-4FBA-9A00-77AF6258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D9E6381-B784-46C0-97E8-17F38DD7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6218FE3-E62F-4109-91C5-81640861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2E73B68-163A-4F75-A7D9-EEB63F9F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97A81C3-17AE-4143-86E0-BCC5F3E6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B8A1376-6CE7-4D53-AA9B-9908381A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4321A60-8766-4355-AD32-AB89C093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ED08C-2C97-45B4-938F-8E2F9316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4183A5A-3068-4D8F-8CCA-60152CB4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B093A2A-F982-4338-BFEE-5EBA349B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AC9304B-13E4-4B2B-99A0-4998934A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D60BCBB-F730-449E-A5FF-49EABE23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4C494AC-F17F-4927-B24E-766CBF8C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8030626-D203-49AD-8B2A-79F7E641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6E6A38F-167D-4DFC-BB94-BF25494E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9AF6C10-CBEC-45C7-8D03-41426AA5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85F599E-D921-4D39-8112-0B48CF1E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16D556F-D880-47A2-932E-65B36D98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9D3F8-F875-488D-A242-F656CAF7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FB75B8A-408D-44B0-90DA-F397E1D9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2ACC7CE-091B-45DC-A6AE-E707577F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5C135FE-B7A3-4BBD-873B-CB1AF725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33E944D-225C-4E5D-BB94-E82DDDD7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5D6A7BD-BF12-4ED5-9663-36EDD494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409C293-99C5-4669-8651-7FF56E18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917502D-8D33-47E8-93CC-238B1FE5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72FC7AC-FFF1-4CC8-8603-8B0D10A4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A497FDE-1CCC-4717-B87D-F045166F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D352DA0-CABA-4611-AECC-0A3B4606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F05BA-35A7-4BBF-85AC-BC5610B6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E647D38-855D-4A26-A00D-AC55C4B3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F954ABF-E100-4942-92EE-CE9AAE13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C7A58EE-8036-43E3-9628-26075700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FF1A406-AEC2-4CD6-BBF9-E906D7BB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711EA66-5D9F-428F-B835-E407AD35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BA45E81-3528-4BC1-8255-EF0AB768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4704AA2-1C3F-4461-9F78-453B78F7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881C28E-48FD-4DC7-9565-B3DAFABB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D1A81E2-9B87-47A4-B64A-6BCA174D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690C680-1A6A-4489-A125-82392311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1DDBA-0034-4E8E-9F44-2A717623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B4206B8-4093-4096-A3B6-292D3C97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C01F70D-4B63-412C-821A-27F2617F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A0575D3-00A9-4206-9379-3B0FB82C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8B27623-81E6-411C-A96F-D5F0FAD6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E027BA7-4AD1-4FC9-BB8A-F82789DA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CE959F5-F4E2-43DD-A348-FB09EF03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56F06AC-D469-4EC8-91F5-E6C323AB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6CD176C-AB44-4674-A10D-395CFD9C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82939B8-4A41-40D7-9182-37DCB969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DADC304-60C6-4E2A-B5C0-E676077C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2753-5E14-46A9-8B6A-E282AAC1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C14E6-0B13-4322-9682-3BCBACF2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EF0ACE4-B720-4443-B052-748DAF90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9CB922C-DD14-4859-94CA-AEFD92EF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4646BC4-2FA9-45F8-BC6A-5F5E60E4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106C480-1CF6-4684-A9D8-2A8E0B9F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31F0AF0-48C5-43AA-BCC5-64F512B3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A91AE97-D145-4C9A-88ED-E54676E9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780365D-38BE-4F2F-87BF-A877EE0A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4D4AD10-D112-40AE-94BC-F1E6AAB8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91A1A50-B2E5-482B-AAB1-6DFCEF94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C713C7D-77E8-4FF4-81A2-AE1E14F7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641E6-96B4-46A5-B648-82E6B575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8049752-96A4-4BA2-AD89-1975A9DC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004A38C-87CA-40FB-B05A-A896D5E4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D7AE140-892D-4373-BF40-BE9DD067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340798E-7EEE-4439-9EC9-45B7F75E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77EFB0E-0ED7-43C2-978C-490BCC68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BB60C88-A850-4087-ACBE-09BD49D0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4B1B21B-58CF-49F0-ACAB-04C710E5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C4D959D-5AD2-4598-8A5A-9D2A28E0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0F1ADBA-17E2-42E4-B3AA-974184E6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2348CC6-6B74-48BA-A6D2-D215EADB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3066D-5CF1-42BB-BFBA-A5E91769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208CB58-F364-4B61-AD01-18E3AEE2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4FC2233-0DA1-4907-9AD6-E78BAB09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EF217D9-D894-4AC5-A66E-C41C5CCA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198A2FC-619D-47C8-86A2-1DEE5E68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152E833-2AE6-4549-8E8F-A4150B28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841DF96-85F4-40F4-97F3-2DD44518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B5E6851-32BC-4EEF-8B17-0E9D7A5B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A0FDF40-1302-4FF0-BC40-E529D41F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5A5F847-49ED-45B3-BE5B-CD933CC0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0BDC032-58DD-4FD5-89E0-99B8EF56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39AE0-11D4-485F-8ECB-94939707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822976D-68EA-4281-A101-2BC2E81A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EBD1897-C883-45B8-AA9F-48DD5EC15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CCA7C23-B6F8-4BC6-B1E3-07D4F6A9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2E9AF90-B821-478A-8CBF-1D5727CD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76A6954-FF7C-480D-8ECA-29958560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4245F89-63B7-4065-A225-B0106D20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6CC9BC8-9F3F-4566-BFBA-7A17CF63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2CE2CB2-41DE-4F39-84C6-8C417D1F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A378D90-088A-4380-9165-8B33A18D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75A925F-497B-4C6B-A14B-1A0C9F9D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067A7-DB48-4235-A005-40B2F0C1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FB2741B-160A-42C8-B8D6-DC0EE2F3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095A700-4042-4809-A9D4-C569291B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EAC0B47-1F21-45CA-9E80-7F5D19A2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7C4E933-21C1-4AFC-B11F-0A580E4B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580D0EF-785F-49BC-B57F-032718A9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C02909C-1117-4FF9-B7E8-159A53C4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68CD545-33FE-4585-9129-B3810BD1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2CCD8AA-CE30-451A-991D-C7A57580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9C67176-DA3A-4B56-AB44-58BDFD99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19E3D26-C277-4741-BBA3-56AB80AE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D45F7-15D0-46F8-AF16-B1985E43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08C740B-46BB-4732-93F9-1557F154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9AEB6EA-2AFB-46C2-BC2D-667BBC07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D8D5DAD-396D-4722-900B-14C6AD51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9BE9C35-BEB7-4AB1-AAD2-860056D6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7208EF3-27BE-4931-81B5-90D57DED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91DEE94-FC3E-4471-B9F5-3487C75B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A00ED45-89C0-4715-949C-06E25B43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5CF0883-795E-40AF-A6D8-A4122A7F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1EC2296-CD29-4125-B0B1-A017CDFA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0D16371-F325-480F-9971-C2AFB1EE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6461A-E15B-4E49-8248-C65A27C1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D68AC69-B1C9-43F3-A15C-88847FC1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5F07698-F2E0-46E2-BF02-4A4445D3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02AC8BD-5C1E-4F75-9039-2E035E72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E17EA51-C613-45E2-8554-8AA45CDF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80F51E1-89AD-47C7-90E4-048CE259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6031234-FD5E-482D-86D3-0FDFD270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B358ABA-B5AB-4F7A-A1EC-708577CC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368034C-A7FB-4A3E-8136-BB8316AF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D0C270F-4367-4D9B-AA45-F2296F81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F6C6980-20C2-47D1-BD08-B7E758E74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A9E77-93C6-4C20-A165-3A4A1B3A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783BF12-0BC1-4A23-BF99-E31BB5C6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B3C8273-0FC8-4F60-8027-3960C3FE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37E423A-5B4D-4B46-AB86-073D7C0E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2670CCA-75B6-4D8D-A9E9-D4048F6E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7059F1E-F5DF-4E96-8666-E2B187A6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E6D5ADE-D2C3-4FF1-9A68-42C36EE8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825AD6D-F42F-4726-9490-251CC315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D4224C0-8FF3-47F8-A3F3-CCAB22C9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71159D7-F4C7-43FE-8E7A-8714BD4A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A3B9C43-1B49-42BE-A5CA-99F90FB1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5B694-4012-4DCC-9441-0537272E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B002CD5-3B34-49FA-AA91-F32660DB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962727B-71DB-4312-988B-A0D0FA42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A655131-729A-46C5-8EA8-B16C11AA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9E2694E-886A-4C73-94D3-F4261B9A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0F0522C-2157-43AE-A6DC-D85CFC08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2B2A764-C14C-4D5E-9335-4048AE8A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3567EEB-051C-4BC0-BDF3-A3337C5F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25C9ED9-36F5-4364-B6D0-D6EEFDC2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6B63351-303C-415F-8A1E-7F3A9D6C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F64F50B-2E0D-451C-9176-D021CA5D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B4DF7-9E26-4219-9650-81435D72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0818DD5-7954-4C82-AC62-C7A2E6E1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A7FA0F2-DC71-47ED-ADCB-7DA00D12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287E46B-59AA-4A79-8504-07544BC9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36FF9E3-0D76-4521-B639-5B38DA38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2B561D2-8246-4781-82BF-F4BD3ED8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EF0900A-A21C-48F7-A196-C9C4884D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C0BE770-56AB-4AC6-9EDE-86782C8D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A7EAE52-88E6-4C27-B354-BB3F86EB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D92A908-34F3-4A54-BCB4-DC757A91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EAE3B9A-B6D2-4B40-B484-B1A7ACC4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6ED6-0867-42E2-A525-BD1A41B9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8B124-A537-4AC9-9304-A6169A5C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4D519EB-9CE5-4977-A7C5-67BD2662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312F3D4-C681-4091-A08A-A41E8C5C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531492F-4300-4A2E-A232-82FC0A87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641CD86-FE61-43AA-951E-414BE260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3A9828E-C107-40E6-AD9A-E34B403D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DB882B4-AA17-489B-A8D5-7A4B8B93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5939E53-C8CD-4E8B-9DA1-84DC6563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E4B9F42-425B-4420-A633-25DA37D3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63DAF57-8027-450E-895F-4A73E7AC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1E4E732-B1F7-48D9-A418-C0312E19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8A992-81F2-462F-984E-99FB87C0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5F0545C-3D84-4564-B3CE-8771116B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280210B-0199-42CF-9B82-19F53F8B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9DB6242-37E9-44CC-87B7-A901F7A4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46178E7-9D13-4BD8-AABD-68186577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D63903A-8CC6-419C-BE2C-662CF763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2A51AD7-D25B-4244-BF4A-29173B25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9B149C9-F8FE-4871-989B-8A9A5FD4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7B021C4-127C-4ADF-8328-A7B81C56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44E4EA9-DDED-420A-9AD4-6E5C9424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1AC693D-1453-40D6-9C9E-D4144866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073E4-850E-439C-959F-18AD8B44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945AF35-68FB-4518-B033-C69691B7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98991C5-29AE-4834-9EF5-2BB7E988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7097439-8FC4-4333-8881-7ED8AA96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8FB0174-1DCB-4913-8763-6C2F02B6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9F9532A-0E9A-4FAE-9F06-75968F0D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D74AC1A-659F-4651-BA25-89C888FB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1DC3D3E-5CAC-4FFA-A5CD-3A0009A0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1124CB5-2FDA-47C2-B594-9929776A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E698842-780E-4E4C-8FAF-82B74F98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B0F86EC-DD25-4C2C-BA65-5CD781F5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7817F-0EE2-47B5-93C3-01A8A61B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19E99BC-B9D8-428A-A6EA-573603FB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0A36FCD-7895-4188-9519-382B681B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86967AD-873C-40FE-A6FC-997E37EC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0E9D910-331D-4A40-AA17-E5C1B2B6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043A851-BB66-4256-A8DE-67D55313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F3C5ECB-5463-4BE4-8C7F-5E3E84C3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02C2B1C-2F3C-4AE6-A021-2B969BA4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4CAC46A-FC3A-43AB-BADC-A9D624AB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A4F605F-8EEF-438A-A96E-80E05BE2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27CBC5E-3FA9-42F8-89D3-33B093E6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CBBC7-C72F-44D4-B88A-F61A0AC3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26952CE-D4E4-4CF0-AB68-A29DE57C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1D79123-3ADF-43C0-8214-4B05E54C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E700F81-C9B4-4F46-A51A-7955D6AB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B86266F-8B60-4E7C-8CBD-5A14899C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C0A9792-31C1-4493-953D-326E386D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DAFA0EC-B764-4C42-B40B-FAE4547B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D24B81E-5DFE-4A56-BE9D-15BF1493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4404CFB-3570-4507-AF0E-C3428C9C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B66A877-C07F-4E39-8E07-24D5B897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25DA7DB-516D-4CB8-AD5D-3F7D4A03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AD324-38BE-4147-9768-4F607E9B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3DCF8B9-F2F6-4294-B9A4-C749FBF3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18CA692-5A66-4B07-A4A7-3912F4AA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9F42859-7628-41B1-B45D-41CCC14A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CF7441F-E197-469F-BB39-9E53339F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EFEF1D3-86C3-4E96-BF63-11DD3DF1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6C0F480-2451-445A-9A3B-FE80B7AC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EAF7CC0-5019-4075-9B05-DD7E6CD4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56CAC11-6DF9-48FB-86A5-4670BCD2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C1CC752-503A-41DA-90C2-596A9CAC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1F37F0B-3819-47C9-B69B-6C76C02D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A6C79-27CE-4B2C-B13B-CB68C22E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1D03C5B-7B58-4BAA-B81C-DBCA673C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36F54EC-8DC6-4023-8775-05CD914E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DCA089B-105A-41B1-9576-11456F20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7025925-6741-4A5E-863F-86847835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92EED01-7111-41B6-8465-14AB1393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66808BA-1856-4343-8D7A-6550AC4A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886C06D-7E1C-4902-8AC8-6F81F522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8DB6DD7-E909-4653-8382-541C292C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AFA5946-0015-4CFD-B50B-D6ECAC24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D9985CF-5C63-4D97-B9C6-ACA15973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6E798-B121-434D-A4AE-35A90B6A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3C02F7B-17D0-4CF0-B0F8-D8EAA10F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2B992F6-C071-4055-B89C-DE72C7EC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E1B542A-7477-41CC-B8C2-EF669CCE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2969E9A-D1BC-4D89-BAF9-AD816368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18EACE2-34B0-42D1-BADE-248B34C0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0E84009-E764-4752-ADE4-81261A0C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F632910-A248-4F2E-8A32-09813BA1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2ACA63D-4B6E-4BFC-87B9-2976D352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73F5D49-2ECC-4093-9E4A-E7D29651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D96E3B4-0E4E-45AC-8B01-3BA5AB40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06E7B-8D54-4079-AF38-AD248EB8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7C846DE-980E-46B4-BC55-58489AB8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329FB8C-5619-4B03-80B2-51AA5879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3AE13AE-58B1-4A71-8DE3-79BAA04B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511F5CB-A550-46FD-8281-8C02F36B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B81C8B5-6D3A-4077-AD2F-18DF2DAF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2EF2AE3-1864-4A41-BB92-396CE9DF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35920AA-5223-42C1-8607-3B2989FD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6016C06-ADBF-421C-BB74-7449CC9D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FB61A2B-60F0-41DD-947D-C4748715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788382C-1631-4AFD-B772-9BA4D7FB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5E584-012B-40E6-94A7-EC2C160E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3589842-4B50-4297-BEC2-B11042F4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173849D-C60A-4138-8CA5-2E8EC334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0DFED86-496F-45F2-8169-94AA93B6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EABC892-A678-40C6-8592-5909E779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D957FE7-015A-4669-8A1D-CB778C15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25F6226-F034-4A74-A572-DBC53CBC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E69F5A1-A10E-49DC-A4B0-330E920F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95AA8B8-4128-4825-BF25-9AD4C3A4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D74AA5E-21F2-4839-97E0-EA99FC72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1AEB67E-B5A9-41BB-B91A-1D8B03CE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494A-0DF8-43B2-89EF-A4E0428D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65FAE-E699-4234-B07E-8FEF39E5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CD8B842-3EDF-48CF-82C2-3D9EDB6A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43BAA91-8DC2-4131-9E7E-83BFAB77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16D1938-8182-410D-9E72-7237A45B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029BF00-E896-47D5-BEFB-C121FBAB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E948383-D7EA-48A0-B129-313F91FD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54484EE-F0B8-4916-A364-39A49FC1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18AB111-BD28-4CEF-B13E-5BA761E4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3CD3AD5-05B7-43FE-BF74-BE319E38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597FA4F-9A06-4225-B8FD-55E97A13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B72F190-C95C-4F58-9D35-A6A38F2A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4F75C-FFC8-4A2A-9B0F-5EAC76DF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A8D4D4A-E60B-4638-98E4-0F362414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1BB0377-25C0-4C6A-82DD-BC542F24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55B2E57-4B36-45B1-A479-34D80927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EF4B919-34A5-4699-A0F3-BCC589BA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6DF00E3-5143-4109-8C62-09E17576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A2B0FFC-11AA-4979-8D7E-94638359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64CED58-92B4-4586-9FFE-EC41922C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909C6AE-8D1F-4EA4-BCEC-D4588CFE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BEDAABE-5AAC-4E68-9E77-12D321E1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8E77049-1F8A-4834-ADF3-0C783F24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04B09-68A7-417F-97D7-00A99AC2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913787E3-911A-4DA4-AD32-E2F1CCB9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EED32E7-7187-44BB-A14F-ECDD8E1B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ED3F9B2A-D61E-4A94-BCF5-064E38DD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41409D8-24A5-4AC8-82A6-27A4193D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97504B9-D586-447A-8333-C282A3C0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A286BD12-96DA-4606-BFC7-A1AB4463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6D7E357-3A4C-4298-AFC3-66EE2D56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2F3F111-3AE1-4C2A-A527-D4F6FD15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5864931-25A8-458F-B409-93980749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6ED519D-803E-4C71-8BB6-891B8CF6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ED355-B375-4E62-B3A6-E9B068BB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4FFF962-8B97-43C0-9712-6BF3C613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89054D2-6893-42D4-BCEC-5635E9D0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521CD8A-86CE-4440-820E-E8D9F2BA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21ADF81-2E1B-4700-80D1-8B15DC6E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29523EE8-A790-40B1-AD4E-B7E7FA6D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20F191C-05F1-49AF-86B5-AC148036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C0AD0E1-6288-4568-B351-95276C44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D6AD796-79F3-445E-9E23-87EA5AB2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0715335-B431-4655-9A33-2C563084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18EB3C0-D4E0-48C8-AFCE-2CE3426F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F1672-17BB-4F57-8816-7D0E87D9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7B67159-578C-4B65-8D1E-4351EBAA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1AAE9AC-0F89-4ACB-9EFA-39410B77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BFCA74D-F951-4DF2-B8C6-DFDF92B0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91B1101-26F5-4614-9414-DC29B067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D898066-9E24-45C0-865C-0253B71B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32D68D3-5FC8-441F-830F-57CA044B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6E6351D-CFDD-4361-A2BD-A95BA91D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826AA23-2553-4B99-88B9-35BC3946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FDB0477-9BE8-4E4F-83ED-852DF35A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BF40B2A-B755-4726-92CE-A0D628E1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79B43-53A6-4AB7-83A8-B2457634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3E0E1A6-9187-4A19-9FC0-A298DA73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30ACF792-8553-4948-8548-477AF5F1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5F666D1-6971-492F-AA98-7ACEC644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361FF40-6C1A-44C5-B16D-F0AC7454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6B71D85-D63A-4FCA-8DFC-D6590D83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8E78DD2-60D0-46CF-9D2A-B4D291A0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FECBA99-9A9D-4CB8-BCC8-F61369E7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3EFA315D-E6C0-4126-9A15-517CD89A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1AE07CB-CC7F-409C-B922-E96F4E14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139B898-354A-47E4-8C8D-D605133B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B54F2-729D-4631-9D62-35028834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AAF98A3-8009-454F-8F08-168E9E0D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95EBA70-8A8F-4124-99FF-7B64AA35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93E509E-14B1-46FE-8DCE-C96F5275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2638963-0BC4-4536-B4BA-306F6E77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2ECE482-C3C8-4F29-AD5F-5C1BDC5A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9305EF9-524A-451E-9352-A88B7C30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3FD198D-66FD-4E1C-86DF-3ADEB5DE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5AF27D5-F3CD-42A7-B197-FB25CD79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CCDD4E5-3C76-49F8-B00A-36B511CA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5B098E8-F762-4C72-B1AD-CE144388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63DF5-0795-4B4E-966F-60C6052C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C7683E1-DCCC-4994-AFCD-6200852C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F86FB4B-78F2-4DE8-A7F9-3B408616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3C100E6-833D-487B-AB59-10274934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5F0DBFD-9DA1-48DC-A668-204AB52D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F6BABFF-DE41-4DB5-B22B-9F31BCA0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99DCC47-6900-4D34-BC3A-70AF786E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6C85107-D3C6-4914-81DD-04D6F75C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B266F73-BA49-485E-84BA-DDDE5482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37357A4-1522-4B42-8C80-67249381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D8B4EFC-91B3-41FE-AD14-23BB5157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3FC9F-52C3-421A-A778-78CF2125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EC79651-63C7-4517-AB0B-ED5E885B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A8C8F7E-FFB4-4D34-A8CA-CE6BE546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E8F2981-7A32-4226-B7FF-AFC51E42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3F77161-DDC2-4219-B4FB-7B53EE91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EDC03F1-F5B9-4BA6-A3D4-02B5BA94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614BB38-CE89-4B59-924E-E142957E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D612F81-DEDF-44BC-93ED-44D8570B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62377E4-DCBB-4EA0-8C82-D17DB5D3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6054468-04D1-4F78-9A88-E838A2F3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2134B105-2ED8-4A79-BDD7-DBC52759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14AD9-D777-49FA-88AB-9BD83036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DA838D6-7539-44AF-A749-C195099F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5804F36-68C9-4576-B887-56514180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DD2EB0D-3314-4FAE-A7A8-3D90B55E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16EA99E-17B2-4CA8-A053-6CA2EDFF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6D59BE9-3F95-43B4-8BDE-4F3981E7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6CA5CBF-FB7C-4771-916E-73BFC417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B33E988-FB0D-4988-9AAF-00D8B0E7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B8E821D-5BAD-4FB4-8281-73A78B1D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866C2CB-A6DE-4363-8E6D-76F36648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FD03903A-1D3D-4919-93A1-BEA663F5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slideLayout" Target="../slideLayouts/slideLayout1309.xml"/><Relationship Id="rId3" Type="http://schemas.openxmlformats.org/officeDocument/2006/relationships/slideLayout" Target="../slideLayouts/slideLayout1310.xml"/><Relationship Id="rId4" Type="http://schemas.openxmlformats.org/officeDocument/2006/relationships/slideLayout" Target="../slideLayouts/slideLayout1311.xml"/><Relationship Id="rId5" Type="http://schemas.openxmlformats.org/officeDocument/2006/relationships/slideLayout" Target="../slideLayouts/slideLayout1312.xml"/><Relationship Id="rId6" Type="http://schemas.openxmlformats.org/officeDocument/2006/relationships/slideLayout" Target="../slideLayouts/slideLayout1313.xml"/><Relationship Id="rId7" Type="http://schemas.openxmlformats.org/officeDocument/2006/relationships/slideLayout" Target="../slideLayouts/slideLayout1314.xml"/><Relationship Id="rId8" Type="http://schemas.openxmlformats.org/officeDocument/2006/relationships/slideLayout" Target="../slideLayouts/slideLayout1315.xml"/><Relationship Id="rId9" Type="http://schemas.openxmlformats.org/officeDocument/2006/relationships/slideLayout" Target="../slideLayouts/slideLayout1316.xml"/><Relationship Id="rId10" Type="http://schemas.openxmlformats.org/officeDocument/2006/relationships/slideLayout" Target="../slideLayouts/slideLayout1317.xml"/><Relationship Id="rId11" Type="http://schemas.openxmlformats.org/officeDocument/2006/relationships/slideLayout" Target="../slideLayouts/slideLayout1318.xml"/><Relationship Id="rId12" Type="http://schemas.openxmlformats.org/officeDocument/2006/relationships/slideLayout" Target="../slideLayouts/slideLayout1319.xml"/><Relationship Id="rId13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slideLayout" Target="../slideLayouts/slideLayout1321.xml"/><Relationship Id="rId3" Type="http://schemas.openxmlformats.org/officeDocument/2006/relationships/slideLayout" Target="../slideLayouts/slideLayout1322.xml"/><Relationship Id="rId4" Type="http://schemas.openxmlformats.org/officeDocument/2006/relationships/slideLayout" Target="../slideLayouts/slideLayout1323.xml"/><Relationship Id="rId5" Type="http://schemas.openxmlformats.org/officeDocument/2006/relationships/slideLayout" Target="../slideLayouts/slideLayout1324.xml"/><Relationship Id="rId6" Type="http://schemas.openxmlformats.org/officeDocument/2006/relationships/slideLayout" Target="../slideLayouts/slideLayout1325.xml"/><Relationship Id="rId7" Type="http://schemas.openxmlformats.org/officeDocument/2006/relationships/slideLayout" Target="../slideLayouts/slideLayout1326.xml"/><Relationship Id="rId8" Type="http://schemas.openxmlformats.org/officeDocument/2006/relationships/slideLayout" Target="../slideLayouts/slideLayout1327.xml"/><Relationship Id="rId9" Type="http://schemas.openxmlformats.org/officeDocument/2006/relationships/slideLayout" Target="../slideLayouts/slideLayout1328.xml"/><Relationship Id="rId10" Type="http://schemas.openxmlformats.org/officeDocument/2006/relationships/slideLayout" Target="../slideLayouts/slideLayout1329.xml"/><Relationship Id="rId11" Type="http://schemas.openxmlformats.org/officeDocument/2006/relationships/slideLayout" Target="../slideLayouts/slideLayout1330.xml"/><Relationship Id="rId12" Type="http://schemas.openxmlformats.org/officeDocument/2006/relationships/slideLayout" Target="../slideLayouts/slideLayout1331.xml"/><Relationship Id="rId13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slideLayout" Target="../slideLayouts/slideLayout1333.xml"/><Relationship Id="rId3" Type="http://schemas.openxmlformats.org/officeDocument/2006/relationships/slideLayout" Target="../slideLayouts/slideLayout1334.xml"/><Relationship Id="rId4" Type="http://schemas.openxmlformats.org/officeDocument/2006/relationships/slideLayout" Target="../slideLayouts/slideLayout1335.xml"/><Relationship Id="rId5" Type="http://schemas.openxmlformats.org/officeDocument/2006/relationships/slideLayout" Target="../slideLayouts/slideLayout1336.xml"/><Relationship Id="rId6" Type="http://schemas.openxmlformats.org/officeDocument/2006/relationships/slideLayout" Target="../slideLayouts/slideLayout1337.xml"/><Relationship Id="rId7" Type="http://schemas.openxmlformats.org/officeDocument/2006/relationships/slideLayout" Target="../slideLayouts/slideLayout1338.xml"/><Relationship Id="rId8" Type="http://schemas.openxmlformats.org/officeDocument/2006/relationships/slideLayout" Target="../slideLayouts/slideLayout1339.xml"/><Relationship Id="rId9" Type="http://schemas.openxmlformats.org/officeDocument/2006/relationships/slideLayout" Target="../slideLayouts/slideLayout1340.xml"/><Relationship Id="rId10" Type="http://schemas.openxmlformats.org/officeDocument/2006/relationships/slideLayout" Target="../slideLayouts/slideLayout1341.xml"/><Relationship Id="rId11" Type="http://schemas.openxmlformats.org/officeDocument/2006/relationships/slideLayout" Target="../slideLayouts/slideLayout1342.xml"/><Relationship Id="rId12" Type="http://schemas.openxmlformats.org/officeDocument/2006/relationships/slideLayout" Target="../slideLayouts/slideLayout1343.xml"/><Relationship Id="rId13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slideLayout" Target="../slideLayouts/slideLayout1345.xml"/><Relationship Id="rId3" Type="http://schemas.openxmlformats.org/officeDocument/2006/relationships/slideLayout" Target="../slideLayouts/slideLayout1346.xml"/><Relationship Id="rId4" Type="http://schemas.openxmlformats.org/officeDocument/2006/relationships/slideLayout" Target="../slideLayouts/slideLayout1347.xml"/><Relationship Id="rId5" Type="http://schemas.openxmlformats.org/officeDocument/2006/relationships/slideLayout" Target="../slideLayouts/slideLayout1348.xml"/><Relationship Id="rId6" Type="http://schemas.openxmlformats.org/officeDocument/2006/relationships/slideLayout" Target="../slideLayouts/slideLayout1349.xml"/><Relationship Id="rId7" Type="http://schemas.openxmlformats.org/officeDocument/2006/relationships/slideLayout" Target="../slideLayouts/slideLayout1350.xml"/><Relationship Id="rId8" Type="http://schemas.openxmlformats.org/officeDocument/2006/relationships/slideLayout" Target="../slideLayouts/slideLayout1351.xml"/><Relationship Id="rId9" Type="http://schemas.openxmlformats.org/officeDocument/2006/relationships/slideLayout" Target="../slideLayouts/slideLayout1352.xml"/><Relationship Id="rId10" Type="http://schemas.openxmlformats.org/officeDocument/2006/relationships/slideLayout" Target="../slideLayouts/slideLayout1353.xml"/><Relationship Id="rId11" Type="http://schemas.openxmlformats.org/officeDocument/2006/relationships/slideLayout" Target="../slideLayouts/slideLayout1354.xml"/><Relationship Id="rId12" Type="http://schemas.openxmlformats.org/officeDocument/2006/relationships/slideLayout" Target="../slideLayouts/slideLayout1355.xml"/><Relationship Id="rId13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slideLayout" Target="../slideLayouts/slideLayout1369.xml"/><Relationship Id="rId3" Type="http://schemas.openxmlformats.org/officeDocument/2006/relationships/slideLayout" Target="../slideLayouts/slideLayout1370.xml"/><Relationship Id="rId4" Type="http://schemas.openxmlformats.org/officeDocument/2006/relationships/slideLayout" Target="../slideLayouts/slideLayout1371.xml"/><Relationship Id="rId5" Type="http://schemas.openxmlformats.org/officeDocument/2006/relationships/slideLayout" Target="../slideLayouts/slideLayout1372.xml"/><Relationship Id="rId6" Type="http://schemas.openxmlformats.org/officeDocument/2006/relationships/slideLayout" Target="../slideLayouts/slideLayout1373.xml"/><Relationship Id="rId7" Type="http://schemas.openxmlformats.org/officeDocument/2006/relationships/slideLayout" Target="../slideLayouts/slideLayout1374.xml"/><Relationship Id="rId8" Type="http://schemas.openxmlformats.org/officeDocument/2006/relationships/slideLayout" Target="../slideLayouts/slideLayout1375.xml"/><Relationship Id="rId9" Type="http://schemas.openxmlformats.org/officeDocument/2006/relationships/slideLayout" Target="../slideLayouts/slideLayout1376.xml"/><Relationship Id="rId10" Type="http://schemas.openxmlformats.org/officeDocument/2006/relationships/slideLayout" Target="../slideLayouts/slideLayout1377.xml"/><Relationship Id="rId11" Type="http://schemas.openxmlformats.org/officeDocument/2006/relationships/slideLayout" Target="../slideLayouts/slideLayout1378.xml"/><Relationship Id="rId12" Type="http://schemas.openxmlformats.org/officeDocument/2006/relationships/slideLayout" Target="../slideLayouts/slideLayout1379.xml"/><Relationship Id="rId13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slideLayout" Target="../slideLayouts/slideLayout1381.xml"/><Relationship Id="rId3" Type="http://schemas.openxmlformats.org/officeDocument/2006/relationships/slideLayout" Target="../slideLayouts/slideLayout1382.xml"/><Relationship Id="rId4" Type="http://schemas.openxmlformats.org/officeDocument/2006/relationships/slideLayout" Target="../slideLayouts/slideLayout1383.xml"/><Relationship Id="rId5" Type="http://schemas.openxmlformats.org/officeDocument/2006/relationships/slideLayout" Target="../slideLayouts/slideLayout1384.xml"/><Relationship Id="rId6" Type="http://schemas.openxmlformats.org/officeDocument/2006/relationships/slideLayout" Target="../slideLayouts/slideLayout1385.xml"/><Relationship Id="rId7" Type="http://schemas.openxmlformats.org/officeDocument/2006/relationships/slideLayout" Target="../slideLayouts/slideLayout1386.xml"/><Relationship Id="rId8" Type="http://schemas.openxmlformats.org/officeDocument/2006/relationships/slideLayout" Target="../slideLayouts/slideLayout1387.xml"/><Relationship Id="rId9" Type="http://schemas.openxmlformats.org/officeDocument/2006/relationships/slideLayout" Target="../slideLayouts/slideLayout1388.xml"/><Relationship Id="rId10" Type="http://schemas.openxmlformats.org/officeDocument/2006/relationships/slideLayout" Target="../slideLayouts/slideLayout1389.xml"/><Relationship Id="rId11" Type="http://schemas.openxmlformats.org/officeDocument/2006/relationships/slideLayout" Target="../slideLayouts/slideLayout1390.xml"/><Relationship Id="rId12" Type="http://schemas.openxmlformats.org/officeDocument/2006/relationships/slideLayout" Target="../slideLayouts/slideLayout1391.xml"/><Relationship Id="rId13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slideLayout" Target="../slideLayouts/slideLayout1393.xml"/><Relationship Id="rId3" Type="http://schemas.openxmlformats.org/officeDocument/2006/relationships/slideLayout" Target="../slideLayouts/slideLayout1394.xml"/><Relationship Id="rId4" Type="http://schemas.openxmlformats.org/officeDocument/2006/relationships/slideLayout" Target="../slideLayouts/slideLayout1395.xml"/><Relationship Id="rId5" Type="http://schemas.openxmlformats.org/officeDocument/2006/relationships/slideLayout" Target="../slideLayouts/slideLayout1396.xml"/><Relationship Id="rId6" Type="http://schemas.openxmlformats.org/officeDocument/2006/relationships/slideLayout" Target="../slideLayouts/slideLayout1397.xml"/><Relationship Id="rId7" Type="http://schemas.openxmlformats.org/officeDocument/2006/relationships/slideLayout" Target="../slideLayouts/slideLayout1398.xml"/><Relationship Id="rId8" Type="http://schemas.openxmlformats.org/officeDocument/2006/relationships/slideLayout" Target="../slideLayouts/slideLayout1399.xml"/><Relationship Id="rId9" Type="http://schemas.openxmlformats.org/officeDocument/2006/relationships/slideLayout" Target="../slideLayouts/slideLayout1400.xml"/><Relationship Id="rId10" Type="http://schemas.openxmlformats.org/officeDocument/2006/relationships/slideLayout" Target="../slideLayouts/slideLayout1401.xml"/><Relationship Id="rId11" Type="http://schemas.openxmlformats.org/officeDocument/2006/relationships/slideLayout" Target="../slideLayouts/slideLayout1402.xml"/><Relationship Id="rId12" Type="http://schemas.openxmlformats.org/officeDocument/2006/relationships/slideLayout" Target="../slideLayouts/slideLayout1403.xml"/><Relationship Id="rId13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slideLayout" Target="../slideLayouts/slideLayout1405.xml"/><Relationship Id="rId3" Type="http://schemas.openxmlformats.org/officeDocument/2006/relationships/slideLayout" Target="../slideLayouts/slideLayout1406.xml"/><Relationship Id="rId4" Type="http://schemas.openxmlformats.org/officeDocument/2006/relationships/slideLayout" Target="../slideLayouts/slideLayout1407.xml"/><Relationship Id="rId5" Type="http://schemas.openxmlformats.org/officeDocument/2006/relationships/slideLayout" Target="../slideLayouts/slideLayout1408.xml"/><Relationship Id="rId6" Type="http://schemas.openxmlformats.org/officeDocument/2006/relationships/slideLayout" Target="../slideLayouts/slideLayout1409.xml"/><Relationship Id="rId7" Type="http://schemas.openxmlformats.org/officeDocument/2006/relationships/slideLayout" Target="../slideLayouts/slideLayout1410.xml"/><Relationship Id="rId8" Type="http://schemas.openxmlformats.org/officeDocument/2006/relationships/slideLayout" Target="../slideLayouts/slideLayout1411.xml"/><Relationship Id="rId9" Type="http://schemas.openxmlformats.org/officeDocument/2006/relationships/slideLayout" Target="../slideLayouts/slideLayout1412.xml"/><Relationship Id="rId10" Type="http://schemas.openxmlformats.org/officeDocument/2006/relationships/slideLayout" Target="../slideLayouts/slideLayout1413.xml"/><Relationship Id="rId11" Type="http://schemas.openxmlformats.org/officeDocument/2006/relationships/slideLayout" Target="../slideLayouts/slideLayout1414.xml"/><Relationship Id="rId12" Type="http://schemas.openxmlformats.org/officeDocument/2006/relationships/slideLayout" Target="../slideLayouts/slideLayout1415.xml"/><Relationship Id="rId13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slideLayout" Target="../slideLayouts/slideLayout1417.xml"/><Relationship Id="rId3" Type="http://schemas.openxmlformats.org/officeDocument/2006/relationships/slideLayout" Target="../slideLayouts/slideLayout1418.xml"/><Relationship Id="rId4" Type="http://schemas.openxmlformats.org/officeDocument/2006/relationships/slideLayout" Target="../slideLayouts/slideLayout1419.xml"/><Relationship Id="rId5" Type="http://schemas.openxmlformats.org/officeDocument/2006/relationships/slideLayout" Target="../slideLayouts/slideLayout1420.xml"/><Relationship Id="rId6" Type="http://schemas.openxmlformats.org/officeDocument/2006/relationships/slideLayout" Target="../slideLayouts/slideLayout1421.xml"/><Relationship Id="rId7" Type="http://schemas.openxmlformats.org/officeDocument/2006/relationships/slideLayout" Target="../slideLayouts/slideLayout1422.xml"/><Relationship Id="rId8" Type="http://schemas.openxmlformats.org/officeDocument/2006/relationships/slideLayout" Target="../slideLayouts/slideLayout1423.xml"/><Relationship Id="rId9" Type="http://schemas.openxmlformats.org/officeDocument/2006/relationships/slideLayout" Target="../slideLayouts/slideLayout1424.xml"/><Relationship Id="rId10" Type="http://schemas.openxmlformats.org/officeDocument/2006/relationships/slideLayout" Target="../slideLayouts/slideLayout1425.xml"/><Relationship Id="rId11" Type="http://schemas.openxmlformats.org/officeDocument/2006/relationships/slideLayout" Target="../slideLayouts/slideLayout1426.xml"/><Relationship Id="rId12" Type="http://schemas.openxmlformats.org/officeDocument/2006/relationships/slideLayout" Target="../slideLayouts/slideLayout1427.xml"/><Relationship Id="rId13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slideLayout" Target="../slideLayouts/slideLayout1429.xml"/><Relationship Id="rId3" Type="http://schemas.openxmlformats.org/officeDocument/2006/relationships/slideLayout" Target="../slideLayouts/slideLayout1430.xml"/><Relationship Id="rId4" Type="http://schemas.openxmlformats.org/officeDocument/2006/relationships/slideLayout" Target="../slideLayouts/slideLayout1431.xml"/><Relationship Id="rId5" Type="http://schemas.openxmlformats.org/officeDocument/2006/relationships/slideLayout" Target="../slideLayouts/slideLayout1432.xml"/><Relationship Id="rId6" Type="http://schemas.openxmlformats.org/officeDocument/2006/relationships/slideLayout" Target="../slideLayouts/slideLayout1433.xml"/><Relationship Id="rId7" Type="http://schemas.openxmlformats.org/officeDocument/2006/relationships/slideLayout" Target="../slideLayouts/slideLayout1434.xml"/><Relationship Id="rId8" Type="http://schemas.openxmlformats.org/officeDocument/2006/relationships/slideLayout" Target="../slideLayouts/slideLayout1435.xml"/><Relationship Id="rId9" Type="http://schemas.openxmlformats.org/officeDocument/2006/relationships/slideLayout" Target="../slideLayouts/slideLayout1436.xml"/><Relationship Id="rId10" Type="http://schemas.openxmlformats.org/officeDocument/2006/relationships/slideLayout" Target="../slideLayouts/slideLayout1437.xml"/><Relationship Id="rId11" Type="http://schemas.openxmlformats.org/officeDocument/2006/relationships/slideLayout" Target="../slideLayouts/slideLayout1438.xml"/><Relationship Id="rId12" Type="http://schemas.openxmlformats.org/officeDocument/2006/relationships/slideLayout" Target="../slideLayouts/slideLayout1439.xml"/><Relationship Id="rId13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slideLayout" Target="../slideLayouts/slideLayout1441.xml"/><Relationship Id="rId3" Type="http://schemas.openxmlformats.org/officeDocument/2006/relationships/slideLayout" Target="../slideLayouts/slideLayout1442.xml"/><Relationship Id="rId4" Type="http://schemas.openxmlformats.org/officeDocument/2006/relationships/slideLayout" Target="../slideLayouts/slideLayout1443.xml"/><Relationship Id="rId5" Type="http://schemas.openxmlformats.org/officeDocument/2006/relationships/slideLayout" Target="../slideLayouts/slideLayout1444.xml"/><Relationship Id="rId6" Type="http://schemas.openxmlformats.org/officeDocument/2006/relationships/slideLayout" Target="../slideLayouts/slideLayout1445.xml"/><Relationship Id="rId7" Type="http://schemas.openxmlformats.org/officeDocument/2006/relationships/slideLayout" Target="../slideLayouts/slideLayout1446.xml"/><Relationship Id="rId8" Type="http://schemas.openxmlformats.org/officeDocument/2006/relationships/slideLayout" Target="../slideLayouts/slideLayout1447.xml"/><Relationship Id="rId9" Type="http://schemas.openxmlformats.org/officeDocument/2006/relationships/slideLayout" Target="../slideLayouts/slideLayout1448.xml"/><Relationship Id="rId10" Type="http://schemas.openxmlformats.org/officeDocument/2006/relationships/slideLayout" Target="../slideLayouts/slideLayout1449.xml"/><Relationship Id="rId11" Type="http://schemas.openxmlformats.org/officeDocument/2006/relationships/slideLayout" Target="../slideLayouts/slideLayout1450.xml"/><Relationship Id="rId12" Type="http://schemas.openxmlformats.org/officeDocument/2006/relationships/slideLayout" Target="../slideLayouts/slideLayout1451.xml"/><Relationship Id="rId13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slideLayout" Target="../slideLayouts/slideLayout1453.xml"/><Relationship Id="rId3" Type="http://schemas.openxmlformats.org/officeDocument/2006/relationships/slideLayout" Target="../slideLayouts/slideLayout1454.xml"/><Relationship Id="rId4" Type="http://schemas.openxmlformats.org/officeDocument/2006/relationships/slideLayout" Target="../slideLayouts/slideLayout1455.xml"/><Relationship Id="rId5" Type="http://schemas.openxmlformats.org/officeDocument/2006/relationships/slideLayout" Target="../slideLayouts/slideLayout1456.xml"/><Relationship Id="rId6" Type="http://schemas.openxmlformats.org/officeDocument/2006/relationships/slideLayout" Target="../slideLayouts/slideLayout1457.xml"/><Relationship Id="rId7" Type="http://schemas.openxmlformats.org/officeDocument/2006/relationships/slideLayout" Target="../slideLayouts/slideLayout1458.xml"/><Relationship Id="rId8" Type="http://schemas.openxmlformats.org/officeDocument/2006/relationships/slideLayout" Target="../slideLayouts/slideLayout1459.xml"/><Relationship Id="rId9" Type="http://schemas.openxmlformats.org/officeDocument/2006/relationships/slideLayout" Target="../slideLayouts/slideLayout1460.xml"/><Relationship Id="rId10" Type="http://schemas.openxmlformats.org/officeDocument/2006/relationships/slideLayout" Target="../slideLayouts/slideLayout1461.xml"/><Relationship Id="rId11" Type="http://schemas.openxmlformats.org/officeDocument/2006/relationships/slideLayout" Target="../slideLayouts/slideLayout1462.xml"/><Relationship Id="rId12" Type="http://schemas.openxmlformats.org/officeDocument/2006/relationships/slideLayout" Target="../slideLayouts/slideLayout1463.xml"/><Relationship Id="rId13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slideLayout" Target="../slideLayouts/slideLayout1465.xml"/><Relationship Id="rId3" Type="http://schemas.openxmlformats.org/officeDocument/2006/relationships/slideLayout" Target="../slideLayouts/slideLayout1466.xml"/><Relationship Id="rId4" Type="http://schemas.openxmlformats.org/officeDocument/2006/relationships/slideLayout" Target="../slideLayouts/slideLayout1467.xml"/><Relationship Id="rId5" Type="http://schemas.openxmlformats.org/officeDocument/2006/relationships/slideLayout" Target="../slideLayouts/slideLayout1468.xml"/><Relationship Id="rId6" Type="http://schemas.openxmlformats.org/officeDocument/2006/relationships/slideLayout" Target="../slideLayouts/slideLayout1469.xml"/><Relationship Id="rId7" Type="http://schemas.openxmlformats.org/officeDocument/2006/relationships/slideLayout" Target="../slideLayouts/slideLayout1470.xml"/><Relationship Id="rId8" Type="http://schemas.openxmlformats.org/officeDocument/2006/relationships/slideLayout" Target="../slideLayouts/slideLayout1471.xml"/><Relationship Id="rId9" Type="http://schemas.openxmlformats.org/officeDocument/2006/relationships/slideLayout" Target="../slideLayouts/slideLayout1472.xml"/><Relationship Id="rId10" Type="http://schemas.openxmlformats.org/officeDocument/2006/relationships/slideLayout" Target="../slideLayouts/slideLayout1473.xml"/><Relationship Id="rId11" Type="http://schemas.openxmlformats.org/officeDocument/2006/relationships/slideLayout" Target="../slideLayouts/slideLayout1474.xml"/><Relationship Id="rId12" Type="http://schemas.openxmlformats.org/officeDocument/2006/relationships/slideLayout" Target="../slideLayouts/slideLayout1475.xml"/><Relationship Id="rId13" Type="http://schemas.openxmlformats.org/officeDocument/2006/relationships/slideLayout" Target="../slideLayouts/slideLayout1476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0256-B4DC-465A-832A-3CAFBC8A4DE2}" type="datetime"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6030-1A5E-4702-A2AF-AE8C0EF99DC3}" type="slidenum"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3A19-6E92-475D-8708-2D9CE257012B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840C-E885-4D6F-9A1A-E690B7DB82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9" name="PlaceHolder 3"/>
          <p:cNvSpPr>
            <a:spLocks noGrp="1"/>
          </p:cNvSpPr>
          <p:nvPr>
            <p:ph type="dt" idx="29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8CD7-6E13-4D90-AEB4-1B34212F09AE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0" name="PlaceHolder 4"/>
          <p:cNvSpPr>
            <a:spLocks noGrp="1"/>
          </p:cNvSpPr>
          <p:nvPr>
            <p:ph type="ftr" idx="29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1" name="PlaceHolder 5"/>
          <p:cNvSpPr>
            <a:spLocks noGrp="1"/>
          </p:cNvSpPr>
          <p:nvPr>
            <p:ph type="sldNum" idx="30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1219-FE1E-4039-AFA3-94593C3E8E9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0" name="PlaceHolder 3"/>
          <p:cNvSpPr>
            <a:spLocks noGrp="1"/>
          </p:cNvSpPr>
          <p:nvPr>
            <p:ph type="dt" idx="30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B9EA-046E-4861-9665-535667CFAED4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1" name="PlaceHolder 4"/>
          <p:cNvSpPr>
            <a:spLocks noGrp="1"/>
          </p:cNvSpPr>
          <p:nvPr>
            <p:ph type="ftr" idx="30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2" name="PlaceHolder 5"/>
          <p:cNvSpPr>
            <a:spLocks noGrp="1"/>
          </p:cNvSpPr>
          <p:nvPr>
            <p:ph type="sldNum" idx="30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E565-01C2-4091-8869-40E58240AE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1" name="PlaceHolder 3"/>
          <p:cNvSpPr>
            <a:spLocks noGrp="1"/>
          </p:cNvSpPr>
          <p:nvPr>
            <p:ph type="dt" idx="30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9DDC-3ABD-49A4-980E-8ABE1D457EAE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2" name="PlaceHolder 4"/>
          <p:cNvSpPr>
            <a:spLocks noGrp="1"/>
          </p:cNvSpPr>
          <p:nvPr>
            <p:ph type="ftr" idx="30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3" name="PlaceHolder 5"/>
          <p:cNvSpPr>
            <a:spLocks noGrp="1"/>
          </p:cNvSpPr>
          <p:nvPr>
            <p:ph type="sldNum" idx="30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90B5-CA37-46A3-8D9B-67342C0525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2" name="PlaceHolder 3"/>
          <p:cNvSpPr>
            <a:spLocks noGrp="1"/>
          </p:cNvSpPr>
          <p:nvPr>
            <p:ph type="dt" idx="30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FF9C-5D94-41C8-A41C-73EAAAC1563E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3" name="PlaceHolder 4"/>
          <p:cNvSpPr>
            <a:spLocks noGrp="1"/>
          </p:cNvSpPr>
          <p:nvPr>
            <p:ph type="ftr" idx="30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4" name="PlaceHolder 5"/>
          <p:cNvSpPr>
            <a:spLocks noGrp="1"/>
          </p:cNvSpPr>
          <p:nvPr>
            <p:ph type="sldNum" idx="30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397E-2942-4A54-B14D-5B1D2D655DF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3" name="PlaceHolder 3"/>
          <p:cNvSpPr>
            <a:spLocks noGrp="1"/>
          </p:cNvSpPr>
          <p:nvPr>
            <p:ph type="dt" idx="3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FAA3-3BC3-4B7F-82D2-3F767F366CB5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4" name="PlaceHolder 4"/>
          <p:cNvSpPr>
            <a:spLocks noGrp="1"/>
          </p:cNvSpPr>
          <p:nvPr>
            <p:ph type="ftr" idx="3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5" name="PlaceHolder 5"/>
          <p:cNvSpPr>
            <a:spLocks noGrp="1"/>
          </p:cNvSpPr>
          <p:nvPr>
            <p:ph type="sldNum" idx="3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22B6-88EA-4B81-893F-CB5E2D6E1DE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4" name="PlaceHolder 3"/>
          <p:cNvSpPr>
            <a:spLocks noGrp="1"/>
          </p:cNvSpPr>
          <p:nvPr>
            <p:ph type="dt" idx="3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3925-4E41-4B55-B249-22CED5969E98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5" name="PlaceHolder 4"/>
          <p:cNvSpPr>
            <a:spLocks noGrp="1"/>
          </p:cNvSpPr>
          <p:nvPr>
            <p:ph type="ftr" idx="3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6" name="PlaceHolder 5"/>
          <p:cNvSpPr>
            <a:spLocks noGrp="1"/>
          </p:cNvSpPr>
          <p:nvPr>
            <p:ph type="sldNum" idx="3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9419-04B3-4E81-90B5-A3D733FFA92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5" name="PlaceHolder 3"/>
          <p:cNvSpPr>
            <a:spLocks noGrp="1"/>
          </p:cNvSpPr>
          <p:nvPr>
            <p:ph type="dt" idx="3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48E0-6700-4D4C-9411-B3A8627EEA23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6" name="PlaceHolder 4"/>
          <p:cNvSpPr>
            <a:spLocks noGrp="1"/>
          </p:cNvSpPr>
          <p:nvPr>
            <p:ph type="ftr" idx="3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7" name="PlaceHolder 5"/>
          <p:cNvSpPr>
            <a:spLocks noGrp="1"/>
          </p:cNvSpPr>
          <p:nvPr>
            <p:ph type="sldNum" idx="3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4703-A29B-4E8E-BEF2-B4F42984800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6" name="PlaceHolder 3"/>
          <p:cNvSpPr>
            <a:spLocks noGrp="1"/>
          </p:cNvSpPr>
          <p:nvPr>
            <p:ph type="dt" idx="3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7791-DADA-43B0-9C01-19E7344887E3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7" name="PlaceHolder 4"/>
          <p:cNvSpPr>
            <a:spLocks noGrp="1"/>
          </p:cNvSpPr>
          <p:nvPr>
            <p:ph type="ftr" idx="3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8" name="PlaceHolder 5"/>
          <p:cNvSpPr>
            <a:spLocks noGrp="1"/>
          </p:cNvSpPr>
          <p:nvPr>
            <p:ph type="sldNum" idx="3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9F55-F57E-4707-91BB-9297C1680E7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7" name="PlaceHolder 3"/>
          <p:cNvSpPr>
            <a:spLocks noGrp="1"/>
          </p:cNvSpPr>
          <p:nvPr>
            <p:ph type="dt" idx="3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FD37-1733-434D-8283-23581CEE8D33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8" name="PlaceHolder 4"/>
          <p:cNvSpPr>
            <a:spLocks noGrp="1"/>
          </p:cNvSpPr>
          <p:nvPr>
            <p:ph type="ftr" idx="3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9" name="PlaceHolder 5"/>
          <p:cNvSpPr>
            <a:spLocks noGrp="1"/>
          </p:cNvSpPr>
          <p:nvPr>
            <p:ph type="sldNum" idx="3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BDA3-A3A4-48AC-B93C-70E4156EBF2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8" name="PlaceHolder 3"/>
          <p:cNvSpPr>
            <a:spLocks noGrp="1"/>
          </p:cNvSpPr>
          <p:nvPr>
            <p:ph type="dt" idx="3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FAA1-5439-4935-A03E-704EE11928E5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9" name="PlaceHolder 4"/>
          <p:cNvSpPr>
            <a:spLocks noGrp="1"/>
          </p:cNvSpPr>
          <p:nvPr>
            <p:ph type="ftr" idx="3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0" name="PlaceHolder 5"/>
          <p:cNvSpPr>
            <a:spLocks noGrp="1"/>
          </p:cNvSpPr>
          <p:nvPr>
            <p:ph type="sldNum" idx="3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5EDD-52D4-440D-868E-7441EAF7C0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76E6-7828-4927-947C-716B893D9192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CA8B-8F28-4792-939B-0F793E0C08C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9" name="PlaceHolder 3"/>
          <p:cNvSpPr>
            <a:spLocks noGrp="1"/>
          </p:cNvSpPr>
          <p:nvPr>
            <p:ph type="dt" idx="3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E239-EB00-4BF4-99D1-20927B3776D4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0" name="PlaceHolder 4"/>
          <p:cNvSpPr>
            <a:spLocks noGrp="1"/>
          </p:cNvSpPr>
          <p:nvPr>
            <p:ph type="ftr" idx="3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1" name="PlaceHolder 5"/>
          <p:cNvSpPr>
            <a:spLocks noGrp="1"/>
          </p:cNvSpPr>
          <p:nvPr>
            <p:ph type="sldNum" idx="3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5416-79D6-4647-99A4-DC8FA1B1693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2"/>
    <p:sldLayoutId id="2147485067" r:id="rId3"/>
    <p:sldLayoutId id="2147485068" r:id="rId4"/>
    <p:sldLayoutId id="2147485069" r:id="rId5"/>
    <p:sldLayoutId id="2147485070" r:id="rId6"/>
    <p:sldLayoutId id="2147485071" r:id="rId7"/>
    <p:sldLayoutId id="2147485072" r:id="rId8"/>
    <p:sldLayoutId id="2147485073" r:id="rId9"/>
    <p:sldLayoutId id="2147485074" r:id="rId10"/>
    <p:sldLayoutId id="2147485075" r:id="rId11"/>
    <p:sldLayoutId id="2147485076" r:id="rId12"/>
    <p:sldLayoutId id="2147485077" r:id="rId13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0" name="PlaceHolder 3"/>
          <p:cNvSpPr>
            <a:spLocks noGrp="1"/>
          </p:cNvSpPr>
          <p:nvPr>
            <p:ph type="dt" idx="3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3DCF-4E92-4687-A0C5-B2E16D30E26D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1" name="PlaceHolder 4"/>
          <p:cNvSpPr>
            <a:spLocks noGrp="1"/>
          </p:cNvSpPr>
          <p:nvPr>
            <p:ph type="ftr" idx="3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2" name="PlaceHolder 5"/>
          <p:cNvSpPr>
            <a:spLocks noGrp="1"/>
          </p:cNvSpPr>
          <p:nvPr>
            <p:ph type="sldNum" idx="3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1D5E-F700-4B22-965C-8C860DD19D0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2"/>
    <p:sldLayoutId id="2147485080" r:id="rId3"/>
    <p:sldLayoutId id="2147485081" r:id="rId4"/>
    <p:sldLayoutId id="2147485082" r:id="rId5"/>
    <p:sldLayoutId id="2147485083" r:id="rId6"/>
    <p:sldLayoutId id="2147485084" r:id="rId7"/>
    <p:sldLayoutId id="2147485085" r:id="rId8"/>
    <p:sldLayoutId id="2147485086" r:id="rId9"/>
    <p:sldLayoutId id="2147485087" r:id="rId10"/>
    <p:sldLayoutId id="2147485088" r:id="rId11"/>
    <p:sldLayoutId id="2147485089" r:id="rId12"/>
    <p:sldLayoutId id="2147485090" r:id="rId13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1" name="PlaceHolder 3"/>
          <p:cNvSpPr>
            <a:spLocks noGrp="1"/>
          </p:cNvSpPr>
          <p:nvPr>
            <p:ph type="dt" idx="3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A419-AAA4-4E72-9711-3B3B54D90029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2" name="PlaceHolder 4"/>
          <p:cNvSpPr>
            <a:spLocks noGrp="1"/>
          </p:cNvSpPr>
          <p:nvPr>
            <p:ph type="ftr" idx="3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3" name="PlaceHolder 5"/>
          <p:cNvSpPr>
            <a:spLocks noGrp="1"/>
          </p:cNvSpPr>
          <p:nvPr>
            <p:ph type="sldNum" idx="3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AE30-FAE0-42F9-80C3-82C16F74314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2"/>
    <p:sldLayoutId id="2147485093" r:id="rId3"/>
    <p:sldLayoutId id="2147485094" r:id="rId4"/>
    <p:sldLayoutId id="2147485095" r:id="rId5"/>
    <p:sldLayoutId id="2147485096" r:id="rId6"/>
    <p:sldLayoutId id="2147485097" r:id="rId7"/>
    <p:sldLayoutId id="2147485098" r:id="rId8"/>
    <p:sldLayoutId id="2147485099" r:id="rId9"/>
    <p:sldLayoutId id="2147485100" r:id="rId10"/>
    <p:sldLayoutId id="2147485101" r:id="rId11"/>
    <p:sldLayoutId id="2147485102" r:id="rId12"/>
    <p:sldLayoutId id="2147485103" r:id="rId13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2" name="PlaceHolder 3"/>
          <p:cNvSpPr>
            <a:spLocks noGrp="1"/>
          </p:cNvSpPr>
          <p:nvPr>
            <p:ph type="dt" idx="3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0AB8-935B-4FE3-8FBD-C7877C603A7A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3" name="PlaceHolder 4"/>
          <p:cNvSpPr>
            <a:spLocks noGrp="1"/>
          </p:cNvSpPr>
          <p:nvPr>
            <p:ph type="ftr" idx="3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4" name="PlaceHolder 5"/>
          <p:cNvSpPr>
            <a:spLocks noGrp="1"/>
          </p:cNvSpPr>
          <p:nvPr>
            <p:ph type="sldNum" idx="3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2AE0-A818-473A-A336-A5E92B6CE2D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2"/>
    <p:sldLayoutId id="2147485106" r:id="rId3"/>
    <p:sldLayoutId id="2147485107" r:id="rId4"/>
    <p:sldLayoutId id="2147485108" r:id="rId5"/>
    <p:sldLayoutId id="2147485109" r:id="rId6"/>
    <p:sldLayoutId id="2147485110" r:id="rId7"/>
    <p:sldLayoutId id="2147485111" r:id="rId8"/>
    <p:sldLayoutId id="2147485112" r:id="rId9"/>
    <p:sldLayoutId id="2147485113" r:id="rId10"/>
    <p:sldLayoutId id="2147485114" r:id="rId11"/>
    <p:sldLayoutId id="2147485115" r:id="rId12"/>
    <p:sldLayoutId id="2147485116" r:id="rId13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3" name="PlaceHolder 3"/>
          <p:cNvSpPr>
            <a:spLocks noGrp="1"/>
          </p:cNvSpPr>
          <p:nvPr>
            <p:ph type="dt" idx="3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3948-4D2C-43DC-9152-1ED72F335A37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4" name="PlaceHolder 4"/>
          <p:cNvSpPr>
            <a:spLocks noGrp="1"/>
          </p:cNvSpPr>
          <p:nvPr>
            <p:ph type="ftr" idx="3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5" name="PlaceHolder 5"/>
          <p:cNvSpPr>
            <a:spLocks noGrp="1"/>
          </p:cNvSpPr>
          <p:nvPr>
            <p:ph type="sldNum" idx="3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4F32-DE7A-4D09-97AA-2C74593CF8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4" name="PlaceHolder 3"/>
          <p:cNvSpPr>
            <a:spLocks noGrp="1"/>
          </p:cNvSpPr>
          <p:nvPr>
            <p:ph type="dt" idx="3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6DDD-9F20-42D1-868A-77821213F47D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5" name="PlaceHolder 4"/>
          <p:cNvSpPr>
            <a:spLocks noGrp="1"/>
          </p:cNvSpPr>
          <p:nvPr>
            <p:ph type="ftr" idx="3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6" name="PlaceHolder 5"/>
          <p:cNvSpPr>
            <a:spLocks noGrp="1"/>
          </p:cNvSpPr>
          <p:nvPr>
            <p:ph type="sldNum" idx="3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A7FF-C4C6-418C-8646-193972D438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2"/>
    <p:sldLayoutId id="2147485132" r:id="rId3"/>
    <p:sldLayoutId id="2147485133" r:id="rId4"/>
    <p:sldLayoutId id="2147485134" r:id="rId5"/>
    <p:sldLayoutId id="2147485135" r:id="rId6"/>
    <p:sldLayoutId id="2147485136" r:id="rId7"/>
    <p:sldLayoutId id="2147485137" r:id="rId8"/>
    <p:sldLayoutId id="2147485138" r:id="rId9"/>
    <p:sldLayoutId id="2147485139" r:id="rId10"/>
    <p:sldLayoutId id="2147485140" r:id="rId11"/>
    <p:sldLayoutId id="2147485141" r:id="rId12"/>
    <p:sldLayoutId id="2147485142" r:id="rId13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5" name="PlaceHolder 3"/>
          <p:cNvSpPr>
            <a:spLocks noGrp="1"/>
          </p:cNvSpPr>
          <p:nvPr>
            <p:ph type="dt" idx="3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0B24-95AD-4DF8-A136-EDE3377196AE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6" name="PlaceHolder 4"/>
          <p:cNvSpPr>
            <a:spLocks noGrp="1"/>
          </p:cNvSpPr>
          <p:nvPr>
            <p:ph type="ftr" idx="3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7" name="PlaceHolder 5"/>
          <p:cNvSpPr>
            <a:spLocks noGrp="1"/>
          </p:cNvSpPr>
          <p:nvPr>
            <p:ph type="sldNum" idx="3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95E0-338A-459C-BED2-FB870D7D67C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2"/>
    <p:sldLayoutId id="2147485145" r:id="rId3"/>
    <p:sldLayoutId id="2147485146" r:id="rId4"/>
    <p:sldLayoutId id="2147485147" r:id="rId5"/>
    <p:sldLayoutId id="2147485148" r:id="rId6"/>
    <p:sldLayoutId id="2147485149" r:id="rId7"/>
    <p:sldLayoutId id="2147485150" r:id="rId8"/>
    <p:sldLayoutId id="2147485151" r:id="rId9"/>
    <p:sldLayoutId id="2147485152" r:id="rId10"/>
    <p:sldLayoutId id="2147485153" r:id="rId11"/>
    <p:sldLayoutId id="2147485154" r:id="rId12"/>
    <p:sldLayoutId id="2147485155" r:id="rId13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6" name="PlaceHolder 3"/>
          <p:cNvSpPr>
            <a:spLocks noGrp="1"/>
          </p:cNvSpPr>
          <p:nvPr>
            <p:ph type="dt" idx="3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30D9-CD50-4453-B76B-82F40F6E55E3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7" name="PlaceHolder 4"/>
          <p:cNvSpPr>
            <a:spLocks noGrp="1"/>
          </p:cNvSpPr>
          <p:nvPr>
            <p:ph type="ftr" idx="3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8" name="PlaceHolder 5"/>
          <p:cNvSpPr>
            <a:spLocks noGrp="1"/>
          </p:cNvSpPr>
          <p:nvPr>
            <p:ph type="sldNum" idx="3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02ED-DBD5-4F7F-BB4E-00AAD72FCB5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2"/>
    <p:sldLayoutId id="2147485158" r:id="rId3"/>
    <p:sldLayoutId id="2147485159" r:id="rId4"/>
    <p:sldLayoutId id="2147485160" r:id="rId5"/>
    <p:sldLayoutId id="2147485161" r:id="rId6"/>
    <p:sldLayoutId id="2147485162" r:id="rId7"/>
    <p:sldLayoutId id="2147485163" r:id="rId8"/>
    <p:sldLayoutId id="2147485164" r:id="rId9"/>
    <p:sldLayoutId id="2147485165" r:id="rId10"/>
    <p:sldLayoutId id="2147485166" r:id="rId11"/>
    <p:sldLayoutId id="2147485167" r:id="rId12"/>
    <p:sldLayoutId id="2147485168" r:id="rId13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7" name="PlaceHolder 3"/>
          <p:cNvSpPr>
            <a:spLocks noGrp="1"/>
          </p:cNvSpPr>
          <p:nvPr>
            <p:ph type="dt" idx="3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8272-864A-49D5-AF2C-4503394CEA8B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8" name="PlaceHolder 4"/>
          <p:cNvSpPr>
            <a:spLocks noGrp="1"/>
          </p:cNvSpPr>
          <p:nvPr>
            <p:ph type="ftr" idx="3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9" name="PlaceHolder 5"/>
          <p:cNvSpPr>
            <a:spLocks noGrp="1"/>
          </p:cNvSpPr>
          <p:nvPr>
            <p:ph type="sldNum" idx="3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C684-E8FD-45E8-96C7-CA621136B68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2"/>
    <p:sldLayoutId id="2147485171" r:id="rId3"/>
    <p:sldLayoutId id="2147485172" r:id="rId4"/>
    <p:sldLayoutId id="2147485173" r:id="rId5"/>
    <p:sldLayoutId id="2147485174" r:id="rId6"/>
    <p:sldLayoutId id="2147485175" r:id="rId7"/>
    <p:sldLayoutId id="2147485176" r:id="rId8"/>
    <p:sldLayoutId id="2147485177" r:id="rId9"/>
    <p:sldLayoutId id="2147485178" r:id="rId10"/>
    <p:sldLayoutId id="2147485179" r:id="rId11"/>
    <p:sldLayoutId id="2147485180" r:id="rId12"/>
    <p:sldLayoutId id="2147485181" r:id="rId13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8" name="PlaceHolder 3"/>
          <p:cNvSpPr>
            <a:spLocks noGrp="1"/>
          </p:cNvSpPr>
          <p:nvPr>
            <p:ph type="dt" idx="3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C853-327E-4D22-BBE0-6BED5FDCF9C7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9" name="PlaceHolder 4"/>
          <p:cNvSpPr>
            <a:spLocks noGrp="1"/>
          </p:cNvSpPr>
          <p:nvPr>
            <p:ph type="ftr" idx="3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0" name="PlaceHolder 5"/>
          <p:cNvSpPr>
            <a:spLocks noGrp="1"/>
          </p:cNvSpPr>
          <p:nvPr>
            <p:ph type="sldNum" idx="35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A4B2-A95E-43E4-B85F-842B33AC9EB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2"/>
    <p:sldLayoutId id="2147485184" r:id="rId3"/>
    <p:sldLayoutId id="2147485185" r:id="rId4"/>
    <p:sldLayoutId id="2147485186" r:id="rId5"/>
    <p:sldLayoutId id="2147485187" r:id="rId6"/>
    <p:sldLayoutId id="2147485188" r:id="rId7"/>
    <p:sldLayoutId id="2147485189" r:id="rId8"/>
    <p:sldLayoutId id="2147485190" r:id="rId9"/>
    <p:sldLayoutId id="2147485191" r:id="rId10"/>
    <p:sldLayoutId id="2147485192" r:id="rId11"/>
    <p:sldLayoutId id="2147485193" r:id="rId12"/>
    <p:sldLayoutId id="2147485194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8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9080-9FFE-4A37-BE3E-5EF1167AB70B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62C1-CD48-4AB9-8C72-19C543277B2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9" name="PlaceHolder 3"/>
          <p:cNvSpPr>
            <a:spLocks noGrp="1"/>
          </p:cNvSpPr>
          <p:nvPr>
            <p:ph type="dt" idx="35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F947-BBBE-4F23-B98E-479117084214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0" name="PlaceHolder 4"/>
          <p:cNvSpPr>
            <a:spLocks noGrp="1"/>
          </p:cNvSpPr>
          <p:nvPr>
            <p:ph type="ftr" idx="35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1" name="PlaceHolder 5"/>
          <p:cNvSpPr>
            <a:spLocks noGrp="1"/>
          </p:cNvSpPr>
          <p:nvPr>
            <p:ph type="sldNum" idx="36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AE8E-2B20-4160-9E42-7B2B2FDF160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2"/>
    <p:sldLayoutId id="2147485197" r:id="rId3"/>
    <p:sldLayoutId id="2147485198" r:id="rId4"/>
    <p:sldLayoutId id="2147485199" r:id="rId5"/>
    <p:sldLayoutId id="2147485200" r:id="rId6"/>
    <p:sldLayoutId id="2147485201" r:id="rId7"/>
    <p:sldLayoutId id="2147485202" r:id="rId8"/>
    <p:sldLayoutId id="2147485203" r:id="rId9"/>
    <p:sldLayoutId id="2147485204" r:id="rId10"/>
    <p:sldLayoutId id="2147485205" r:id="rId11"/>
    <p:sldLayoutId id="2147485206" r:id="rId12"/>
    <p:sldLayoutId id="2147485207" r:id="rId13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0" name="PlaceHolder 3"/>
          <p:cNvSpPr>
            <a:spLocks noGrp="1"/>
          </p:cNvSpPr>
          <p:nvPr>
            <p:ph type="dt" idx="36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96B3-0F5B-45A3-BA1C-DAAC9667BFE9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1" name="PlaceHolder 4"/>
          <p:cNvSpPr>
            <a:spLocks noGrp="1"/>
          </p:cNvSpPr>
          <p:nvPr>
            <p:ph type="ftr" idx="36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2" name="PlaceHolder 5"/>
          <p:cNvSpPr>
            <a:spLocks noGrp="1"/>
          </p:cNvSpPr>
          <p:nvPr>
            <p:ph type="sldNum" idx="36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FB16-BDFF-496E-8B01-D5019EB5B64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2"/>
    <p:sldLayoutId id="2147485210" r:id="rId3"/>
    <p:sldLayoutId id="2147485211" r:id="rId4"/>
    <p:sldLayoutId id="2147485212" r:id="rId5"/>
    <p:sldLayoutId id="2147485213" r:id="rId6"/>
    <p:sldLayoutId id="2147485214" r:id="rId7"/>
    <p:sldLayoutId id="2147485215" r:id="rId8"/>
    <p:sldLayoutId id="2147485216" r:id="rId9"/>
    <p:sldLayoutId id="2147485217" r:id="rId10"/>
    <p:sldLayoutId id="2147485218" r:id="rId11"/>
    <p:sldLayoutId id="2147485219" r:id="rId12"/>
    <p:sldLayoutId id="2147485220" r:id="rId13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1" name="PlaceHolder 3"/>
          <p:cNvSpPr>
            <a:spLocks noGrp="1"/>
          </p:cNvSpPr>
          <p:nvPr>
            <p:ph type="dt" idx="36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9633-8359-4BAB-8016-939298E72C42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2" name="PlaceHolder 4"/>
          <p:cNvSpPr>
            <a:spLocks noGrp="1"/>
          </p:cNvSpPr>
          <p:nvPr>
            <p:ph type="ftr" idx="36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3" name="PlaceHolder 5"/>
          <p:cNvSpPr>
            <a:spLocks noGrp="1"/>
          </p:cNvSpPr>
          <p:nvPr>
            <p:ph type="sldNum" idx="36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FE42-2A3D-47E9-9573-01110836743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2"/>
    <p:sldLayoutId id="2147485223" r:id="rId3"/>
    <p:sldLayoutId id="2147485224" r:id="rId4"/>
    <p:sldLayoutId id="2147485225" r:id="rId5"/>
    <p:sldLayoutId id="2147485226" r:id="rId6"/>
    <p:sldLayoutId id="2147485227" r:id="rId7"/>
    <p:sldLayoutId id="2147485228" r:id="rId8"/>
    <p:sldLayoutId id="2147485229" r:id="rId9"/>
    <p:sldLayoutId id="2147485230" r:id="rId10"/>
    <p:sldLayoutId id="2147485231" r:id="rId11"/>
    <p:sldLayoutId id="2147485232" r:id="rId12"/>
    <p:sldLayoutId id="2147485233" r:id="rId13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2" name="PlaceHolder 3"/>
          <p:cNvSpPr>
            <a:spLocks noGrp="1"/>
          </p:cNvSpPr>
          <p:nvPr>
            <p:ph type="dt" idx="36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84C2-97EE-4094-8FC2-7C4AAF248D81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3" name="PlaceHolder 4"/>
          <p:cNvSpPr>
            <a:spLocks noGrp="1"/>
          </p:cNvSpPr>
          <p:nvPr>
            <p:ph type="ftr" idx="36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4" name="PlaceHolder 5"/>
          <p:cNvSpPr>
            <a:spLocks noGrp="1"/>
          </p:cNvSpPr>
          <p:nvPr>
            <p:ph type="sldNum" idx="36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3827-DFE9-4385-B24F-FCC2FE1395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2"/>
    <p:sldLayoutId id="2147485236" r:id="rId3"/>
    <p:sldLayoutId id="2147485237" r:id="rId4"/>
    <p:sldLayoutId id="2147485238" r:id="rId5"/>
    <p:sldLayoutId id="2147485239" r:id="rId6"/>
    <p:sldLayoutId id="2147485240" r:id="rId7"/>
    <p:sldLayoutId id="2147485241" r:id="rId8"/>
    <p:sldLayoutId id="2147485242" r:id="rId9"/>
    <p:sldLayoutId id="2147485243" r:id="rId10"/>
    <p:sldLayoutId id="2147485244" r:id="rId11"/>
    <p:sldLayoutId id="2147485245" r:id="rId12"/>
    <p:sldLayoutId id="2147485246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226D-AB5E-44F0-9806-35CD656531B8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8BA3-5B5E-4982-BBCF-1EDD06D0EF5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9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9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6EE6-5D7C-4BC9-B029-8091BE5FC437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9E4B-5DBD-4058-9674-3B58B80F8EB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EA0D-272B-4C77-B127-9138ABDF1A01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0E49-53D4-4755-A81C-42EE05D58D8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0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0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1436-7A12-4021-85B9-62D7204F0BA3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F5C0-CCD6-4A7B-BA08-BA8004501CA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6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6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B218-E6C2-4BA2-86B4-6A7D8D565E1B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220A-9F61-491E-87A8-20E9EAD893F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8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B944-C324-40CD-88B5-55DA39676D1A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9571-0571-4770-A80F-F1FD3393585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7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7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87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DB54-4CDB-41B7-B9B5-0AF8A9523FD5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8B6F-541E-4ECC-A3A0-7046A250CFF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F20E-5AAE-45BE-BD9B-C66B2B03A0C5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8C47-C3FC-4871-9FBE-A62A8BE351F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2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2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2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8D99-27D2-4302-ABE6-9B0A393DAFF9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5B52-88D2-476B-84AF-7EBE343D817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8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8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8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78BA-5114-4EE2-8401-F3820BB733CD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DE87-CAA6-4AC8-8513-075A31B3D19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3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3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DFC8-D65C-4933-B2CF-957F5621AA68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C66E-8E11-45B8-B406-89DF4528FBB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9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 type="ftr" idx="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 type="sldNum" idx="6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45C4-0D01-416A-95EA-C7FB42A60EB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 type="dt" idx="6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4493-0821-435D-8388-55D1F91BA227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4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 type="ftr" idx="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 type="sldNum" idx="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A6F6-CA25-4D9B-B15D-B625DD93C50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 type="dt" idx="7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9B59-24CF-472A-AAF9-90E62221ABC8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9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 type="ftr" idx="7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 type="sldNum" idx="7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16F0-57C7-4D56-87BD-1A02617AAFC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 type="dt" idx="7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A1FA-4163-4587-BA8D-A294325C89C4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4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 type="ftr" idx="7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 type="sldNum" idx="7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3C8E-1A4E-4491-934B-013EC1930FD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 type="dt" idx="7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BB7D-0968-44AC-83EB-4E3F5E6A8BF1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9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 type="ftr" idx="7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 type="sldNum" idx="8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4684-35B3-49B2-AE6F-C801AE0536F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 type="dt" idx="8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F6DD-B4C5-49CE-A10C-77F761B9DBAE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4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ftr" idx="8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sldNum" idx="8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DDD1-3575-41EF-90CB-030D3C20316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dt" idx="8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D5DE-9D36-415E-A6DD-27F76164215D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9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 type="sldNum" idx="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4A2E-717A-472E-8770-2ED730EBBA2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 type="dt" idx="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1965-D325-4674-B38A-F914079B8ED8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992D-DA23-4D5F-849E-C127F594B19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E7F7-8CB3-4D54-98D8-85D31E43E4B5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4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ftr" idx="8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sldNum" idx="8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CDC0-C230-4391-96C7-02BE4BF02A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 type="dt" idx="9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89EF-EA5D-4EC9-AB80-71810D240EF1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9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 type="ftr" idx="9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 type="sldNum" idx="9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FD61-4AAD-4AEE-8715-3BEFDA1AF8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 type="dt" idx="9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FFF6-79B8-4647-9CCB-8F3025F3FB28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5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 type="ftr" idx="9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 type="sldNum" idx="9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6B91-6943-4198-AA76-0A52303BE3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5"/>
          <p:cNvSpPr>
            <a:spLocks noGrp="1"/>
          </p:cNvSpPr>
          <p:nvPr>
            <p:ph type="dt" idx="9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C7AF-3069-4A7E-AE15-C147AD5191F9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0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 type="ftr" idx="9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 type="sldNum" idx="9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3E56-55C1-466C-A5CE-99A41412FD8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5"/>
          <p:cNvSpPr>
            <a:spLocks noGrp="1"/>
          </p:cNvSpPr>
          <p:nvPr>
            <p:ph type="dt" idx="9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69F3-7724-49BA-A810-2B080186DFC6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 type="ftr" idx="10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 type="sldNum" idx="10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6DF9-C88A-4758-8DCA-38E227CE892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PlaceHolder 5"/>
          <p:cNvSpPr>
            <a:spLocks noGrp="1"/>
          </p:cNvSpPr>
          <p:nvPr>
            <p:ph type="dt" idx="10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EC98-CABB-45E7-8721-62B5568032E0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 type="ftr" idx="10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 type="sldNum" idx="10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48C1-C82C-43FE-B57E-DC0D39ABD9F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 type="dt" idx="10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991C-BD17-4BDB-81D7-249473460B7D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5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ftr" idx="10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sldNum" idx="10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FBD2-2B1C-4799-B9BB-0312E429EBC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dt" idx="10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749C-1D7A-44C2-A5B4-1782F50F8865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0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 type="ftr" idx="10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 type="sldNum" idx="1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90F5-32D0-4981-9032-0E945499A13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 type="dt" idx="1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86D1-BAAF-4C94-A85E-590AC5664F3D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5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 type="ftr" idx="1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 type="sldNum" idx="1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1E2B-A45B-4E93-B854-1B78A66959D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5"/>
          <p:cNvSpPr>
            <a:spLocks noGrp="1"/>
          </p:cNvSpPr>
          <p:nvPr>
            <p:ph type="dt" idx="1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C509-7CDC-470E-BE46-5D9C21D6D5E4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 type="ftr" idx="1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 type="sldNum" idx="1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FC57-5F81-4CFD-A9D3-4EDE8AAC4F8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PlaceHolder 5"/>
          <p:cNvSpPr>
            <a:spLocks noGrp="1"/>
          </p:cNvSpPr>
          <p:nvPr>
            <p:ph type="dt" idx="1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287D-7A80-49CB-8E65-3A03B723DAFA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2CC0-66E3-477D-8D98-8065DE3C1A7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95CA-4A3E-41DD-B44F-EE892BAD9065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 type="ftr" idx="1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 type="sldNum" idx="1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5292-818C-4F38-9153-600A74047A1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5"/>
          <p:cNvSpPr>
            <a:spLocks noGrp="1"/>
          </p:cNvSpPr>
          <p:nvPr>
            <p:ph type="dt" idx="1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75B8-2B4B-46E6-BEB6-51C12AA06BFC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0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 type="ftr" idx="1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 type="sldNum" idx="1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C158-4B40-43FC-98E1-F7C65027C4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PlaceHolder 5"/>
          <p:cNvSpPr>
            <a:spLocks noGrp="1"/>
          </p:cNvSpPr>
          <p:nvPr>
            <p:ph type="dt" idx="1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9A5C-3C02-4C63-B837-727E07357226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6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 type="ftr" idx="1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 type="sldNum" idx="1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78E7-6D53-4FC4-914B-D38104E1AEB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PlaceHolder 5"/>
          <p:cNvSpPr>
            <a:spLocks noGrp="1"/>
          </p:cNvSpPr>
          <p:nvPr>
            <p:ph type="dt" idx="1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7183-9FCF-4DBE-9F9C-E2817D8971AA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1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 type="ftr" idx="1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 type="sldNum" idx="1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FE8C-DF49-4C88-97FA-65C2893D597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 type="dt" idx="1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C6FD-90F5-4D1A-B5B2-267BF19DD10F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6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 type="ftr" idx="1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 type="sldNum" idx="1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2FDC-420F-4447-BF27-07E60640CDC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PlaceHolder 5"/>
          <p:cNvSpPr>
            <a:spLocks noGrp="1"/>
          </p:cNvSpPr>
          <p:nvPr>
            <p:ph type="dt" idx="1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6BCE-CBEE-48DD-AE51-AD7CEAD1CF97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 type="ftr" idx="1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 type="sldNum" idx="1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D8B6-D34B-45C2-9619-51CF6431B79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 type="dt" idx="1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02B5-5468-41C9-B847-F9CB27EEDDC8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6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 type="ftr" idx="1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 type="sldNum" idx="1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ABC4-AA1F-48D9-86F9-8DAA6CCA5B5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PlaceHolder 5"/>
          <p:cNvSpPr>
            <a:spLocks noGrp="1"/>
          </p:cNvSpPr>
          <p:nvPr>
            <p:ph type="dt" idx="1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3386-5FF7-4AB9-9B1B-EC74B215AB9B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 type="dt" idx="13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0A80-42F4-4268-BE9C-9F35506C40A2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 type="ftr" idx="14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8" name="PlaceHolder 5"/>
          <p:cNvSpPr>
            <a:spLocks noGrp="1"/>
          </p:cNvSpPr>
          <p:nvPr>
            <p:ph type="sldNum" idx="14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E3CF-3653-4D19-9A11-DC31898B8D5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 type="dt" idx="14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3A85-D522-428A-A40F-5B28F9B6805B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 type="ftr" idx="14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9" name="PlaceHolder 5"/>
          <p:cNvSpPr>
            <a:spLocks noGrp="1"/>
          </p:cNvSpPr>
          <p:nvPr>
            <p:ph type="sldNum" idx="14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8FEF-68A0-49AB-9FD1-01CD83FF24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 type="dt" idx="14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6D65-89CA-4E13-9B5F-3E5A1C502D80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 type="ftr" idx="14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0" name="PlaceHolder 5"/>
          <p:cNvSpPr>
            <a:spLocks noGrp="1"/>
          </p:cNvSpPr>
          <p:nvPr>
            <p:ph type="sldNum" idx="14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C473-5C8B-4621-9A46-F7429038389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AB1A-8A6A-4180-B324-B8AA4D7A3FAB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E2AD-A285-4364-8DCA-886BE1FE192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 type="dt" idx="14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2D61-0904-4CD0-90A2-07536E1A1879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 type="ftr" idx="14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1" name="PlaceHolder 5"/>
          <p:cNvSpPr>
            <a:spLocks noGrp="1"/>
          </p:cNvSpPr>
          <p:nvPr>
            <p:ph type="sldNum" idx="15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FF9B-C8F8-43ED-9FDB-9E8DE328DF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 type="dt" idx="15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0299-9B9D-4594-A5C2-95ED5871F27B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 type="ftr" idx="15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2" name="PlaceHolder 5"/>
          <p:cNvSpPr>
            <a:spLocks noGrp="1"/>
          </p:cNvSpPr>
          <p:nvPr>
            <p:ph type="sldNum" idx="15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3CAF-CB8C-45C8-948F-AE008C79239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 type="dt" idx="15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2260-1787-403B-9633-87F36968C590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 type="ftr" idx="15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3" name="PlaceHolder 5"/>
          <p:cNvSpPr>
            <a:spLocks noGrp="1"/>
          </p:cNvSpPr>
          <p:nvPr>
            <p:ph type="sldNum" idx="15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797C-1EB1-4302-AA01-CA0C9B447C3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 type="dt" idx="15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6890-5946-4280-85B3-ED4CE09C3E21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 type="ftr" idx="15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4" name="PlaceHolder 5"/>
          <p:cNvSpPr>
            <a:spLocks noGrp="1"/>
          </p:cNvSpPr>
          <p:nvPr>
            <p:ph type="sldNum" idx="15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A9A0-16DB-43E9-8F7D-8F7FD12973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 type="dt" idx="16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73A2-B742-42A8-BF53-6106B32D45C7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 type="ftr" idx="16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5" name="PlaceHolder 5"/>
          <p:cNvSpPr>
            <a:spLocks noGrp="1"/>
          </p:cNvSpPr>
          <p:nvPr>
            <p:ph type="sldNum" idx="16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4FCC-CE97-4931-B6CF-F24B8825482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 type="dt" idx="16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F122-945C-4C9E-8BCE-7F92B628EAF4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 type="ftr" idx="16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6" name="PlaceHolder 5"/>
          <p:cNvSpPr>
            <a:spLocks noGrp="1"/>
          </p:cNvSpPr>
          <p:nvPr>
            <p:ph type="sldNum" idx="16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661D-782D-47E8-8D0E-939360E8043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 type="dt" idx="16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A6FB-B9DF-46B2-882C-02D5D0F0237E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 type="ftr" idx="16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7" name="PlaceHolder 5"/>
          <p:cNvSpPr>
            <a:spLocks noGrp="1"/>
          </p:cNvSpPr>
          <p:nvPr>
            <p:ph type="sldNum" idx="16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BD25-E523-4354-AFEF-65F5CCD01D9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 type="dt" idx="16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C8B1-016E-4CC4-808B-99F77B818091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 type="ftr" idx="17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8" name="PlaceHolder 5"/>
          <p:cNvSpPr>
            <a:spLocks noGrp="1"/>
          </p:cNvSpPr>
          <p:nvPr>
            <p:ph type="sldNum" idx="17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EB27-0F15-42AC-BF09-D25235D6F8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 type="dt" idx="17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2A4C-66C0-435F-988B-9A0E71EF573B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 type="ftr" idx="17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9" name="PlaceHolder 5"/>
          <p:cNvSpPr>
            <a:spLocks noGrp="1"/>
          </p:cNvSpPr>
          <p:nvPr>
            <p:ph type="sldNum" idx="17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7261-6363-49A3-A5D9-DF3B569D953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 type="dt" idx="17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CDD6-AE8B-42B1-BE16-457636D88D74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 type="ftr" idx="17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0" name="PlaceHolder 5"/>
          <p:cNvSpPr>
            <a:spLocks noGrp="1"/>
          </p:cNvSpPr>
          <p:nvPr>
            <p:ph type="sldNum" idx="17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1873-BD0D-474F-A07B-788248772F7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FD76-FCA1-4F49-A3C5-F36401C939E6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749F-59F3-4886-8A74-15068AE9A9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 type="dt" idx="17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397C-56CB-4417-90A8-6A64547A7DE6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 type="ftr" idx="17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1" name="PlaceHolder 5"/>
          <p:cNvSpPr>
            <a:spLocks noGrp="1"/>
          </p:cNvSpPr>
          <p:nvPr>
            <p:ph type="sldNum" idx="18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A6E9-305E-45AE-9F03-D34E7331BD3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 type="dt" idx="18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E7D0-7706-4EA5-A102-BBD7F080CC19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 type="ftr" idx="18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2" name="PlaceHolder 5"/>
          <p:cNvSpPr>
            <a:spLocks noGrp="1"/>
          </p:cNvSpPr>
          <p:nvPr>
            <p:ph type="sldNum" idx="18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5563-E258-4432-8E56-1B6AC7935B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 type="dt" idx="18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E1AD-B7AD-436A-91E3-71B50B1F1AAE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 type="ftr" idx="18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3" name="PlaceHolder 5"/>
          <p:cNvSpPr>
            <a:spLocks noGrp="1"/>
          </p:cNvSpPr>
          <p:nvPr>
            <p:ph type="sldNum" idx="18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EE78-7E1D-4230-BF1A-879466E833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 type="dt" idx="18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045E-2685-43E9-A98C-BC61D416C6F9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 type="ftr" idx="18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4" name="PlaceHolder 5"/>
          <p:cNvSpPr>
            <a:spLocks noGrp="1"/>
          </p:cNvSpPr>
          <p:nvPr>
            <p:ph type="sldNum" idx="18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D0BB-1BD5-4E42-AC94-B2C74512C8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 type="dt" idx="19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0334-92BF-4725-AAAD-C3254DC3AA3A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 type="ftr" idx="19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5" name="PlaceHolder 5"/>
          <p:cNvSpPr>
            <a:spLocks noGrp="1"/>
          </p:cNvSpPr>
          <p:nvPr>
            <p:ph type="sldNum" idx="19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6431-3172-43E8-9ADA-24A1DA17FA2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 type="dt" idx="19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C788-DF2C-4AA0-856E-DB980F0831C9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 type="ftr" idx="19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6" name="PlaceHolder 5"/>
          <p:cNvSpPr>
            <a:spLocks noGrp="1"/>
          </p:cNvSpPr>
          <p:nvPr>
            <p:ph type="sldNum" idx="19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31D8-DB7C-4CA9-9928-73E1F97718D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 type="dt" idx="19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77DF-C713-4CFA-A6A0-151029041CC9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 type="ftr" idx="19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7" name="PlaceHolder 5"/>
          <p:cNvSpPr>
            <a:spLocks noGrp="1"/>
          </p:cNvSpPr>
          <p:nvPr>
            <p:ph type="sldNum" idx="19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15D5-A4AD-4B06-B1D5-C6E3B6328F9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 type="dt" idx="19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73AB-4B7E-495C-B2FE-BF997349C5CD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 type="ftr" idx="20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8" name="PlaceHolder 5"/>
          <p:cNvSpPr>
            <a:spLocks noGrp="1"/>
          </p:cNvSpPr>
          <p:nvPr>
            <p:ph type="sldNum" idx="20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67C0-486A-4A75-94EE-0586F5182DF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 type="dt" idx="20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2AF6-6CA8-4710-9798-A0062225CB48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 type="ftr" idx="20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9" name="PlaceHolder 5"/>
          <p:cNvSpPr>
            <a:spLocks noGrp="1"/>
          </p:cNvSpPr>
          <p:nvPr>
            <p:ph type="sldNum" idx="20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2AEA-2291-4CE1-8123-D2662F3A0D1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 type="dt" idx="20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822F-2B70-49B5-A467-010B42D2B658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 type="ftr" idx="20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0" name="PlaceHolder 5"/>
          <p:cNvSpPr>
            <a:spLocks noGrp="1"/>
          </p:cNvSpPr>
          <p:nvPr>
            <p:ph type="sldNum" idx="20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F6BD-053C-4B59-95B3-A79CFB5842F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2A35-FCBF-45CF-B51D-A22FFFE93F3F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B990-55BF-404F-AEA1-D21310094E4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 type="dt" idx="20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3C52-455F-4CE1-A49D-AED009F74B84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 type="ftr" idx="20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1" name="PlaceHolder 5"/>
          <p:cNvSpPr>
            <a:spLocks noGrp="1"/>
          </p:cNvSpPr>
          <p:nvPr>
            <p:ph type="sldNum" idx="21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3D75-7957-4981-9B09-93BD3AFAF0D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 type="dt" idx="21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A128-83A0-4514-80E9-DF5AE89F3607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 type="ftr" idx="21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2" name="PlaceHolder 5"/>
          <p:cNvSpPr>
            <a:spLocks noGrp="1"/>
          </p:cNvSpPr>
          <p:nvPr>
            <p:ph type="sldNum" idx="21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CF42-7A9C-488F-9AF6-514EBB71CF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 type="dt" idx="21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1AF9-6C55-4A05-B629-EEC839019E4F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 type="ftr" idx="21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3" name="PlaceHolder 5"/>
          <p:cNvSpPr>
            <a:spLocks noGrp="1"/>
          </p:cNvSpPr>
          <p:nvPr>
            <p:ph type="sldNum" idx="21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359F-0EC4-4C74-9A82-F64C82B0947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 type="dt" idx="21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CBF6-B937-4A97-8A05-A9C3C6D57182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 type="ftr" idx="21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4" name="PlaceHolder 5"/>
          <p:cNvSpPr>
            <a:spLocks noGrp="1"/>
          </p:cNvSpPr>
          <p:nvPr>
            <p:ph type="sldNum" idx="21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36A3-85CF-4B91-83D2-86714CAC8B1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 type="dt" idx="22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31EE-58CF-47E1-AF24-5EC91FFD46A7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 type="ftr" idx="22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5" name="PlaceHolder 5"/>
          <p:cNvSpPr>
            <a:spLocks noGrp="1"/>
          </p:cNvSpPr>
          <p:nvPr>
            <p:ph type="sldNum" idx="22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B600-5F44-43C3-BDC3-6B3B0726D70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 type="dt" idx="22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1652-7C6E-481A-8E04-95B337591937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 type="ftr" idx="22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6" name="PlaceHolder 5"/>
          <p:cNvSpPr>
            <a:spLocks noGrp="1"/>
          </p:cNvSpPr>
          <p:nvPr>
            <p:ph type="sldNum" idx="22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2949-6593-4187-8DF1-2E73955F898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 type="dt" idx="22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9DFA-2DB1-4C05-A84F-0783EC9318B2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 type="ftr" idx="22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7" name="PlaceHolder 5"/>
          <p:cNvSpPr>
            <a:spLocks noGrp="1"/>
          </p:cNvSpPr>
          <p:nvPr>
            <p:ph type="sldNum" idx="22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069A-9B53-4217-8819-4694533CD28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 type="dt" idx="22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C8D1-2E91-4FD4-AB8C-95C515E27663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 type="ftr" idx="23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8" name="PlaceHolder 5"/>
          <p:cNvSpPr>
            <a:spLocks noGrp="1"/>
          </p:cNvSpPr>
          <p:nvPr>
            <p:ph type="sldNum" idx="23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05AF-AC59-47D2-A1C7-4C81F9382CF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PlaceHolder 3"/>
          <p:cNvSpPr>
            <a:spLocks noGrp="1"/>
          </p:cNvSpPr>
          <p:nvPr>
            <p:ph type="dt" idx="23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1885-3754-4737-91C3-6E167945CF21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PlaceHolder 4"/>
          <p:cNvSpPr>
            <a:spLocks noGrp="1"/>
          </p:cNvSpPr>
          <p:nvPr>
            <p:ph type="ftr" idx="23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9" name="PlaceHolder 5"/>
          <p:cNvSpPr>
            <a:spLocks noGrp="1"/>
          </p:cNvSpPr>
          <p:nvPr>
            <p:ph type="sldNum" idx="23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3957-0880-4206-801D-6DC790EC2D5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8" name="PlaceHolder 3"/>
          <p:cNvSpPr>
            <a:spLocks noGrp="1"/>
          </p:cNvSpPr>
          <p:nvPr>
            <p:ph type="dt" idx="23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89F8-9B5A-49E6-BC1E-506A48E7CF88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PlaceHolder 4"/>
          <p:cNvSpPr>
            <a:spLocks noGrp="1"/>
          </p:cNvSpPr>
          <p:nvPr>
            <p:ph type="ftr" idx="23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0" name="PlaceHolder 5"/>
          <p:cNvSpPr>
            <a:spLocks noGrp="1"/>
          </p:cNvSpPr>
          <p:nvPr>
            <p:ph type="sldNum" idx="23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1DB0-12A9-4671-879A-303FBF7B9C3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BBE6-02B6-4581-A455-2378DBE23987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9582-16BB-4224-BDA2-524F96CB96B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9" name="PlaceHolder 3"/>
          <p:cNvSpPr>
            <a:spLocks noGrp="1"/>
          </p:cNvSpPr>
          <p:nvPr>
            <p:ph type="dt" idx="23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2343-9DE6-48AF-8CE7-5A700650A896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PlaceHolder 4"/>
          <p:cNvSpPr>
            <a:spLocks noGrp="1"/>
          </p:cNvSpPr>
          <p:nvPr>
            <p:ph type="ftr" idx="23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1" name="PlaceHolder 5"/>
          <p:cNvSpPr>
            <a:spLocks noGrp="1"/>
          </p:cNvSpPr>
          <p:nvPr>
            <p:ph type="sldNum" idx="24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1BF5-8D17-488B-ADC7-F257A2C74E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 type="dt" idx="24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3842-4D18-4371-ACCA-C158FFF71C4F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 type="ftr" idx="24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2" name="PlaceHolder 5"/>
          <p:cNvSpPr>
            <a:spLocks noGrp="1"/>
          </p:cNvSpPr>
          <p:nvPr>
            <p:ph type="sldNum" idx="24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834D-066D-4059-9840-D5A16EF9A95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 type="dt" idx="24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E2CD-F31D-4067-B7BF-390C26E3DD57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PlaceHolder 4"/>
          <p:cNvSpPr>
            <a:spLocks noGrp="1"/>
          </p:cNvSpPr>
          <p:nvPr>
            <p:ph type="ftr" idx="24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3" name="PlaceHolder 5"/>
          <p:cNvSpPr>
            <a:spLocks noGrp="1"/>
          </p:cNvSpPr>
          <p:nvPr>
            <p:ph type="sldNum" idx="24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25F7-9896-4B52-A879-B6E8A2D8F33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2" name="PlaceHolder 3"/>
          <p:cNvSpPr>
            <a:spLocks noGrp="1"/>
          </p:cNvSpPr>
          <p:nvPr>
            <p:ph type="dt" idx="24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DA70-0049-4551-9F40-8124E76264BC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PlaceHolder 4"/>
          <p:cNvSpPr>
            <a:spLocks noGrp="1"/>
          </p:cNvSpPr>
          <p:nvPr>
            <p:ph type="ftr" idx="24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4" name="PlaceHolder 5"/>
          <p:cNvSpPr>
            <a:spLocks noGrp="1"/>
          </p:cNvSpPr>
          <p:nvPr>
            <p:ph type="sldNum" idx="24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11E7-CE52-4A71-B96F-90AD4C62BD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3" name="PlaceHolder 3"/>
          <p:cNvSpPr>
            <a:spLocks noGrp="1"/>
          </p:cNvSpPr>
          <p:nvPr>
            <p:ph type="dt" idx="25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D380-3BAA-432F-ACD6-D85ADDC2A1B7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PlaceHolder 4"/>
          <p:cNvSpPr>
            <a:spLocks noGrp="1"/>
          </p:cNvSpPr>
          <p:nvPr>
            <p:ph type="ftr" idx="25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5" name="PlaceHolder 5"/>
          <p:cNvSpPr>
            <a:spLocks noGrp="1"/>
          </p:cNvSpPr>
          <p:nvPr>
            <p:ph type="sldNum" idx="25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2DE5-9042-4A67-9D83-05169907BDC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4" name="PlaceHolder 3"/>
          <p:cNvSpPr>
            <a:spLocks noGrp="1"/>
          </p:cNvSpPr>
          <p:nvPr>
            <p:ph type="dt" idx="25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0B96-F9E3-4F73-A9FA-152E4D7240B5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PlaceHolder 4"/>
          <p:cNvSpPr>
            <a:spLocks noGrp="1"/>
          </p:cNvSpPr>
          <p:nvPr>
            <p:ph type="ftr" idx="25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6" name="PlaceHolder 5"/>
          <p:cNvSpPr>
            <a:spLocks noGrp="1"/>
          </p:cNvSpPr>
          <p:nvPr>
            <p:ph type="sldNum" idx="25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0CB2-92D4-4C27-8AFF-E1E1245CCC3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5" name="PlaceHolder 3"/>
          <p:cNvSpPr>
            <a:spLocks noGrp="1"/>
          </p:cNvSpPr>
          <p:nvPr>
            <p:ph type="dt" idx="25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CE5C-8C6A-46EB-98FD-338630E97628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PlaceHolder 4"/>
          <p:cNvSpPr>
            <a:spLocks noGrp="1"/>
          </p:cNvSpPr>
          <p:nvPr>
            <p:ph type="ftr" idx="25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7" name="PlaceHolder 5"/>
          <p:cNvSpPr>
            <a:spLocks noGrp="1"/>
          </p:cNvSpPr>
          <p:nvPr>
            <p:ph type="sldNum" idx="25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D41A-2C67-4A02-AC25-8E1A0FE29B0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6" name="PlaceHolder 3"/>
          <p:cNvSpPr>
            <a:spLocks noGrp="1"/>
          </p:cNvSpPr>
          <p:nvPr>
            <p:ph type="dt" idx="25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7A1D-D532-4897-B73A-4CBE893E1C18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PlaceHolder 4"/>
          <p:cNvSpPr>
            <a:spLocks noGrp="1"/>
          </p:cNvSpPr>
          <p:nvPr>
            <p:ph type="ftr" idx="26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8" name="PlaceHolder 5"/>
          <p:cNvSpPr>
            <a:spLocks noGrp="1"/>
          </p:cNvSpPr>
          <p:nvPr>
            <p:ph type="sldNum" idx="26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DFD7-4D2E-4405-A49B-200F5CA1BC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7" name="PlaceHolder 3"/>
          <p:cNvSpPr>
            <a:spLocks noGrp="1"/>
          </p:cNvSpPr>
          <p:nvPr>
            <p:ph type="dt" idx="26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2500-B734-436E-90EB-3DF033D0B036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8" name="PlaceHolder 4"/>
          <p:cNvSpPr>
            <a:spLocks noGrp="1"/>
          </p:cNvSpPr>
          <p:nvPr>
            <p:ph type="ftr" idx="26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9" name="PlaceHolder 5"/>
          <p:cNvSpPr>
            <a:spLocks noGrp="1"/>
          </p:cNvSpPr>
          <p:nvPr>
            <p:ph type="sldNum" idx="26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89F3-339D-49BC-84EC-6D4A6B0C67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8" name="PlaceHolder 3"/>
          <p:cNvSpPr>
            <a:spLocks noGrp="1"/>
          </p:cNvSpPr>
          <p:nvPr>
            <p:ph type="dt" idx="26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847C-65D8-4FC3-9F32-AC4C305DDCFB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PlaceHolder 4"/>
          <p:cNvSpPr>
            <a:spLocks noGrp="1"/>
          </p:cNvSpPr>
          <p:nvPr>
            <p:ph type="ftr" idx="26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0" name="PlaceHolder 5"/>
          <p:cNvSpPr>
            <a:spLocks noGrp="1"/>
          </p:cNvSpPr>
          <p:nvPr>
            <p:ph type="sldNum" idx="26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098B-ED31-4FAB-B6E4-2BF725B5D6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3617-32F5-404C-A043-DB3F1433FF48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6D86-51BF-4062-B553-37089937662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9" name="PlaceHolder 3"/>
          <p:cNvSpPr>
            <a:spLocks noGrp="1"/>
          </p:cNvSpPr>
          <p:nvPr>
            <p:ph type="dt" idx="26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77D4-E668-4DFD-845F-418EFFC175C1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PlaceHolder 4"/>
          <p:cNvSpPr>
            <a:spLocks noGrp="1"/>
          </p:cNvSpPr>
          <p:nvPr>
            <p:ph type="ftr" idx="26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1" name="PlaceHolder 5"/>
          <p:cNvSpPr>
            <a:spLocks noGrp="1"/>
          </p:cNvSpPr>
          <p:nvPr>
            <p:ph type="sldNum" idx="27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EECA-DC20-48FF-AC7E-7068087AAFC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0" name="PlaceHolder 3"/>
          <p:cNvSpPr>
            <a:spLocks noGrp="1"/>
          </p:cNvSpPr>
          <p:nvPr>
            <p:ph type="dt" idx="27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6C58-8D78-477B-98D7-3342CD2567E6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PlaceHolder 4"/>
          <p:cNvSpPr>
            <a:spLocks noGrp="1"/>
          </p:cNvSpPr>
          <p:nvPr>
            <p:ph type="ftr" idx="27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2" name="PlaceHolder 5"/>
          <p:cNvSpPr>
            <a:spLocks noGrp="1"/>
          </p:cNvSpPr>
          <p:nvPr>
            <p:ph type="sldNum" idx="27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ECB7-950E-479D-8634-7E50352827F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1" name="PlaceHolder 3"/>
          <p:cNvSpPr>
            <a:spLocks noGrp="1"/>
          </p:cNvSpPr>
          <p:nvPr>
            <p:ph type="dt" idx="27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093A-46B1-4820-9917-4AAB4741E9AE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PlaceHolder 4"/>
          <p:cNvSpPr>
            <a:spLocks noGrp="1"/>
          </p:cNvSpPr>
          <p:nvPr>
            <p:ph type="ftr" idx="27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3" name="PlaceHolder 5"/>
          <p:cNvSpPr>
            <a:spLocks noGrp="1"/>
          </p:cNvSpPr>
          <p:nvPr>
            <p:ph type="sldNum" idx="27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BFD7-EE50-48B0-B51E-7CFCAA3889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2" name="PlaceHolder 3"/>
          <p:cNvSpPr>
            <a:spLocks noGrp="1"/>
          </p:cNvSpPr>
          <p:nvPr>
            <p:ph type="dt" idx="27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CD4B-9FC8-4A1F-B144-9B48520DB5C8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PlaceHolder 4"/>
          <p:cNvSpPr>
            <a:spLocks noGrp="1"/>
          </p:cNvSpPr>
          <p:nvPr>
            <p:ph type="ftr" idx="27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4" name="PlaceHolder 5"/>
          <p:cNvSpPr>
            <a:spLocks noGrp="1"/>
          </p:cNvSpPr>
          <p:nvPr>
            <p:ph type="sldNum" idx="27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CA83-D502-4C16-9543-731FCCDABFE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3" name="PlaceHolder 3"/>
          <p:cNvSpPr>
            <a:spLocks noGrp="1"/>
          </p:cNvSpPr>
          <p:nvPr>
            <p:ph type="dt" idx="28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C173-1DC0-46C4-81E4-77A65CC31FE4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PlaceHolder 4"/>
          <p:cNvSpPr>
            <a:spLocks noGrp="1"/>
          </p:cNvSpPr>
          <p:nvPr>
            <p:ph type="ftr" idx="28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5" name="PlaceHolder 5"/>
          <p:cNvSpPr>
            <a:spLocks noGrp="1"/>
          </p:cNvSpPr>
          <p:nvPr>
            <p:ph type="sldNum" idx="28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6C0B-7A54-4017-927D-AD043904B6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4" name="PlaceHolder 3"/>
          <p:cNvSpPr>
            <a:spLocks noGrp="1"/>
          </p:cNvSpPr>
          <p:nvPr>
            <p:ph type="dt" idx="28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503F-1FCC-4560-84B9-FC34BE9989C2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PlaceHolder 4"/>
          <p:cNvSpPr>
            <a:spLocks noGrp="1"/>
          </p:cNvSpPr>
          <p:nvPr>
            <p:ph type="ftr" idx="28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6" name="PlaceHolder 5"/>
          <p:cNvSpPr>
            <a:spLocks noGrp="1"/>
          </p:cNvSpPr>
          <p:nvPr>
            <p:ph type="sldNum" idx="28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403A-23D5-4556-92F2-B14B1EA9848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5" name="PlaceHolder 3"/>
          <p:cNvSpPr>
            <a:spLocks noGrp="1"/>
          </p:cNvSpPr>
          <p:nvPr>
            <p:ph type="dt" idx="28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208F-F398-4106-96F2-E61391ED763A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6" name="PlaceHolder 4"/>
          <p:cNvSpPr>
            <a:spLocks noGrp="1"/>
          </p:cNvSpPr>
          <p:nvPr>
            <p:ph type="ftr" idx="28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7" name="PlaceHolder 5"/>
          <p:cNvSpPr>
            <a:spLocks noGrp="1"/>
          </p:cNvSpPr>
          <p:nvPr>
            <p:ph type="sldNum" idx="28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4426-37B4-4B4A-B7BA-7B98947A3A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6" name="PlaceHolder 3"/>
          <p:cNvSpPr>
            <a:spLocks noGrp="1"/>
          </p:cNvSpPr>
          <p:nvPr>
            <p:ph type="dt" idx="28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7F89-A6E5-4ABB-A2F9-B87A77616074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PlaceHolder 4"/>
          <p:cNvSpPr>
            <a:spLocks noGrp="1"/>
          </p:cNvSpPr>
          <p:nvPr>
            <p:ph type="ftr" idx="29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8" name="PlaceHolder 5"/>
          <p:cNvSpPr>
            <a:spLocks noGrp="1"/>
          </p:cNvSpPr>
          <p:nvPr>
            <p:ph type="sldNum" idx="29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E391-0B06-4716-A6D0-72F9A538518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7" name="PlaceHolder 3"/>
          <p:cNvSpPr>
            <a:spLocks noGrp="1"/>
          </p:cNvSpPr>
          <p:nvPr>
            <p:ph type="dt" idx="29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82A4-482B-46B0-8170-DE7AC5CF7C05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8" name="PlaceHolder 4"/>
          <p:cNvSpPr>
            <a:spLocks noGrp="1"/>
          </p:cNvSpPr>
          <p:nvPr>
            <p:ph type="ftr" idx="29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9" name="PlaceHolder 5"/>
          <p:cNvSpPr>
            <a:spLocks noGrp="1"/>
          </p:cNvSpPr>
          <p:nvPr>
            <p:ph type="sldNum" idx="29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3CEC-4AAD-49F8-B6F6-6B1AA3AD71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8" name="PlaceHolder 3"/>
          <p:cNvSpPr>
            <a:spLocks noGrp="1"/>
          </p:cNvSpPr>
          <p:nvPr>
            <p:ph type="dt" idx="29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88B6-FC5A-4B6E-B357-C56E5E88D947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PlaceHolder 4"/>
          <p:cNvSpPr>
            <a:spLocks noGrp="1"/>
          </p:cNvSpPr>
          <p:nvPr>
            <p:ph type="ftr" idx="29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0" name="PlaceHolder 5"/>
          <p:cNvSpPr>
            <a:spLocks noGrp="1"/>
          </p:cNvSpPr>
          <p:nvPr>
            <p:ph type="sldNum" idx="29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2217-383E-4692-9813-34F9BC5DC3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8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zakon5.rada.gov.ua/laws/show/z0196-12" TargetMode="External"/><Relationship Id="rId2" Type="http://schemas.openxmlformats.org/officeDocument/2006/relationships/slideLayout" Target="../slideLayouts/slideLayout6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8" name="PlaceHolder 1"/>
          <p:cNvSpPr>
            <a:spLocks noGrp="1"/>
          </p:cNvSpPr>
          <p:nvPr>
            <p:ph type="title"/>
          </p:nvPr>
        </p:nvSpPr>
        <p:spPr>
          <a:xfrm>
            <a:off x="213840" y="71280"/>
            <a:ext cx="84013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565ff"/>
                </a:solidFill>
                <a:latin typeface="Arial"/>
              </a:rPr>
              <a:t>ЛУГАНСЬКА ОБЛАСНА ДЕРЖАВНА АДМІНІСТРА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9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824544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МІН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провадження процедур внутрішнього контрол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 практиці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види контролю та їх реалізаці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7d"/>
                </a:solidFill>
                <a:latin typeface="Arial"/>
              </a:rPr>
              <a:t>Управління внутрішнього аудиту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7d"/>
                </a:solidFill>
                <a:latin typeface="Arial"/>
              </a:rPr>
              <a:t>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7d"/>
                </a:solidFill>
                <a:latin typeface="Arial"/>
              </a:rPr>
              <a:t>м.Сєвєродонець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00007d"/>
                </a:solidFill>
                <a:latin typeface="Arial"/>
              </a:rPr>
              <a:t>квітень 2018 рі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0" name="Picture 6" descr="Картинки по запросу луганська область"/>
          <p:cNvPicPr/>
          <p:nvPr/>
        </p:nvPicPr>
        <p:blipFill>
          <a:blip r:embed="rId1"/>
          <a:stretch/>
        </p:blipFill>
        <p:spPr>
          <a:xfrm>
            <a:off x="7380360" y="260280"/>
            <a:ext cx="1512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A748-CD7B-431F-8368-0DF2BC23AB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0" name="PlaceHolder 1"/>
          <p:cNvSpPr>
            <a:spLocks noGrp="1"/>
          </p:cNvSpPr>
          <p:nvPr>
            <p:ph/>
          </p:nvPr>
        </p:nvSpPr>
        <p:spPr>
          <a:xfrm>
            <a:off x="250920" y="115560"/>
            <a:ext cx="864216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иповими заходами контролю є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авторизація та підтвердження</a:t>
            </a:r>
            <a:r>
              <a:rPr b="1" lang="uk-UA" sz="2000" spc="-1" strike="noStrike">
                <a:solidFill>
                  <a:srgbClr val="3d3db7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3d3db7"/>
                </a:solidFill>
                <a:latin typeface="Times New Roman"/>
              </a:rPr>
              <a:t>(підписання, візування, затвердження)</a:t>
            </a:r>
            <a:r>
              <a:rPr b="1" lang="uk-UA" sz="2000" spc="-1" strike="noStrike">
                <a:solidFill>
                  <a:srgbClr val="3d3db7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d3d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d3db7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розподіл обов'язків та повноважень,</a:t>
            </a:r>
            <a:r>
              <a:rPr b="1" lang="uk-UA" sz="2000" spc="-1" strike="noStrike">
                <a:solidFill>
                  <a:srgbClr val="3d3db7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ротація персоналу </a:t>
            </a:r>
            <a:r>
              <a:rPr b="1" i="1" lang="uk-UA" sz="2000" spc="-1" strike="noStrike">
                <a:solidFill>
                  <a:srgbClr val="3d3db7"/>
                </a:solidFill>
                <a:latin typeface="Times New Roman"/>
              </a:rPr>
              <a:t>(щодо прийняття рішення, здійснення операції та контролю за нею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контроль за доступом до ресурсів та облікових записів,</a:t>
            </a:r>
            <a:r>
              <a:rPr b="1" lang="uk-UA" sz="2000" spc="-1" strike="noStrike">
                <a:solidFill>
                  <a:srgbClr val="3d3db7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закріплення відповідальності за збереження і використання ресурсів</a:t>
            </a:r>
            <a:r>
              <a:rPr b="1" lang="uk-UA" sz="2000" spc="-1" strike="noStrike">
                <a:solidFill>
                  <a:srgbClr val="3d3db7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3d3db7"/>
                </a:solidFill>
                <a:latin typeface="Times New Roman"/>
              </a:rPr>
              <a:t>(договори про матеріальну відповідальність, довіреності)</a:t>
            </a:r>
            <a:r>
              <a:rPr b="1" lang="uk-UA" sz="2000" spc="-1" strike="noStrike">
                <a:solidFill>
                  <a:srgbClr val="3d3db7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d3d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d3db7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контроль за достовірністю проведених операцій,    перевірка процесів  та операцій до та після їх проведення,  звірка облікових даних з фактичними</a:t>
            </a:r>
            <a:r>
              <a:rPr b="1" lang="uk-UA" sz="2000" spc="-1" strike="noStrike">
                <a:solidFill>
                  <a:srgbClr val="3d3db7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3d3db7"/>
                </a:solidFill>
                <a:latin typeface="Times New Roman"/>
              </a:rPr>
              <a:t>(планова та позапланова інвентаризація, звірки, здійснення контрольних заходів)</a:t>
            </a:r>
            <a:r>
              <a:rPr b="1" lang="uk-UA" sz="2000" spc="-1" strike="noStrike">
                <a:solidFill>
                  <a:srgbClr val="3d3db7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d3d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d3db7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оцінка загальних результатів діяльності, окремих функцій та завдань шляхом оцінювання їх ходу та результатів</a:t>
            </a:r>
            <a:r>
              <a:rPr b="1" lang="uk-UA" sz="2000" spc="-1" strike="noStrike">
                <a:solidFill>
                  <a:srgbClr val="3d3db7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3d3db7"/>
                </a:solidFill>
                <a:latin typeface="Times New Roman"/>
              </a:rPr>
              <a:t>(звіти про діяльність, про виконанні паспортів бюджетних програм тощо, проведення службових розслідувань за фактами порушень законодавства)</a:t>
            </a:r>
            <a:r>
              <a:rPr b="1" lang="uk-UA" sz="2000" spc="-1" strike="noStrike">
                <a:solidFill>
                  <a:srgbClr val="3d3db7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d3d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d3db7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истематичний перегляд роботи кожного працівника (нагляд) </a:t>
            </a:r>
            <a:r>
              <a:rPr b="1" i="1" lang="uk-UA" sz="2000" spc="-1" strike="noStrike">
                <a:solidFill>
                  <a:srgbClr val="003399"/>
                </a:solidFill>
                <a:latin typeface="Times New Roman"/>
              </a:rPr>
              <a:t>(проведення щорічної оцінки держслужбовців)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інші правила та процедури, у тому числі визначені регламентом, правилами внутрішнього трудового розпоряд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EB3E-0A6C-444C-A61F-DE0C218B8B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2" name="PlaceHolder 1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діяльність, направлена на оцінку якості функціонування та відстеження результатів впровадження заходів контролю шляхом проведення постійного моніторингу та періодичних оцін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3" name="PlaceHolder 2"/>
          <p:cNvSpPr>
            <a:spLocks noGrp="1"/>
          </p:cNvSpPr>
          <p:nvPr>
            <p:ph type="title"/>
          </p:nvPr>
        </p:nvSpPr>
        <p:spPr>
          <a:xfrm>
            <a:off x="323640" y="333000"/>
            <a:ext cx="83516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Четвертий елемент внутрішнього контролю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Моніторинг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uk-UA" sz="4200" spc="-1" strike="noStrike">
                <a:solidFill>
                  <a:srgbClr val="3d3db7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B606-705B-481A-B78F-B6E804764A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5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d3db7"/>
                </a:solidFill>
                <a:latin typeface="Times New Roman"/>
              </a:rPr>
              <a:t>Моніторинг полягає у здійсненні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6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4248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800000"/>
                </a:solidFill>
                <a:latin typeface="Times New Roman"/>
              </a:rPr>
              <a:t>Постійного моніторингу</a:t>
            </a:r>
            <a:r>
              <a:rPr b="1" lang="uk-UA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що здійснюється у ході щоденної/поточної діяльності установи та передбачає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Times New Roman"/>
              </a:rPr>
              <a:t>управлінські, наглядові та інші дії керівників усіх рівнів та працівників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 при виконанні ними своїх обов'язків з метою визначення та коригування відхилен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7" name="PlaceHolder 3"/>
          <p:cNvSpPr>
            <a:spLocks noGrp="1"/>
          </p:cNvSpPr>
          <p:nvPr>
            <p:ph/>
          </p:nvPr>
        </p:nvSpPr>
        <p:spPr>
          <a:xfrm>
            <a:off x="4606560" y="692280"/>
            <a:ext cx="4357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800000"/>
                </a:solidFill>
                <a:latin typeface="Times New Roman"/>
              </a:rPr>
              <a:t>Періодичних оцінок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бачають проведення оцінки виконання окремих функцій, завдань на періодичній основі та здійснюються працівниками, які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несуть відповідальності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їх реалізацію,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а/або підрозділом внутрішнього аудиту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більш об'єктивного аналізу результативності системи внутрішнього контролю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B0AA-DDAC-4FA2-91EA-FE58CA546E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9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856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Приклади постійного моніторингу та періодичних оцінок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Постійний моніторинг – щоденний та тижневий моніторинг стану виконання контрольних доручень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Періодичні оцінки – щомісячне та щоквартальне підбиття підсумків (на засіданнях колегій, нарадах, </a:t>
            </a:r>
            <a:r>
              <a:rPr b="1" i="1" lang="uk-UA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щотижневих оперативках</a:t>
            </a:r>
            <a:r>
              <a:rPr b="1" i="1" lang="uk-UA" sz="2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(регламенти і процедури визначені та фактично виконуються, що підтверджується документами: дорученнями, планами та протоколами нарад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- - - - - - - - - - -- - - -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ВНУТРІШНІЙ АУДИ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AC42-8BD9-425F-BCCD-217B5C3075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1" name="PlaceHolder 1"/>
          <p:cNvSpPr>
            <a:spLocks noGrp="1"/>
          </p:cNvSpPr>
          <p:nvPr>
            <p:ph/>
          </p:nvPr>
        </p:nvSpPr>
        <p:spPr>
          <a:xfrm>
            <a:off x="899640" y="1856880"/>
            <a:ext cx="770436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Інформаційний та комунікаційний обмін в установі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передбачає збір, документування, передачу інформації та користування нею керівництвом та працівниками установи для належного виконання і оцінювання функцій та завда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2" name="PlaceHolder 2"/>
          <p:cNvSpPr>
            <a:spLocks noGrp="1"/>
          </p:cNvSpPr>
          <p:nvPr>
            <p:ph type="title"/>
          </p:nvPr>
        </p:nvSpPr>
        <p:spPr>
          <a:xfrm>
            <a:off x="323640" y="333360"/>
            <a:ext cx="828036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'ятий елемент внутрішнього контролю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–</a:t>
            </a:r>
            <a:br>
              <a:rPr sz="28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Інформація та комунікаці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5CD4-E0EB-47F0-BC55-E1D62A2D2E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4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Ефективна система інформаційного та комунікаційного обміну передбачає надання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вної, своєчасної та достовірної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інформації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ерівництву усіх рівнів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– щодо виконання завдань і функцій, ідентифікації та оцінки ризиків, стану реалізації контролю та моніторингу, впровадження їх результатів, впровадження рекомендацій за результатами внутрішніх аудитів та обов'язкових вимог за результатами контрольних заходів зовнішніх контролюючих органі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ацівникам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– для забезпечення належної реалізації ними завдань та функцій, покладених на структурні підрозді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5" name="PlaceHolder 2"/>
          <p:cNvSpPr>
            <a:spLocks noGrp="1"/>
          </p:cNvSpPr>
          <p:nvPr>
            <p:ph type="title"/>
          </p:nvPr>
        </p:nvSpPr>
        <p:spPr>
          <a:xfrm>
            <a:off x="323640" y="333360"/>
            <a:ext cx="828036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Інформація та комунікаці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0827-A927-49F0-B5AA-8EE5A09C30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7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92800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истему інформаційного та комунікаційного обміну формують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 u="sng">
                <a:solidFill>
                  <a:srgbClr val="000000"/>
                </a:solidFill>
                <a:uFillTx/>
                <a:latin typeface="Times New Roman"/>
              </a:rPr>
              <a:t>порядки обміну інформацією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, що містять процедури, форми, обсяги, терміни, перелік надавачів та отримувачів інформації (наприклад, регламенти щодо доступу до публічної інформації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 u="sng">
                <a:solidFill>
                  <a:srgbClr val="000000"/>
                </a:solidFill>
                <a:uFillTx/>
                <a:latin typeface="Times New Roman"/>
              </a:rPr>
              <a:t>графіки документообігу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 u="sng">
                <a:solidFill>
                  <a:srgbClr val="000000"/>
                </a:solidFill>
                <a:uFillTx/>
                <a:latin typeface="Times New Roman"/>
              </a:rPr>
              <a:t>графіки складання і подання звітності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 u="sng">
                <a:solidFill>
                  <a:srgbClr val="000000"/>
                </a:solidFill>
                <a:uFillTx/>
                <a:latin typeface="Times New Roman"/>
              </a:rPr>
              <a:t>схеми інформаційних потоків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 u="sng">
                <a:solidFill>
                  <a:srgbClr val="000000"/>
                </a:solidFill>
                <a:uFillTx/>
                <a:latin typeface="Times New Roman"/>
              </a:rPr>
              <a:t>комп'ютеризовані інформаційно-аналітичні системи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 тощ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Ефективному виконанню завдань і функцій (з метою досягнення мети та цілей) сприяють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налагодження інформаційного та комунікаційного обміну із зовнішніми сторонам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оприлюднення інформації про діяльність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BAB6-329F-4411-8DE6-912F3DA162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9" name="PlaceHolder 1"/>
          <p:cNvSpPr>
            <a:spLocks noGrp="1"/>
          </p:cNvSpPr>
          <p:nvPr>
            <p:ph/>
          </p:nvPr>
        </p:nvSpPr>
        <p:spPr>
          <a:xfrm>
            <a:off x="179280" y="115920"/>
            <a:ext cx="885672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риклади документів з інформації та комунікаці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Графіки подання фінансової звітності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Графіки документообіг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Автоматизована система єдиного документообіг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Порядок надання доступу до публічної інформаці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Порядки використання інформаційних систем (баз даних тощо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омунікації – формальні та неформальн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Щотижневі наради (протоколи нара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сідання колегії (рішення колегії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Навчання, семінар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Робочі груп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FDDF-C134-4DA5-9E01-AB6224061A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1" name="PlaceHolder 1"/>
          <p:cNvSpPr>
            <a:spLocks noGrp="1"/>
          </p:cNvSpPr>
          <p:nvPr>
            <p:ph/>
          </p:nvPr>
        </p:nvSpPr>
        <p:spPr>
          <a:xfrm>
            <a:off x="250920" y="1989000"/>
            <a:ext cx="8712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ння/затвердження керівником сукупності внутрішніх документів з внутрішнього контрол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ння керівництвом, керівниками структурних підрозділів та працівниками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вдань та функцій, включаючи функції щоденного контролю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інка функціонування системи внутрішнього контролю підрозділом внутрішнього аудит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2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Основні складові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організації внутрішнього контролю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7375e"/>
                </a:solidFill>
                <a:latin typeface="Calibri"/>
              </a:rPr>
              <a:t>Практичне завдання: надати інформацію щодо стану організації і функціонування внутрішнього контролю в </a:t>
            </a:r>
            <a:r>
              <a:rPr b="0" lang="uk-UA" sz="2400" spc="-1" strike="noStrike">
                <a:solidFill>
                  <a:srgbClr val="17375e"/>
                </a:solidFill>
                <a:latin typeface="Calibri"/>
              </a:rPr>
              <a:t>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4" name=""/>
          <p:cNvSpPr txBox="1"/>
          <p:nvPr/>
        </p:nvSpPr>
        <p:spPr>
          <a:xfrm>
            <a:off x="899640" y="1857240"/>
            <a:ext cx="727236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нутрішнє середовищ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а і професійна чесність, етичні цінності керівництва усіх рівнів та працівників; </a:t>
            </a:r>
            <a:br>
              <a:rPr sz="2000"/>
            </a:b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ізаційна структура;</a:t>
            </a:r>
            <a:br>
              <a:rPr sz="2000"/>
            </a:b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нципи і правила управління людськими ресурсами та компетентністю персонал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правління ризик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ходи контрол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оніторинг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нформація та комунікаці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6121-E013-41E0-B7E6-B391A499D1D2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1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5d5da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Arial"/>
              </a:rPr>
              <a:t>Статті 20, 22, 26 Бюджетного кодексу Украї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2626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62673"/>
                </a:solidFill>
                <a:latin typeface="Arial"/>
              </a:rPr>
              <a:t>Концепція розвитку ДВФК (розпорядження КМУ від 24.05.2005 № 158, </a:t>
            </a:r>
            <a:r>
              <a:rPr b="1" lang="uk-UA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(у редакції від 22.10.2008 № 13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5d5da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тратегія реформування системи управління державними фінансами на 2017-2020 роки (</a:t>
            </a:r>
            <a:r>
              <a:rPr b="1" lang="uk-UA" sz="1800" spc="-1" strike="noStrike">
                <a:solidFill>
                  <a:srgbClr val="262673"/>
                </a:solidFill>
                <a:latin typeface="Arial"/>
              </a:rPr>
              <a:t>розпорядження КМУ від08.02.2017 №142-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5d5da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Arial"/>
              </a:rPr>
              <a:t>Методичні рекомендації з організації внутрішнього контролю розпорядниками бюджетних коштів у своїх закладах та у підвідомчих бюджетних установах (наказ Мінфіну від 14.09.2012 № 995 зі зміна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5d5da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Інструкція з організації внутрішнього контролю в Луганській обласній державній адміністрації</a:t>
            </a:r>
            <a:r>
              <a:rPr b="0" lang="uk-UA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(розпорядженням голови облдержадміністрації від 28.12.2017 № 963</a:t>
            </a:r>
            <a:r>
              <a:rPr b="1" lang="uk-UA" sz="18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2" name="Rectangle 5"/>
          <p:cNvSpPr/>
          <p:nvPr/>
        </p:nvSpPr>
        <p:spPr>
          <a:xfrm>
            <a:off x="468360" y="642960"/>
            <a:ext cx="835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Нормативно-правова баз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та методичні матері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з внутрішнього контролю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3" name="Rectangle 6"/>
          <p:cNvSpPr/>
          <p:nvPr/>
        </p:nvSpPr>
        <p:spPr>
          <a:xfrm>
            <a:off x="8542440" y="6381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4" name="Picture 6" descr="Картинки по запросу луганська область"/>
          <p:cNvPicPr/>
          <p:nvPr/>
        </p:nvPicPr>
        <p:blipFill>
          <a:blip r:embed="rId1"/>
          <a:stretch/>
        </p:blipFill>
        <p:spPr>
          <a:xfrm>
            <a:off x="7596360" y="260280"/>
            <a:ext cx="1222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6" name="Picture 6" descr="Картинки по запросу луганська область"/>
          <p:cNvPicPr/>
          <p:nvPr/>
        </p:nvPicPr>
        <p:blipFill>
          <a:blip r:embed="rId1"/>
          <a:stretch/>
        </p:blipFill>
        <p:spPr>
          <a:xfrm>
            <a:off x="7580160" y="260280"/>
            <a:ext cx="1312920" cy="1297080"/>
          </a:xfrm>
          <a:prstGeom prst="rect">
            <a:avLst/>
          </a:prstGeom>
          <a:ln w="0">
            <a:noFill/>
          </a:ln>
        </p:spPr>
      </p:pic>
      <p:sp>
        <p:nvSpPr>
          <p:cNvPr id="5527" name="Прямоугольник 2"/>
          <p:cNvSpPr/>
          <p:nvPr/>
        </p:nvSpPr>
        <p:spPr>
          <a:xfrm>
            <a:off x="434880" y="988920"/>
            <a:ext cx="8458200" cy="54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Управління внутрішнього аудиту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відповідно до основних завдань проводить оцінку: </a:t>
            </a: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фективності функціонування системи внутрішнього контролю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ості надання адміністративних послуг та виконання контрольно – наглядових функцій, завдань, визначених актами законодав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ну збереження активів та інформації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ну управління державним, комунальним майно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вильності ведення бухгалтерського обліку та достовірності фінансової і бюджетної звітності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зиків, які негативно впливають на виконання функцій і завдань облдержадміністрації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8" name="Прямоугольник 1"/>
          <p:cNvSpPr/>
          <p:nvPr/>
        </p:nvSpPr>
        <p:spPr>
          <a:xfrm>
            <a:off x="873000" y="914400"/>
            <a:ext cx="78393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r>
              <a:rPr b="0" lang="uk-UA" sz="18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стема внутрішнього контролю – це процедури прийняті керівником суб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’</a:t>
            </a: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єкта, які спрямовані н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Clr>
                <a:srgbClr val="212121"/>
              </a:buClr>
              <a:buFont typeface="Arial"/>
              <a:buChar char="•"/>
              <a:tabLst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r>
              <a:rPr b="1" lang="uk-UA" sz="28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забезпечення впорядкованого і ефективного ведення  діяльності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Clr>
                <a:srgbClr val="212121"/>
              </a:buClr>
              <a:buFont typeface="Arial"/>
              <a:buChar char="•"/>
              <a:tabLst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r>
              <a:rPr b="1" lang="uk-UA" sz="28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збереження активі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Clr>
                <a:srgbClr val="212121"/>
              </a:buClr>
              <a:buFont typeface="Arial"/>
              <a:buChar char="•"/>
              <a:tabLst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r>
              <a:rPr b="1" lang="uk-UA" sz="28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запобігання та виявлення шахрайства і помило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Clr>
                <a:srgbClr val="212121"/>
              </a:buClr>
              <a:buFont typeface="Arial"/>
              <a:buChar char="•"/>
              <a:tabLst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r>
              <a:rPr b="1" lang="uk-UA" sz="28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точність і повноту бухгалтерських записі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Clr>
                <a:srgbClr val="212121"/>
              </a:buClr>
              <a:buFont typeface="Arial"/>
              <a:buChar char="•"/>
              <a:tabLst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r>
              <a:rPr b="1" lang="uk-UA" sz="28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своєчасну підготовку надійної фінансової інформації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9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030a0"/>
                </a:solidFill>
                <a:latin typeface="Calibri Light"/>
              </a:rPr>
              <a:t>Приклади встановлених порушень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530" name=""/>
          <p:cNvGraphicFramePr/>
          <p:nvPr/>
        </p:nvGraphicFramePr>
        <p:xfrm>
          <a:off x="628560" y="488880"/>
          <a:ext cx="8264520" cy="5159520"/>
        </p:xfrm>
        <a:graphic>
          <a:graphicData uri="http://schemas.openxmlformats.org/drawingml/2006/table">
            <a:tbl>
              <a:tblPr/>
              <a:tblGrid>
                <a:gridCol w="453960"/>
                <a:gridCol w="7810560"/>
              </a:tblGrid>
              <a:tr h="35532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07316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ушення НП(с)БО №101,  НП(С)БО 121 у державному секторі, Порядку № 307 та </a:t>
                      </a:r>
                      <a:r>
                        <a:rPr b="0" lang="ru-RU" sz="1400" spc="-1" strike="noStrike" u="sng">
                          <a:solidFill>
                            <a:srgbClr val="0563c1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Порядку № 4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фінансовій та бюджетній звітності не відображено збільшення вартості основних засобів та зміни у власному капіталі, зокрема, фонду необоротних актива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ісля прийняття відремонтованих, реконструйованих, модернізованих, поліпшених обʼєкті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82836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порушення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 12.7 Порядку № 938 та п. 11.17 Порядку № 1407 не складено та не подано до казначейства 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ідку про надходження у натуральній формі у вигляді безоплатно отриманих робі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не відображено у бухгалтерському обліку та консолідованому звіті про виконання бюджет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3332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ушення  Закону України  від  </a:t>
                      </a:r>
                      <a:r>
                        <a:rPr b="0" lang="ru-RU" sz="1400" spc="-1" strike="noStrike">
                          <a:solidFill>
                            <a:srgbClr val="292b2c"/>
                          </a:solidFill>
                          <a:latin typeface="Times New Roman"/>
                          <a:ea typeface="Times New Roman"/>
                        </a:rPr>
                        <a:t>16.07.1999 N 996-XIV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« </a:t>
                      </a:r>
                      <a:r>
                        <a:rPr b="0" lang="ru-RU" sz="1400" spc="-1" strike="noStrike">
                          <a:solidFill>
                            <a:srgbClr val="292b2c"/>
                          </a:solidFill>
                          <a:latin typeface="Times New Roman"/>
                          <a:ea typeface="Times New Roman"/>
                        </a:rPr>
                        <a:t>Про бухгалтерський облік та фінансову   звітність в Україні» т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азу МФУ від 02.09.2014  № 879 «Про затвердження Положення про інвентаризацію активів та зобов’язань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2020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порушення вимог чинного законодавства у Департаменті СЗН відсутня база даних дітей пільгових категорі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4644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партамент СЗН здійснював розподіл пільгових путівок переможцям міжнародних та всеукраїнських конкурсів, які, відповідно до законодавства фактично не мають такого статусу, оскільки не зареєстровані в установленому порядку, що призводить до використання пільгових путівок не за призначення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70272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ушення ст. 50 КЗпП України, в частині формального ведення обліку робочого часу, що створює ризики для незаконного нарахування (виплати) заробітної пла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 сфері закупівел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532" name=""/>
          <p:cNvGraphicFramePr/>
          <p:nvPr/>
        </p:nvGraphicFramePr>
        <p:xfrm>
          <a:off x="628560" y="1065240"/>
          <a:ext cx="8120160" cy="5192640"/>
        </p:xfrm>
        <a:graphic>
          <a:graphicData uri="http://schemas.openxmlformats.org/drawingml/2006/table">
            <a:tbl>
              <a:tblPr/>
              <a:tblGrid>
                <a:gridCol w="357120"/>
                <a:gridCol w="7763040"/>
              </a:tblGrid>
              <a:tr h="33732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19124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дійснюється відповідний контроль за «градацією» потреб, (від першочергового до другорядного)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бто, закупівля не завжди є необхідною у тих обсягах і за тими цінами, що встановлюються замовниками торгів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1692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абезпечено здійснення моніторингу цін перед проведенням тендерних процедур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що приводить до закупівель з ризиком втрат через перевищення середньоринкових цін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1692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абезпечено належний контроль за визначенням предметів закупівел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тобто предмет закупівлі ділиться на частини з метою уникнення проведення відповідних процедур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73988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абезпечено належний контроль за дотриманням основних принципів здійснення державних закупівел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наприклад, під час тендерних процедур допускається звужування кола учасників внаслідок вимагання необґрунтованого переліку довідок, технічних, якісних показників предмету закупівлі, кваліфікаційних критеріїв, що призводить до зменшення конкуренції, неефективного використання комунальних ресурсів тощо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3" name="PlaceHolder 1"/>
          <p:cNvSpPr>
            <a:spLocks noGrp="1"/>
          </p:cNvSpPr>
          <p:nvPr>
            <p:ph type="title"/>
          </p:nvPr>
        </p:nvSpPr>
        <p:spPr>
          <a:xfrm>
            <a:off x="628560" y="199800"/>
            <a:ext cx="788688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 сфері закупівел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534" name=""/>
          <p:cNvGraphicFramePr/>
          <p:nvPr/>
        </p:nvGraphicFramePr>
        <p:xfrm>
          <a:off x="628560" y="988920"/>
          <a:ext cx="7886880" cy="4672080"/>
        </p:xfrm>
        <a:graphic>
          <a:graphicData uri="http://schemas.openxmlformats.org/drawingml/2006/table">
            <a:tbl>
              <a:tblPr/>
              <a:tblGrid>
                <a:gridCol w="347760"/>
                <a:gridCol w="7539120"/>
              </a:tblGrid>
              <a:tr h="44136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13508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абезпечено належний контроль за додержанням норм чинного законодавства під час укладання додаткових угод договорів щодо збільшення ціни, що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водить до необґрунтованого підвищення цін та до неефективного витрачання з ризиком втрат комунальних ресурс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07964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абезпечено встановлення в тендерних документаціях процедур закупівель чітких вимог до предмету закупівлі (кількості, якості, необхідних технічних характеристик), що дозволяє, в подальшому, при виконанні договорів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іпулювати якістю/ціною/кількістю отриманих товарів, робіт чи послуг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1600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належний контроль за договірною роботою, зокрема в укладених договорах відсутні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рантійні строк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ні санкції за порушення умов договорів та відповідна претензійно-позовна робота замовників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нучке реагування на коливання цін, наприклад, на сезонні овочі та фрук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о має своїм наслідком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ищення цін при закупівлі таких продукт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35" name=""/>
          <p:cNvGraphicFramePr/>
          <p:nvPr/>
        </p:nvGraphicFramePr>
        <p:xfrm>
          <a:off x="272880" y="-12600"/>
          <a:ext cx="8623440" cy="6473880"/>
        </p:xfrm>
        <a:graphic>
          <a:graphicData uri="http://schemas.openxmlformats.org/drawingml/2006/table">
            <a:tbl>
              <a:tblPr/>
              <a:tblGrid>
                <a:gridCol w="1530360"/>
                <a:gridCol w="4378320"/>
                <a:gridCol w="2714760"/>
              </a:tblGrid>
              <a:tr h="442800"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ймену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рушення, недолі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снов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749680">
                <a:tc rowSpan="2"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іональної комплексної програми підтримки індивідуального житлового будівництва на селі та покращення умов життєзабезпечення сільського населення «Власний дім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ановлені розбіжності між вимогами регіональних Правил та Постанови №1597, в тому числі щодо визначення позичальник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Як наслідок,  надано пільгові кредити мешканцям районних центрів які відповідно до адміністративного устрою Луганської області мають статус міста та позичальникам, місто роботи яких не розташовано у межах району. А саме у містах Кремінна, Сватове, Старобільськ за 2015-2016 роки за рахунок фінансування обласного та районних бюджетів надано кредитів на загальну суму 4093 тис гр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лежний внутрішній контроль з боку Управління, передбачений п.п.7 п.5 ст.22 Бюджетного кодексу, в частині  забезпечення ефективного, результативного і цільового використання бюджетних коштів, організації та координації роботи Фонду, як одержувача бюджетних кошт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2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утність належного контролю за поверненням кредитів відповідно до затверджених графіків т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конала Методика визначення платоспроможності позичальників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звело до збільшення неповернутих кредитів з 4,3 тис грн у 2013р до 1 021,4 тис грн у 2016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 боку Фонду, встановлено низький рівень претензійно-позовної роботи. Так, по неповернутих кредитах укладених у 2012-2016 роках оформлено лише тільки 5 позовних заяв на суму 68,7 тис 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кий рівень системи внутрішнього контролю Фонду за станом кредитних справ, що в свою чергу може призвести до неефективного використання фінансових ресурсі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утність надання кредитів на розвиток особистого сільськогосподарського господарства  викликає негативну оцінку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нання  регіональної Прогр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36" name=""/>
          <p:cNvGraphicFramePr/>
          <p:nvPr/>
        </p:nvGraphicFramePr>
        <p:xfrm>
          <a:off x="826920" y="2205000"/>
          <a:ext cx="7993080" cy="4383000"/>
        </p:xfrm>
        <a:graphic>
          <a:graphicData uri="http://schemas.openxmlformats.org/drawingml/2006/table">
            <a:tbl>
              <a:tblPr/>
              <a:tblGrid>
                <a:gridCol w="1705320"/>
                <a:gridCol w="1392120"/>
                <a:gridCol w="1135080"/>
                <a:gridCol w="944640"/>
                <a:gridCol w="1376280"/>
                <a:gridCol w="1439640"/>
              </a:tblGrid>
              <a:tr h="8780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 ризи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 заходу контро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 виконавц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і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нанн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х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ивн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ходів контро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чікувані результати від упровадження заходів контролю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ходи моніторингу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ан упровадження результаті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 gridSpan="6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 функції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160">
                <a:tc gridSpan="6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 операційної цілі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 ризику (ризиків)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1480" rIns="51480" tIns="0" bIns="0" anchor="t">
                      <a:noAutofit/>
                    </a:bodyPr>
                    <a:p>
                      <a:pPr algn="just">
                        <a:lnSpc>
                          <a:spcPct val="7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just">
                        <a:lnSpc>
                          <a:spcPct val="7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 gridSpan="6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ізація бухгалтерського облі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2680">
                <a:tc>
                  <a:txBody>
                    <a:bodyPr lIns="51480" rIns="51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належна організація бухгалтерського облі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своєчасне прийняття до обліку первинних документ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вірка стану бухгалтерського облі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контроль головного бухгалте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нутрішня перевірочна комісі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вічі на рік станом на 1 липня та 1 січн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меншення ризику викривлення інформації про реальне фінансове становище частини (фінансову звітність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із результатів здачі квартальної та річної звітності до органів казначейства та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щестоящог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фінансового орга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37" name="Rectangle 1"/>
          <p:cNvSpPr/>
          <p:nvPr/>
        </p:nvSpPr>
        <p:spPr>
          <a:xfrm>
            <a:off x="974880" y="76320"/>
            <a:ext cx="738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030a0"/>
                </a:solidFill>
                <a:latin typeface="Calibri Light"/>
              </a:rPr>
              <a:t>Практична частина семінару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даток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 Інструкції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ЛАН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з реалізації заходів контролю та моніторингу впровадження їх результаті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20___ рі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38" name=""/>
          <p:cNvGraphicFramePr/>
          <p:nvPr/>
        </p:nvGraphicFramePr>
        <p:xfrm>
          <a:off x="474840" y="260280"/>
          <a:ext cx="8418240" cy="6415200"/>
        </p:xfrm>
        <a:graphic>
          <a:graphicData uri="http://schemas.openxmlformats.org/drawingml/2006/table">
            <a:tbl>
              <a:tblPr/>
              <a:tblGrid>
                <a:gridCol w="1072800"/>
                <a:gridCol w="2303640"/>
                <a:gridCol w="1152360"/>
                <a:gridCol w="1152720"/>
                <a:gridCol w="1295280"/>
                <a:gridCol w="1441440"/>
              </a:tblGrid>
              <a:tr h="245160">
                <a:tc gridSpan="6">
                  <a:txBody>
                    <a:bodyPr lIns="30600" rIns="30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конне та ефективне використ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н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кошт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500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значення у кошторисах завищених обсягів видатків бюджет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ахування об’єктивної потреби в коштах кожної установи, виходячи з її основних виробничих показників і контингентів, які встановлені, обсягу виконуваної роботи, штатної чисельності, необхідності погашення дебіторської і кредиторської заборгованості та реалізації окремих програм і намічених заходів щодо скорочення витрат у плановому період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ик фінансово-економічної служби, головний бухгалте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 особи Департамент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ід час визначення обсягів видатків бюджету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наступний бюджетний р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никнення ризику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додержання режиму економії та не допущення включення до кошторисів бюджетних асигнувань, не зумовлених потребою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Щомісячний аналіз кошторисних призначень та фактичн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х витрат, не підтверджених розрахунками та економічними обгрунтування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кладання договорів та угод на поставку майна та отримання послуг без обґрунтувань та відповідних розрахунк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переднє письмове погодження проектів майбутніх господарських угод (договорів) з начальником фінансової служб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рівник, начальник фінансово-економічної служби, головний бухгалтер, юри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тійно перед підписанням договорів та угод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никнення ризику нецільового використання кошті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Щомісячний аналіз кошторисних призначень та фактично підписаних договорі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724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дбання зайвих та непотрібних матеріальних ціннос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ладання начальник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м фінансово-економічної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служб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забезпечення розрахунків, які обґрунтовують показники видатків, що включаються до кошторисів, з детальними розрахунками до 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ик фінансово-економічної служб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ісля отримання від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щестоящого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інансового органу обсягів видатків на наступний бюджетний рік після внесення змін до кошторисі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никнення ризику неефективного використання кошті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ід час затвердження розрахунків, які обґрунтовують показники видатків, що включаються до кошторисів, аналізувати необхідність придбання матеріальних засобів, які включені до вказаних розрахункі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39" name=""/>
          <p:cNvGraphicFramePr/>
          <p:nvPr/>
        </p:nvGraphicFramePr>
        <p:xfrm>
          <a:off x="395280" y="0"/>
          <a:ext cx="8507520" cy="6615000"/>
        </p:xfrm>
        <a:graphic>
          <a:graphicData uri="http://schemas.openxmlformats.org/drawingml/2006/table">
            <a:tbl>
              <a:tblPr/>
              <a:tblGrid>
                <a:gridCol w="1090800"/>
                <a:gridCol w="564840"/>
                <a:gridCol w="1297080"/>
                <a:gridCol w="144360"/>
                <a:gridCol w="1008360"/>
                <a:gridCol w="142560"/>
                <a:gridCol w="1081080"/>
                <a:gridCol w="1295640"/>
                <a:gridCol w="1882800"/>
              </a:tblGrid>
              <a:tr h="2313000">
                <a:tc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кладання договорів та угод на поставку майна та отримання послуг за завищеними ці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вчення ринкової вартості ціни по регіону (при наявності отримати дані з офіційних Інтернет сайтів Міністерств та відомств про середні ціни на товари та послуги по регіону), отримання не менше трьох цінових пропозицій та визначення найвигіднішої цінової пропозиції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ндерний комітет, відповідальні за планування та виконання бюджетних прогр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д укладенням договор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никнення ризику неефективного використання кошті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д укладенням договору проаналізувати отримані цінові пропозиції на предмет наявності: інформації про регіональної ціни; неменше трьох цінових пропозицій; правильність визначення найвигіднішої пропозиції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120">
                <a:tc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дбання неякісних матеріальних засобів та отримання неякісних послу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вірка якості матеріальних засобів та послуг спеціалістами відповідних служб. Перевірка відповідності матеріальних засобів еталону товар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ий за прийм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д укладенням договору та під час отримання матеріальних засобів; під час отримання послу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меншення ризику неефективного використання кошті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Щомісячне отримання інформації від посадових осіб, отримувачів товарів і послуг про фактичну якість матеріальних засобів і послуг та прийняття відповідних рішен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 gridSpan="9">
                  <a:txBody>
                    <a:bodyPr lIns="7560" rIns="7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ізація та забезпечення проведення інвентаризації матеріальних цін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8200">
                <a:tc gridSpan="2"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якісне та формальне проведення інвентаризації матеріальних засобі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своєчасне проведенн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дотримання вимог нормативно-правових акті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ифметичні помил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вірка якості та фактичного (неформального) проведення інвентаризації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лова інвентаризаційної комісії,  інвентаризаційні коміс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Щоденно під час проведення інвентариза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меншення ризику викривлення інформації про фактичну наявність матеріальних засобів та про реальне фінансове становище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(фінансову звітність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Щоденний моніторинг інформації отриманої від голів інвентаризаційних комісій щодо стану проведення інвентаризації та прийняття відповідних рішен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0" name="PlaceHolder 1"/>
          <p:cNvSpPr>
            <a:spLocks noGrp="1"/>
          </p:cNvSpPr>
          <p:nvPr>
            <p:ph type="title"/>
          </p:nvPr>
        </p:nvSpPr>
        <p:spPr>
          <a:xfrm>
            <a:off x="755280" y="1988640"/>
            <a:ext cx="7777080" cy="20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uk-UA" sz="6000" spc="-1" strike="noStrike">
                <a:solidFill>
                  <a:srgbClr val="7030a0"/>
                </a:solidFill>
                <a:latin typeface="Arial Black"/>
                <a:ea typeface="Aharoni"/>
              </a:rPr>
              <a:t>ДЯКУЮ </a:t>
            </a:r>
            <a:br>
              <a:rPr sz="6000"/>
            </a:br>
            <a:r>
              <a:rPr b="1" lang="uk-UA" sz="6000" spc="-1" strike="noStrike">
                <a:solidFill>
                  <a:srgbClr val="7030a0"/>
                </a:solidFill>
                <a:latin typeface="Arial Black"/>
                <a:ea typeface="Aharoni"/>
              </a:rPr>
              <a:t>ЗА УЧАСТЬ!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5" name="PlaceHolder 1"/>
          <p:cNvSpPr>
            <a:spLocks noGrp="1"/>
          </p:cNvSpPr>
          <p:nvPr>
            <p:ph/>
          </p:nvPr>
        </p:nvSpPr>
        <p:spPr>
          <a:xfrm>
            <a:off x="178920" y="-360"/>
            <a:ext cx="8713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ішній контроль включає такі взаємопов'язані елементи, які стосуються всіх підрозділів, дій і процесів в установі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нутрішнє середовище (середовище контролю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управління ризика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аходи контролю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оніторинг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інформація та комунік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E869-B328-46A6-9FB9-1EAF8D3C6E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7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280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Перший елемент внутрішнього контролю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НУТРІШНЄ СЕРЕДОВИЩЕ – це існуючі в установі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роцес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перації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егламент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труктур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а розподіл повноважень щодо їх виконанн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равила та принципи управління людськими ресурсами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тощ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які спрямовані на забезпечення реалізації законодавчо закріплених за установою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ій та завдан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 метою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осягнення визначеної мети та ці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EE84-A810-4B11-838F-1F041A9141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9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856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Перший елемент внутрішнього контролю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ішнє середовище містить такі аспек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а і професійна чесність, етичні цінності керівництва усіх рівнів та працівникі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uk-UA" sz="2400" spc="-1" strike="noStrike">
                <a:solidFill>
                  <a:srgbClr val="7030a0"/>
                </a:solidFill>
                <a:latin typeface="Times New Roman"/>
              </a:rPr>
              <a:t>Документ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правила етичної поведінки (кодекси етик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     </a:t>
            </a: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- правила внутрішнього службового розпорядк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     </a:t>
            </a: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- антикорупційна прогр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1865-1F33-4D80-B9B1-DD6E3F30C267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1" name="Прямоугольник 2"/>
          <p:cNvSpPr/>
          <p:nvPr/>
        </p:nvSpPr>
        <p:spPr>
          <a:xfrm>
            <a:off x="357120" y="285840"/>
            <a:ext cx="8572680" cy="62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Перший елемент внутрішнього контролю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ішнє середовище містить такі аспек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ізаційна структур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Times New Roman"/>
              </a:rPr>
              <a:t>Докумен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організаційна структура, штатний розпис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положення про структурні підрозділи та посадові інструкції працівникі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розподіл обов’язків між керівником та його заступникам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перелік усіх функцій ї їх відповідальних виконавців та співвиконавців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здійснення процесів та операцій у відповідній сфері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інструкція з діловодства, система контролю за виконанням документів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правила внутрішнього трудового розпорядк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9241-889A-4593-B8FE-46B2864BB8E0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3" name="Прямоугольник 2"/>
          <p:cNvSpPr/>
          <p:nvPr/>
        </p:nvSpPr>
        <p:spPr>
          <a:xfrm>
            <a:off x="428760" y="415800"/>
            <a:ext cx="857232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Перший елемент внутрішнього контролю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ішнє середовище містить такі аспек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і правила управління людськими ресурсами та компетентністю персонал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Times New Roman"/>
              </a:rPr>
              <a:t>Докумен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інструкції з кадрових питан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плани проведення навчань і підвищення кваліфікації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накази про проведення щорічних оціно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C54A-FAFD-4546-9CA5-82B5C190A4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5" name="PlaceHolder 1"/>
          <p:cNvSpPr>
            <a:spLocks noGrp="1"/>
          </p:cNvSpPr>
          <p:nvPr>
            <p:ph/>
          </p:nvPr>
        </p:nvSpPr>
        <p:spPr>
          <a:xfrm>
            <a:off x="179280" y="2421000"/>
            <a:ext cx="8785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Управління ризиками передбачає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фікацію ризиків (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 видами та категоріями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цінку ризиків (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ймовірністю їх виникнення та впливом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изначення способів реагування на ризики (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уникнення, зменшення, розділення, прийняття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Документи, які визначають порядок документування системи управління ризи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6" name="PlaceHolder 2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Другий елемент внутрішнього контролю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Управління ризиками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– складова частина управління, виконання завдань і функцій, яка здійснюється керівниками всіх рівнів та працівни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862A-6ABD-41AD-807F-7958541113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856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ретій елемент внутрішнього контрол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Заходи контролю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сукупність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запроваджених в установі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управлінських дій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, які здійснюються керівництвом усіх рівнів та працівниками для впливу на ризики з метою досягнення мети та стратегічних ці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d3db7"/>
                </a:solidFill>
                <a:latin typeface="Times New Roman"/>
              </a:rPr>
              <a:t>Заходи контролю здійснюють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d3db7"/>
                </a:solidFill>
                <a:latin typeface="Times New Roman"/>
              </a:rPr>
              <a:t>на всіх рівнях діяльност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d3db7"/>
                </a:solidFill>
                <a:latin typeface="Times New Roman"/>
              </a:rPr>
              <a:t>щодо усіх функцій і завда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d3db7"/>
                </a:solidFill>
                <a:latin typeface="Times New Roman"/>
              </a:rPr>
              <a:t>та включають відповідні правила і процеду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30T12:35:35Z</dcterms:created>
  <dc:creator>Користувач Windows</dc:creator>
  <dc:description/>
  <dc:language>en-US</dc:language>
  <cp:lastModifiedBy>УВАЛО9</cp:lastModifiedBy>
  <dcterms:modified xsi:type="dcterms:W3CDTF">2019-05-17T07:06:08Z</dcterms:modified>
  <cp:revision>520</cp:revision>
  <dc:subject/>
  <dc:title>ЗМІНИ ДО БЮДЖЕТНОГО КОДЕКСУ УКРАЇНИ (щодо реформи міжбюджетних відносин)</dc:title>
</cp:coreProperties>
</file>